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26E-35AC-4532-91E9-D247C7F1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A8CF-A3A7-429B-B1B9-A4C8E0BB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505-DB3C-47A9-BAFB-ADC6583E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8BF-37DD-4A11-A919-74781EAB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5C33-B7E1-428E-B737-62ADDDDA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0CAE-F123-4D9F-84BA-B6A42A3F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238C-D9CE-43F2-8CD9-0FA17A07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AB13-164B-41D6-902A-ED08977D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2439-1AFA-4C89-8146-8BB6E3F9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D783-7FEC-4B18-9E0B-4092DEF9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AE13-EF4A-4332-AA0D-1BB016AF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E8E8-13A4-43A0-ACF2-0C7B5F13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D07A-C886-43B8-A9FF-50F5D675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1C4C-F620-4FF2-BF2C-D3183C1B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21A3-A095-461B-9ABA-C6CDDAA2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FF09-7D84-4490-9454-3E1AC54B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03DA-5AF2-4C5F-B073-CEA3260E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27E-8D23-48AB-94D3-8BFB3590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434-CB98-4E63-AFF8-91BBA70E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531-3374-49DF-AE90-3371BC07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EFB2-C510-43B8-8219-1110B0BD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5C03-1E80-4FC3-BA3D-0B0EA91F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5D25-557E-4BE0-99DF-10E66DA9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36E5-05F7-4569-A0C7-DFB24606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9A5F-0604-4864-8100-EF26B919A7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A5DE-B191-44D0-84BA-35EAD7524E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Arial"/>
              </a:rPr>
              <a:t>IQ753 Diseño de Reactores Químico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66"/>
                </a:solidFill>
                <a:latin typeface="Arial"/>
              </a:rPr>
              <a:t>Clase 3: Modelación de Sistemas de Reactores en Seri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Caso 2: Dos PFR en ser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21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3366"/>
                </a:solidFill>
                <a:uFillTx/>
                <a:latin typeface="Arial"/>
              </a:rPr>
              <a:t>Resultados: (ver archivo PFR.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050920" y="3213000"/>
                <a:ext cx="453708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num>
                              <m:den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tro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num>
                              <m:den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tro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Caso 3a: Un reactor PFR y un CST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2924280"/>
            <a:ext cx="2087640" cy="576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64000" y="4437000"/>
            <a:ext cx="1224000" cy="1224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3141720"/>
            <a:ext cx="1152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40360" y="3141720"/>
            <a:ext cx="1584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24360" y="3141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32720" y="5445000"/>
            <a:ext cx="1584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012000" y="3500280"/>
            <a:ext cx="792000" cy="1729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80000" y="5013360"/>
            <a:ext cx="432000" cy="28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5084640"/>
            <a:ext cx="431640" cy="287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33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Fao, Xi=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242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Fa1, X1=0.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4581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Fa2, X2=0.8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3716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V1, Ca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35640" y="57340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V2, Ca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Caso 3a: Un reactor PFR y un CST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4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3366"/>
                </a:solidFill>
                <a:uFillTx/>
                <a:latin typeface="Arial"/>
              </a:rPr>
              <a:t>Resultados: (ver archivo PFRyCSTR.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19280" y="3141720"/>
                <a:ext cx="5904000" cy="19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num>
                              <m:den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tro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∗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8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tro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Tarea 2</a:t>
            </a: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Realizar el caso 3.b : Un CSTR y un PFR en ser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nalizar la forma de ajustar la cinética. Proponer algún otro tipo de ajuste y analizar la solución de las integrales definid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Discusión de los resultad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echa de entrega: Jueves 6 de Abril en clase auxili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Arial"/>
              </a:rPr>
              <a:t>FI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66"/>
                </a:solidFill>
                <a:latin typeface="Arial"/>
              </a:rPr>
              <a:t>Gracias por su atenció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Ejemplo de model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3366"/>
                </a:solidFill>
                <a:uFillTx/>
                <a:latin typeface="Arial"/>
              </a:rPr>
              <a:t>Problem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n un sistema cerrado se tiene la siguiente descomposición en fase gaseosa isotérmic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a reacción ocurre a 149ºC y a una presión total de 10 atm, y con una carga inicial de 50% de A y 50% de inertes. El flujo es de 6 lt/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348000" y="3933720"/>
                <a:ext cx="22320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↔</m:t>
                    </m:r>
                    <m:r>
                      <m:t xml:space="preserve">3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Ejemplo de Model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l estudio cinético de la reacción es entregada por la siguiente tabl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Ejemplo de Model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362320"/>
          <a:ext cx="7693200" cy="404640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 (conversión de A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Ra (mol/lt*s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5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5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5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4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3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2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1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12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Ejemplo de model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l problema será analizado en diferentes configuracion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Dos reactores CSTR en ser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Dos reactores PFR en ser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Un reactor CSTR y un reactor PFR en serie (depende de la ubicación de cada uno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Ejemplo de model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813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urva cinética del sist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4753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Caso 1: Dos CSTR en ser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3357720"/>
            <a:ext cx="1224000" cy="1150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4437000"/>
            <a:ext cx="1224000" cy="1150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058920" y="2637000"/>
            <a:ext cx="936360" cy="1368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866920" y="3645000"/>
            <a:ext cx="792360" cy="1296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3860640"/>
            <a:ext cx="36036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3933720"/>
            <a:ext cx="36036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869000"/>
            <a:ext cx="360360" cy="215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4869000"/>
            <a:ext cx="360360" cy="215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2781360"/>
            <a:ext cx="165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2781360"/>
            <a:ext cx="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4076640"/>
            <a:ext cx="1871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35640" y="4076640"/>
            <a:ext cx="0" cy="504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373720"/>
            <a:ext cx="1584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306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Fao, Xi=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3213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Fa1, X1=0.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04000" y="4581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Fa2, X2=0.8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0" y="4724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V1, Ca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92720" y="57340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V2, Ca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Caso 1: Dos CSTR en ser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4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3366"/>
                </a:solidFill>
                <a:uFillTx/>
                <a:latin typeface="Arial"/>
              </a:rPr>
              <a:t>Resultados: (ver archivo CSTR.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403280" y="3429000"/>
                <a:ext cx="676908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tro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∗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8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tro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Caso 2: Dos PFR en ser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3500280"/>
            <a:ext cx="194472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64000" y="4221000"/>
            <a:ext cx="194472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3716280"/>
            <a:ext cx="8654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371628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3280" y="3716280"/>
            <a:ext cx="0" cy="79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4508640"/>
            <a:ext cx="6494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80360" y="443700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306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Fao, Xi=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7280" y="2924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Fa1, X1=0.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24720" y="3573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Fa2, X2=0.8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24000" y="4292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V1, Ca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5013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V2, Ca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2:00:09Z</dcterms:created>
  <dc:creator>Andrés Roque Vargas</dc:creator>
  <dc:description/>
  <dc:language>en-US</dc:language>
  <cp:lastModifiedBy>Andrés Roque Vargas</cp:lastModifiedBy>
  <dcterms:modified xsi:type="dcterms:W3CDTF">2006-03-30T03:53:46Z</dcterms:modified>
  <cp:revision>9</cp:revision>
  <dc:subject/>
  <dc:title>IQ753 Diseño de Reactores Químicos</dc:title>
</cp:coreProperties>
</file>