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8627DF-D066-4215-A69F-3150ED1B0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2606B3-6D48-4F2B-BE7A-A1B743D1C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23A60C-2E74-4D7A-AB18-40C5C3757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848E1C-C87A-4FC3-9FB7-5234AEB79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09722B-D8EA-4340-A39D-AC2EABE10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614EF4-CF5F-4728-9768-3933089AD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6049FF-7651-45C7-89A3-ABB92D99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D7C333-D9E4-4391-BB34-8FD80989B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EBB20B-6DA4-468F-888A-857B782D8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FF3796-97C7-4B10-AACF-2AF951FE3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5F4021-A2E1-4DB7-968F-7802FB1C2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3EBA7F-6F85-4B17-A43F-243FDC4BF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39640" y="6244920"/>
            <a:ext cx="806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" name=""/>
          <p:cNvGraphicFramePr/>
          <p:nvPr/>
        </p:nvGraphicFramePr>
        <p:xfrm>
          <a:off x="8229600" y="5943600"/>
          <a:ext cx="914400" cy="914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229600" y="5943600"/>
                    <a:ext cx="9144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3ED3F-9367-439E-8D62-485C78EB8D6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hyperlink" Target="http://www.wharton.upenn.edu/research/webi.html" TargetMode="External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Verdana"/>
              </a:rPr>
              <a:t>Del Modelo de Negocios al Plan de Negocio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Contenido del Plan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UMEN EJECUTIV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 INDUSTRIA Y LA EMPRESA, SUS PRODUCTOS Y EL ENTORN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ÁLISIS E INVESTIGACIÓN DE MERCA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PECTOS ECONÓMICOS DEL NEGOCI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AN DE MARKE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AN DE VENT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AN DE DISEÑO Y IMPLEMENTA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AN DE OPERA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QUIPO DE GEST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GRAMACIÓN GLOB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ESGOS CRÍTICOS, PROBLEMAS Y SUPUES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AN FINANCIER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PUES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EXO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  <a:ea typeface="Arial"/>
              </a:rPr>
              <a:t>Resumen Ejecutiv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Descripción del concepto de negocio y los negocios de la empres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a oportunidad y la estrategia de negoci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El mercado objetivo y proyeccio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as ventajas competitiv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spectos económic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El equip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a propues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  <a:ea typeface="Arial"/>
              </a:rPr>
              <a:t>La Industria, la Empresa, sus Productos y el Entorn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a industr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a empresa y su concep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roductos y Servi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strategias de penetración y crecimiento de mercado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Análisis e Investigación de Mercad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lient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Tamaño y tendencias de merca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ompetencia y competitivi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orción de mercado y vent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valuación de la estrategia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Aspectos Económicos del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Ingresos y márgenes operaciona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Utilidades y horizonte del produc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ostos fijos y variab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Indicadores de puntos de quiebre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de Marketi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strategia global de market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reci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Tácticas de ven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olíticas de servicios y garantí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romoción y Publici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Distribución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de Vent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uánto vamos a vend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uándo vamos a vend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ómo vamos a vender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Dónde vamos a vender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Quién va a vender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de Diseño e Implantación del produc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Hitos y tare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Riesgos y dificultad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ejoras de producto y nuevos product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Cost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spectos lega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de Oper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iclo de oper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ocaliz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Infraestructura e optimizacio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lanes y estrategi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Aspectos legales y regulatorios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quipo de Gest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Organiza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Personal clav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Compensac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Otros invers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Gratificac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Directorio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Otros shareholders, derechos y restricc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Consultores y otros servicios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¿Qué es el modelo de negocios 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Un modelo de negocios es la arquitectura de la configuración de componentes de las transacciones diseñadas para explotar oportunidades de negocios (*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e hace cargo de la oportunid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Indica como y porqué las transacciones (y los beneficios) ocurrirá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escribe la interacción de la organización con otras entidades del merca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*)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Raffi Amit, co-director of the Wharton</a:t>
            </a:r>
            <a:r>
              <a:rPr b="0" lang="es-ES" sz="18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-Business Initiative (WeBI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ogramación Glob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xplicitar como se programarán las actividades asociadas al los programas de inversión y de operacio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Financier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stados Resultados y Balances actua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stados Resultados Proform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Balance Proform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Flujo de Tesorería Proform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Análisis de puntos de quieb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ontrol de Costo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Hechos esenciales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opuesta para financiamien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Financiamiento desea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Ofer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Capitaliz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Uso de los fond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Retorno para los inversionist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Riesgos, problemas y supuestos crític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Identificar los riesgos, problemas y otras contingencias que puedan ocurrir y como administrarlos (que hacer para mitigar esos riesgos antes que se produzcan o cuando se produzcan- planificación por contingencia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¿Qué es el modelo de negocios?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con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 la estrategia central de una organización que define su lugar en el merca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Describe la oportunidad y como la organización generará los benefi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Responde a los “porqué” la organización exis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3041640" y="2971800"/>
            <a:ext cx="213372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46360" y="2438280"/>
            <a:ext cx="1600200" cy="838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822320" y="4343040"/>
            <a:ext cx="1524240" cy="7621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4946760" y="2819520"/>
            <a:ext cx="121896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5022360" y="4191120"/>
            <a:ext cx="129564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89120" y="335268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327360" y="2489040"/>
            <a:ext cx="160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329880" y="457200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39200" y="1701720"/>
            <a:ext cx="209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LOCALIZ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7240" y="5003640"/>
            <a:ext cx="182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MO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2895480"/>
            <a:ext cx="213372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2362320"/>
            <a:ext cx="1600200" cy="83808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609480" y="4266720"/>
            <a:ext cx="1524240" cy="7621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3733920" y="2743200"/>
            <a:ext cx="121896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3809520" y="4114800"/>
            <a:ext cx="129564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76280" y="327672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49720" y="2362320"/>
            <a:ext cx="1741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cc"/>
                </a:solidFill>
                <a:latin typeface="Verdana"/>
              </a:rPr>
              <a:t>PRODUC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117040" y="449568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9200" y="1701720"/>
            <a:ext cx="209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la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LOCALIZ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7240" y="5003640"/>
            <a:ext cx="182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MO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2590920"/>
            <a:ext cx="53352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356960" y="239400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roc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784872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457400" y="182880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tecn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5715000" y="20574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38480" y="16765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lternativos/sustitu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7848720" y="213372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506720" y="3124080"/>
            <a:ext cx="7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04600" y="380988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5715000" y="41148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24280" y="31240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mpeti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5715000" y="34290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571500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5715000" y="4800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88840" y="510552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irecto (pag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715000" y="541008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226760" y="5791320"/>
            <a:ext cx="374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indirecto (recibe los benefici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43400" y="25909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324240" y="24382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Otra visión de un 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33520" y="1509840"/>
          <a:ext cx="7772400" cy="4579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509840"/>
                    <a:ext cx="7772400" cy="457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560" y="837720"/>
            <a:ext cx="830556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 modelo de negocios tiene una visión económica y técnica del negoci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914400" y="1752480"/>
          <a:ext cx="7176960" cy="4267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1752480"/>
                    <a:ext cx="71769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0000"/>
                </a:solidFill>
                <a:latin typeface="Verdana"/>
              </a:rPr>
              <a:t>Definiendo una estrategi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31760" y="1905120"/>
            <a:ext cx="6120000" cy="3306600"/>
            <a:chOff x="1031760" y="1905120"/>
            <a:chExt cx="6120000" cy="3306600"/>
          </a:xfrm>
        </p:grpSpPr>
        <p:sp>
          <p:nvSpPr>
            <p:cNvPr id="147" name=""/>
            <p:cNvSpPr/>
            <p:nvPr/>
          </p:nvSpPr>
          <p:spPr>
            <a:xfrm>
              <a:off x="1031760" y="5207040"/>
              <a:ext cx="6120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31760" y="3124080"/>
              <a:ext cx="6120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031760" y="4165560"/>
              <a:ext cx="6120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626200" y="1917720"/>
              <a:ext cx="4179600" cy="32940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cc99ff"/>
                </a:gs>
                <a:gs pos="100000">
                  <a:srgbClr val="fefefe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usines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cess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282840" y="1905120"/>
              <a:ext cx="2860560" cy="22557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a3b2c1"/>
                </a:gs>
                <a:gs pos="100000">
                  <a:srgbClr val="dfe4e9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Busines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939120" y="1905120"/>
              <a:ext cx="1547640" cy="12189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cc99"/>
                </a:gs>
                <a:gs pos="100000">
                  <a:srgbClr val="feecdb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rateg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255680" y="2514600"/>
              <a:ext cx="159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lanning lev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12920" y="3352680"/>
              <a:ext cx="1553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rchitectural lev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249200" y="4267080"/>
              <a:ext cx="173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mplement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v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312920" y="2311560"/>
              <a:ext cx="0" cy="289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¿Que es el Plan de Negocios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 la definición detallada de cómo el Modelo de Negocios se llevara a cabo de acuerdo a una estrategia en un determinado horizon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1T14:44:41Z</dcterms:created>
  <dc:creator> </dc:creator>
  <dc:description/>
  <dc:language>en-US</dc:language>
  <cp:lastModifiedBy> </cp:lastModifiedBy>
  <dcterms:modified xsi:type="dcterms:W3CDTF">2006-03-16T18:18:01Z</dcterms:modified>
  <cp:revision>17</cp:revision>
  <dc:subject/>
  <dc:title>Modelo de Negocios</dc:title>
</cp:coreProperties>
</file>