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375C1-02B5-4D7D-881F-E6FFC5A0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E2959-D38A-4EAA-8F02-C232A074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D7741-0EFF-4F9A-ACF3-A0FF9827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2C599-FB5A-4D19-B464-C01C9D78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62D5D-5B2D-474B-87D3-2987FCC7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F315B-2484-49C4-ADEA-8D6DCEB6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DBE58-A392-4514-AB25-F43344A6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EC594-49F9-44CB-8B6E-097147EF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FA1F6-FFAB-4461-8EB5-74985D23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38714-A5B6-4C90-90C9-98F3B022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036D3-0091-4F5F-9221-37D7E45C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ACE42-84B5-4D32-88CC-1FF68490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8229600" y="5943600"/>
          <a:ext cx="91440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29600" y="5943600"/>
                    <a:ext cx="91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F998-66BD-4BF1-9D7B-A9716B4A41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wharton.upenn.edu/research/webi.html" TargetMode="External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INDUSTRIA Y LA EMPRESA, SUS PRODUCTOS Y EL ENTOR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 algn="just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51"/>
              </a:spcBef>
              <a:buSzPct val="111361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l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y Balances actu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ados Resultados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lujo de Tesorería Profor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nálisis de puntos de quieb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31760" y="1905120"/>
            <a:ext cx="6120000" cy="3306600"/>
            <a:chOff x="1031760" y="1905120"/>
            <a:chExt cx="6120000" cy="3306600"/>
          </a:xfrm>
        </p:grpSpPr>
        <p:sp>
          <p:nvSpPr>
            <p:cNvPr id="147" name=""/>
            <p:cNvSpPr/>
            <p:nvPr/>
          </p:nvSpPr>
          <p:spPr>
            <a:xfrm>
              <a:off x="1031760" y="520704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1760" y="312408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31760" y="4165560"/>
              <a:ext cx="61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26200" y="1917720"/>
              <a:ext cx="4179600" cy="3294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efefe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82840" y="1905120"/>
              <a:ext cx="2860560" cy="2255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dfe4e9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39120" y="1905120"/>
              <a:ext cx="1547640" cy="1218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eecdb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55680" y="251460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12920" y="3352680"/>
              <a:ext cx="155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49200" y="426708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12920" y="2311560"/>
              <a:ext cx="0" cy="28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tonio Holgado                             Depto. de Ingeniería Industrial                         U. de Chil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 </dc:creator>
  <dc:description/>
  <dc:language>en-US</dc:language>
  <cp:lastModifiedBy> </cp:lastModifiedBy>
  <dcterms:modified xsi:type="dcterms:W3CDTF">2006-03-16T18:18:01Z</dcterms:modified>
  <cp:revision>17</cp:revision>
  <dc:subject/>
  <dc:title>Modelo de Negocios</dc:title>
</cp:coreProperties>
</file>