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CE71-0298-4A3E-9688-0838DB60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A554E-C2B0-4ECD-B78B-2D2CBF73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EEF69-6E62-49C5-BA31-98F5603D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C4E9C-28A7-4A98-8DDB-3B24D2D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A6DA5-6864-4952-9DB8-D732C512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6B9B1-7B0C-4392-B170-701F2C5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DC170-8BBF-43FE-8334-38D23A8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DC703-5D87-4C6B-B8A4-6D8E992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8D493-61D7-4CFD-9CC3-C5BC6A4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98DA-69F0-4B07-B479-83D94F82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22D27-3981-41C9-8536-62B1727B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29F38-4900-4C73-BE96-538853BE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46C2-9B81-4573-82E1-D6F4BDA443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7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6-03-16T18:18:01Z</dcterms:modified>
  <cp:revision>17</cp:revision>
  <dc:subject/>
  <dc:title>Modelo de Negocios</dc:title>
</cp:coreProperties>
</file>