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51C16-3810-411F-A2DA-0FA3CF3D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E90B4-FB0E-4157-9777-D46A5109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CE857-F552-46A0-9B1D-996DD96F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215BF-DA2D-452C-990A-8D4CBF0E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DAF98-69BA-4CFD-A8E9-297083F2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A47B4-6D5E-404F-9F3E-33B40143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36D7B-6926-4155-B762-C5613C4A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056CD-C4E8-41DB-87AA-59EE73A1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DA757-9BE3-43FF-8E31-81ED2B78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065B4-15CC-4032-81C0-34A6BC52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72F57-9518-4924-B7FA-179F9017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A4928-EF63-46DC-B135-95B0E4C4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6D8A-39FB-4494-A7D1-4484609187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l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47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 </cp:lastModifiedBy>
  <dcterms:modified xsi:type="dcterms:W3CDTF">2006-03-16T18:18:01Z</dcterms:modified>
  <cp:revision>17</cp:revision>
  <dc:subject/>
  <dc:title>Modelo de Negocios</dc:title>
</cp:coreProperties>
</file>