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EAD5-F2E9-4D1E-AE90-3F6DE4D55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25CC-7456-4EFC-9CEB-F383443A5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C9B8-3694-46FF-B03F-131C3BBDC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C576-978D-4252-89BD-36A33ECF3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519120"/>
            <a:ext cx="8001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B143-890A-4721-BDB7-76A776234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5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39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C411-46A4-42CA-BBB8-924EE7A80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83D6-A6CC-49CB-AEBD-7CE9AB617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EAEA-7C80-49BD-8CD4-7F67C7EF0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519120"/>
            <a:ext cx="8001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C1A9-E4B3-4B0E-B949-0AD669987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883C-890D-460B-A765-F08970A17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FDC3-9A40-42B3-849C-AC0519F4F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2DC7-3EFF-43EA-9674-2209632A9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04 South-Western. All rights reserved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0958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–</a:t>
            </a:r>
            <a:fld id="{4F01E500-F0F0-4F98-A6C3-A8081EC76E5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38680" y="1447920"/>
            <a:ext cx="3276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5486400" y="599436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Copyright © 2004 South-Western</a:t>
            </a:r>
            <a:br>
              <a:rPr sz="1000"/>
            </a:b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19840" y="5410080"/>
            <a:ext cx="198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Tahoma"/>
              </a:rPr>
              <a:t>PowerPoint slides b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Tahoma"/>
              </a:rPr>
              <a:t>R. Dennis Middlemist</a:t>
            </a:r>
            <a:br>
              <a:rPr sz="1000"/>
            </a:br>
            <a:r>
              <a:rPr b="1" lang="en-US" sz="1000" spc="-1" strike="noStrike">
                <a:solidFill>
                  <a:srgbClr val="006699"/>
                </a:solidFill>
                <a:latin typeface="Tahoma"/>
              </a:rPr>
              <a:t>Colorado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0"/>
            <a:ext cx="92160" cy="685800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7398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428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38680" y="1447920"/>
            <a:ext cx="32767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Chapter 3</a:t>
            </a:r>
            <a:endParaRPr b="1" lang="en-US" sz="2800" spc="-1" strike="noStrike">
              <a:solidFill>
                <a:srgbClr val="0099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15000" y="2104560"/>
            <a:ext cx="3200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ternal Environment: Resources, Capabiliti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Valu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exploiting their core competencies or competitive advantages, firms create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is measured 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performance characteristic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oduct’s attributes for which customers are willing to pa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s create value by innovatively bundling and leveraging their resources and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5AD0-5AEF-417B-969E-43E81C1373C4}" type="slidenum">
              <a:t>10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, in combination with product-market positions, are the firm’s most important sources of competitive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 of a firm, in addition to its analysis of its general, industry, and competitor environments, should drive its selection of strate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4DD5-CC5D-432A-85DF-D900AAA965E4}" type="slidenum">
              <a:t>11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hallenge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decisions in terms of the firm’s resources, capabilities, and 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non-routin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ave ethical implic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gnificantly influence the firm’s ability to earn above-average retur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523B-CF9E-4A41-96B1-337870E4F20B}" type="slidenum">
              <a:t>12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hallenge of Internal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velop and use core competencies, managers must h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ur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f-confid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egr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capacity to deal with uncertainty and complex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willingness to hold people (and themselves) accountable for their work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C527-21B0-46E9-958C-DD80B719E0C0}" type="slidenum">
              <a:t>13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37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ditions Affecting Managerial Decisions about 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520" y="14785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60134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Adapted from R. Amit &amp; P. J. H. Schoemaker, 1993, Strategic assets and organizational rent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Management Journal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: 3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8200" y="1833480"/>
            <a:ext cx="179712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71600" y="2090880"/>
            <a:ext cx="1005120" cy="27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33880" y="1844640"/>
            <a:ext cx="5381640" cy="143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38200" y="3224160"/>
            <a:ext cx="1785960" cy="801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71600" y="3481560"/>
            <a:ext cx="1005120" cy="27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22720" y="3341520"/>
            <a:ext cx="5370480" cy="1241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38200" y="4594320"/>
            <a:ext cx="1785960" cy="7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2281320" y="4849920"/>
            <a:ext cx="995400" cy="27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3222720" y="4700520"/>
            <a:ext cx="5370480" cy="12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0A5F-D9D2-4550-B334-7C2528454F0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the source of a firm’s capabil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broad in scop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ver a spectrum of individual, social and organizational phenomen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one, do not yield a competitive advant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6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6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6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F778-0DC2-440B-8B76-1386FDFF261E}" type="slidenum">
              <a:t>15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38120" y="1371240"/>
            <a:ext cx="44960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a firm’s assets, including people and the value of its brand nam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present inputs into a firm’s production process, such a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d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7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7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7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1165-F6CB-4BE9-BA1A-0BB8CD9F34D6}" type="slidenum">
              <a:t>16</a:t>
            </a:fld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4496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angible resourc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angible resourc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tatio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8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8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8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7EA2-0763-45E4-9F91-736F99F2F299}" type="slidenum">
              <a:t>17</a:t>
            </a:fld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angible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00200"/>
            <a:ext cx="7696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borrowing capac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ability to generate inter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formal reporting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ts formal planning, controlling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ordinating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phistication and location of a firm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 and equip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o raw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c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 of technology, such as patent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-marks, copyrights, and tra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729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Adapted from J. B. Barney, 1991, Firm resources and sustained competitive advantage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7: 101; R. M. Grant, 199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ntemporary Strategy Analysi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mbridge, U.K.: Blackwell Business, 100–10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80C5-BE0D-422F-8C4E-CB2A4AA747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angible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58920"/>
            <a:ext cx="7925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ial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rout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ovation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capabiliti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to inno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 with custom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 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ptions of product quality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ty, and reliabi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 with suppli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fficient, effective, supportive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ually beneficial interaction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7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Adapted from R. Hall, 1992, The strategic analysis of intangible resourc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Management Journal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: 136–139; R. M. Grant, 199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ntemporary Strategy Analysi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mbridge, U.K.: Blackwell Business, 101–1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ABFE-C1BA-4797-AAB3-E3EE06BF8143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Knowledge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Explain the need for firms to study and understand their internal environment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value and discuss its importanc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scribe the differences between tangible and intangible resourc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capabilities and discuss how they are develope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scribe four criteria used to determine whether resources and capabilities are core competenci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04F1-9CC6-4A71-84A0-02C2232F485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e the firm’s capacity to deploy resources that have been purposely integrated to achieve a desired end stat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merge over time through complex interactions among tangible and intangible resour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ften are based on developing, carrying and exchanging information and knowledge through the firm’s human capit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35160" y="3965400"/>
            <a:ext cx="1860480" cy="108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04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05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06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F94F-C5E5-45B5-A7E3-D2721B383DF6}" type="slidenum">
              <a:t>20</a:t>
            </a:fld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464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foundation of many capabilities lies i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que skills and knowledge of a firm’s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nctional expertise of those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apabilities are often developed in specific functional areas or as part of a functional are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35160" y="3965400"/>
            <a:ext cx="1860480" cy="108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14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15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16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7972-9BB7-47BA-B9EB-1E06350D8CC3}" type="slidenum">
              <a:t>21</a:t>
            </a:fld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501480"/>
            <a:ext cx="7696080" cy="5807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193840"/>
            <a:ext cx="205740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Examples of Firms’ Capabilitie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6064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D7F5-D572-4A9E-9355-044533C8A1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52680" y="1371600"/>
            <a:ext cx="51818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ources and capabilities that serve as a source of a firm’s competitive advantage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guish a company competitively and reflect its pers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 over time through an organizational process of accumulating and learning how to deploy different resources and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35160" y="2886120"/>
            <a:ext cx="186048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27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28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29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FAEF-6601-4C6C-AF8C-7B805FD94B62}" type="slidenum">
              <a:t>23</a:t>
            </a:fld>
          </a:p>
        </p:txBody>
      </p:sp>
    </p:spTree>
  </p:cSld>
  <p:transition>
    <p:dissolv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526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tivities that a firm performs especially well compared to competito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tivities through which the firm adds unique value to its goods or services over a long period of tim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35160" y="2886120"/>
            <a:ext cx="186048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37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38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39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B6CC-1955-4984-80DA-4447373CAF24}" type="slidenum">
              <a:t>24</a:t>
            </a:fld>
          </a:p>
        </p:txBody>
      </p:sp>
    </p:spTree>
  </p:cSld>
  <p:transition>
    <p:dissolv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14440" y="13716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Criteria of Sustainable Competitive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lua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a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stly to imita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onsubstitua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5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46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47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6F4C-0560-4734-9B1C-290B7D5E0134}" type="slidenum">
              <a:t>25</a:t>
            </a:fld>
          </a:p>
        </p:txBody>
      </p:sp>
    </p:spTree>
  </p:cSld>
  <p:transition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Four Criteria of Sustainable Competitive Advant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295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abl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a firm neutralize threats 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r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 possessed by many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ly-to-Imitat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unique and a valu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 or brand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guous cau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ause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f a competence are un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complex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pers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, trust, and friend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managers, suppliers,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substitutable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rategic 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8BCD-AF61-45F8-9076-4ECB7866C47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398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abl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elp a firm neutralize threats or exploit opportun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not possessed by many oth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56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57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58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4057-8BD8-4093-9BFA-AE6C810E3615}" type="slidenum">
              <a:t>27</a:t>
            </a:fld>
          </a:p>
        </p:txBody>
      </p:sp>
    </p:spTree>
  </p:cSld>
  <p:transition>
    <p:dissolv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19320" y="120816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06280" indent="-2062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ly-to-Imitat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istoric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unique and a valuable organizational culture or brand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mbiguous caus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uses and uses of a competence are uncl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 complex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ersonal relationships, trust, and friendship among managers, suppliers, and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65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66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E0A2-3173-42C3-A387-95F7D6989457}" type="slidenum">
              <a:t>28</a:t>
            </a:fld>
          </a:p>
        </p:txBody>
      </p: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3392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ubstitutabl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o strategic equivalen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72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73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74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06C6-1AA1-4964-BD1A-024C08BE3850}" type="slidenum">
              <a:t>29</a:t>
            </a:fld>
          </a:p>
        </p:txBody>
      </p:sp>
    </p:spTree>
  </p:cSld>
  <p:transition>
    <p:dissolv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Knowledge Objectiv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7040" y="2254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Explain how value chain analysis is used to identify and evaluate resources and capa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outsourcing and discuss the reasons for its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scuss the importance of preventing core competencies from becoming core rigid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2269-7204-4EC9-91B0-22A1DD88D59F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6400" y="4832280"/>
            <a:ext cx="8077320" cy="65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33520" y="13705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utcomes from Combinations of the Criteria for Sustainable Competitive Advant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57200" y="1984320"/>
            <a:ext cx="8156520" cy="1141560"/>
            <a:chOff x="457200" y="1984320"/>
            <a:chExt cx="8156520" cy="114156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6400" y="1984320"/>
              <a:ext cx="807732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57200" y="304812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" y="304812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3070080"/>
            <a:ext cx="8156520" cy="574920"/>
            <a:chOff x="457200" y="3070080"/>
            <a:chExt cx="8156520" cy="574920"/>
          </a:xfrm>
        </p:grpSpPr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536400" y="3070080"/>
              <a:ext cx="80773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" y="3608280"/>
            <a:ext cx="8156520" cy="584280"/>
            <a:chOff x="457200" y="3608280"/>
            <a:chExt cx="8156520" cy="584280"/>
          </a:xfrm>
        </p:grpSpPr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536400" y="3608280"/>
              <a:ext cx="80773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7200" y="411480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" y="41148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7200" y="4127400"/>
            <a:ext cx="8156520" cy="741600"/>
            <a:chOff x="457200" y="4127400"/>
            <a:chExt cx="8156520" cy="7416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536400" y="4127400"/>
              <a:ext cx="8077320" cy="7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57200" y="480060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48006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0F9BA-04A9-4D9F-88CF-E8A368D3A4B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s the firm to understand the parts of its operations that create value and those that do 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mplate that firms use t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derstand their cost pos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dentify multiple means that might be used to facilitate implementation of a chosen business-level strateg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DFAE-AA93-4B20-A8A0-93BCD26FEF81}" type="slidenum">
              <a:t>31</a:t>
            </a:fld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volved with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physical cre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sale and distribution to buy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oduct’s service after the sa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vide the support necessary for the primary activities to take pla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6906-B544-48FB-8579-6B021A4F1341}" type="slidenum">
              <a:t>32</a:t>
            </a:fld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7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7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hows how a product moves from raw-material stage to the final custom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 source of competitive advantage, a resource or capability must allow the fir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o perform an activity in a manner that is superior to the way competitors perform it, o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o perform a value-creating activity that competitors cannot comple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A191-C35E-423F-9386-A579FB7407CA}" type="slidenum">
              <a:t>33</a:t>
            </a:fld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9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4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718240" y="5708520"/>
            <a:ext cx="2367000" cy="61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Margin_Fig%203.4" descr=""/>
          <p:cNvPicPr/>
          <p:nvPr/>
        </p:nvPicPr>
        <p:blipFill>
          <a:blip r:embed="rId2"/>
          <a:stretch/>
        </p:blipFill>
        <p:spPr>
          <a:xfrm>
            <a:off x="3525840" y="434880"/>
            <a:ext cx="4573440" cy="5370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37144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Basic Value Cha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33520" y="1601280"/>
            <a:ext cx="274320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32880" y="525456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35040" y="46562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2880" y="405756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32160" y="34592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35760" y="28764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2947680" y="444996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3006360" y="394848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683160" y="406764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4872960" y="46962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3021120" y="2898720"/>
            <a:ext cx="509400" cy="28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1AA5-C921-4C4D-A647-515FE8BCC06D}" type="slidenum">
              <a:t>34</a:t>
            </a:fld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used to receive, store, and disseminate inputs to a product (materials handling, warehousing, inventory control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necessary to convert the inputs provided by inbound logistics into final product form (machining, packaging, assembly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involved with collecting, storing, and physically distributing the product to customers (finished goods warehousing, order processing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BFF0-CA93-4802-8B21-F562B7ECD610}" type="slidenum">
              <a:t>35</a:t>
            </a:fld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9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9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9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4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provide means through which customers can purchase products and to induce them to do so (advertising, promotion, distribution channels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designed to enhance or maintain a product’s value (repair, training, adjustment, etc.)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0"/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activity should be examined relative 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etitors’ abilities and rated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s superior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quivalent or infer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0BB0-4A57-42FB-BF92-987FD80165F1}" type="slidenum">
              <a:t>36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: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purchase the inputs needed to produce a firm’s products (raw materials and supplies, machines, laboratory equipment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improve a firm’s product and the processes used to manufacture it (process equipment, basic research, product design, etc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involved with recruiting, hiring, training, developing, and compensating all personn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967F-0EB0-4862-BA7A-89EFAF98AA71}" type="slidenum">
              <a:t>37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4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: Support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that support the work of the entire value chain (general management, planning, finance, accounting, legal, government relations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ly and consistently identify external opportunities and thre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resources and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core competenc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activity should be examined relativ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 competitors’ abilities and rated a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uperior, equivalent or infer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B16C-455C-49C4-9D82-6BCDD5E17654}" type="slidenum">
              <a:t>38</a:t>
            </a:fld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8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3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of a value-creating activity from an external suppl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ew organizations possess the resources and capabilities required to achieve competitive superiority in all primary and support activ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forming and emphasizing fewer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firm can concentrate on those areas in which it can create valu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ecialty suppliers can perform outsourced capabilities more efficientl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89DE-EA46-487E-885D-22072CADA59B}" type="slidenum">
              <a:t>39</a:t>
            </a:fld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3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8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2760" y="380880"/>
            <a:ext cx="8196120" cy="6232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560" y="6576840"/>
            <a:ext cx="39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04 South-Western. All rights reserved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9560" y="561960"/>
            <a:ext cx="4781880" cy="6039000"/>
            <a:chOff x="439560" y="561960"/>
            <a:chExt cx="4781880" cy="6039000"/>
          </a:xfrm>
        </p:grpSpPr>
        <p:sp>
          <p:nvSpPr>
            <p:cNvPr id="94" name=""/>
            <p:cNvSpPr/>
            <p:nvPr/>
          </p:nvSpPr>
          <p:spPr>
            <a:xfrm>
              <a:off x="838080" y="561960"/>
              <a:ext cx="1103400" cy="2068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9560" y="2639880"/>
              <a:ext cx="530280" cy="396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7160" y="6346800"/>
              <a:ext cx="4364280" cy="22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71600" y="5991120"/>
              <a:ext cx="1443240" cy="528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27640" y="5407200"/>
            <a:ext cx="1492200" cy="977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2000" y="30909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8000" y="309240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1960" y="30909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4080" y="402912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0080" y="40305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94040" y="402912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4000" y="2789280"/>
            <a:ext cx="4364280" cy="2246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8600" y="5005440"/>
            <a:ext cx="4395600" cy="42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33920" y="1828800"/>
            <a:ext cx="1652760" cy="976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75480" y="3084480"/>
            <a:ext cx="134748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440" y="308304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7560" y="4022640"/>
            <a:ext cx="134748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1520" y="402120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2440" y="2797200"/>
            <a:ext cx="2984760" cy="2246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5960" y="3930480"/>
            <a:ext cx="384120" cy="28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68640" y="1841400"/>
            <a:ext cx="1608120" cy="955800"/>
            <a:chOff x="3068640" y="1841400"/>
            <a:chExt cx="1608120" cy="955800"/>
          </a:xfrm>
        </p:grpSpPr>
        <p:sp>
          <p:nvSpPr>
            <p:cNvPr id="115" name=""/>
            <p:cNvSpPr/>
            <p:nvPr/>
          </p:nvSpPr>
          <p:spPr>
            <a:xfrm>
              <a:off x="3873600" y="1841400"/>
              <a:ext cx="803160" cy="754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8640" y="2492280"/>
              <a:ext cx="882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24120" y="519120"/>
            <a:ext cx="2210040" cy="137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Strategic Management Proc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8918640" y="2082960"/>
            <a:ext cx="22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32BE-9491-47ED-93F9-0E5506F516D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32640" y="5738760"/>
            <a:ext cx="2366640" cy="61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932040"/>
            <a:ext cx="9144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Margin_Fig%203.4" descr=""/>
          <p:cNvPicPr/>
          <p:nvPr/>
        </p:nvPicPr>
        <p:blipFill>
          <a:blip r:embed="rId2"/>
          <a:stretch/>
        </p:blipFill>
        <p:spPr>
          <a:xfrm>
            <a:off x="3525840" y="434880"/>
            <a:ext cx="4573440" cy="5370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35040" y="46562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32160" y="34592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947680" y="444996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021120" y="2898720"/>
            <a:ext cx="509400" cy="2876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flipV="1">
            <a:off x="533520" y="1200600"/>
            <a:ext cx="274320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121280" y="2430360"/>
            <a:ext cx="1649160" cy="3276720"/>
            <a:chOff x="4121280" y="2430360"/>
            <a:chExt cx="1649160" cy="3276720"/>
          </a:xfrm>
        </p:grpSpPr>
        <p:sp>
          <p:nvSpPr>
            <p:cNvPr id="347" name=""/>
            <p:cNvSpPr/>
            <p:nvPr/>
          </p:nvSpPr>
          <p:spPr>
            <a:xfrm>
              <a:off x="4121280" y="3354480"/>
              <a:ext cx="534960" cy="2347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78200" y="4370400"/>
              <a:ext cx="543240" cy="1332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38720" y="2430360"/>
              <a:ext cx="531720" cy="32767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92760" y="2738520"/>
            <a:ext cx="2219400" cy="2963880"/>
            <a:chOff x="5792760" y="2738520"/>
            <a:chExt cx="2219400" cy="2963880"/>
          </a:xfrm>
        </p:grpSpPr>
        <p:sp>
          <p:nvSpPr>
            <p:cNvPr id="351" name=""/>
            <p:cNvSpPr/>
            <p:nvPr/>
          </p:nvSpPr>
          <p:spPr>
            <a:xfrm>
              <a:off x="5792760" y="5122800"/>
              <a:ext cx="2219400" cy="579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3929040"/>
              <a:ext cx="2205000" cy="579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2760" y="2738520"/>
              <a:ext cx="1401840" cy="5778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Deci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78000" y="1314360"/>
            <a:ext cx="299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m may outsource all or only part of one or more primary and/or support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36680" y="3421080"/>
            <a:ext cx="1584360" cy="789120"/>
            <a:chOff x="436680" y="3421080"/>
            <a:chExt cx="1584360" cy="789120"/>
          </a:xfrm>
        </p:grpSpPr>
        <p:sp>
          <p:nvSpPr>
            <p:cNvPr id="357" name=""/>
            <p:cNvSpPr/>
            <p:nvPr/>
          </p:nvSpPr>
          <p:spPr>
            <a:xfrm>
              <a:off x="1366920" y="3767040"/>
              <a:ext cx="457200" cy="443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6680" y="342108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sourced 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32880" y="525456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35760" y="28764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32880" y="405756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3006360" y="394848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3683160" y="406764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872960" y="46962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BB4F-05BB-4C5C-95E6-30CCFFEA1924}" type="slidenum">
              <a:t>40</a:t>
            </a:fld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c Rationales for Outsourc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business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ts a company focus on broader business issues by having outside experts handle various operational detail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ccess to world-class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specialized resources of outsourcing providers makes world-class capabilities available to firms in a wide range of applic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6F5C-54D6-48C1-A5A1-94192E656B5A}" type="slidenum">
              <a:t>41</a:t>
            </a:fld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1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c Rationales for Outsourcing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lerate business re-engineering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hieves re-engineering benefits more quickly by having outsiders—who have already achieved world-class standards—take over proces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ing ri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duces investment requirements and makes firm more flexible, dynamic and better able to adapt to changing opportun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s resources for other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directs efforts from non-core activities toward those that serve customers more effectivel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4AED-3879-48FD-BC16-918FBAA7BB5B}" type="slidenum">
              <a:t>42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Iss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est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utsource only to firms possessing a core competence in terms of performing the primary or supporting the outsourced activ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ng resources and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activities in which the firm itself can create and capture valu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threats and ongoing 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primary and support activities that are used to neutralize environmental threats or to complete necessary ongoing organizational task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4181-EE66-414A-B421-142287487461}" type="slidenum">
              <a:t>43</a:t>
            </a:fld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Issu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trategic team of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capabilities that are critical to the firm’s success, even though the capabilities are not actual sources of competitive advant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’s knowledge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activities that stimulate the development of new capabilities and competenc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E5F3-651A-43F9-9DB6-424B7B25F06C}" type="slidenum">
              <a:t>44</a:t>
            </a:fld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utions and Remind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ake for granted that core competencies will continue to provide a source of competitive 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ore competencies have the potential to become core rigi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rigidities are former core competencies that now generate inertia and stifle inno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what the firm can do through continuous and effective analyses of its internal environment increases the likelihood of long-term competitive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0B14-E7ED-43DB-A324-1886309DF3C1}" type="slidenum">
              <a:t>45</a:t>
            </a:fld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utions and Reminder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what the firm can do through continuous and effective analyses of its internal environment increase the likelihood of long-term competitive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070E-58F8-4B49-8ED6-1B1B9B0CB185}" type="slidenum">
              <a:t>46</a:t>
            </a:fld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s achieve strategic competitiveness and earn above-average returns when their core competencies are effectiv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quir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undl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verag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time, the benefits of any value-creating strategy can be duplicated by compet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CAAB-9DB2-4828-B8C1-DE5CA0259D1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etitive Advantage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ainability of a competitive advantage is a function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rate of core competence obsolescence due to environmental chang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availability of substitutes for the core compet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difficulty competitors have in duplicating or imitating the core compet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359FA-935D-4289-99B4-A6C3CF61FDB2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771560"/>
            <a:ext cx="411984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8200" y="1771560"/>
            <a:ext cx="3997440" cy="2170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331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comes from External and Internal Environmental Analy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33520" y="1601280"/>
            <a:ext cx="807408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440800" y="1981440"/>
            <a:ext cx="241200" cy="3872160"/>
          </a:xfrm>
          <a:custGeom>
            <a:avLst/>
            <a:gdLst>
              <a:gd name="textAreaLeft" fmla="*/ 0 w 241200"/>
              <a:gd name="textAreaRight" fmla="*/ 169200 w 241200"/>
              <a:gd name="textAreaTop" fmla="*/ 161280 h 3872160"/>
              <a:gd name="textAreaBottom" fmla="*/ 3710880 h 387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419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opportunities and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341760" y="1968120"/>
            <a:ext cx="237960" cy="3902040"/>
          </a:xfrm>
          <a:custGeom>
            <a:avLst/>
            <a:gdLst>
              <a:gd name="textAreaLeft" fmla="*/ 0 w 237960"/>
              <a:gd name="textAreaRight" fmla="*/ 167040 w 237960"/>
              <a:gd name="textAreaTop" fmla="*/ 162360 h 3902040"/>
              <a:gd name="textAreaBottom" fmla="*/ 3739680 h 39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419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unique resources, capabilities, and competenc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stainable competitive advan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DA61-D3AC-4817-A94B-E2C9F1FD24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ntext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analysis of a firm’s internal environment (learning what the firm can do ) requir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ostering  an organizational setting in which experimentation and learning are expected and promot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ing a global mind-se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nking of the firm as a bundle of heterogeneous resources and capabilities that can be used to create an exclusive market pos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D3F9-0C0F-43EA-B757-1CB40FBEEA50}" type="slidenum">
              <a:t>8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6760" y="1244520"/>
            <a:ext cx="8610480" cy="5056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onents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23DA-020A-458D-A55B-D0DB22CAAEB1}" type="slidenum">
              <a:t>9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3:21:06Z</dcterms:created>
  <dc:creator>Revised by Charlie Cook, University of West Alabama</dc:creator>
  <dc:description/>
  <dc:language>en-US</dc:language>
  <cp:lastModifiedBy>TL User</cp:lastModifiedBy>
  <dcterms:modified xsi:type="dcterms:W3CDTF">2004-01-14T16:48:34Z</dcterms:modified>
  <cp:revision>65</cp:revision>
  <dc:subject>Chapter 3</dc:subject>
  <dc:title>Strategic Management 6e. - Hitt, Hoskisson, and Ireland</dc:title>
</cp:coreProperties>
</file>