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png" ContentType="image/png"/>
  <Override PartName="/ppt/media/image5.png" ContentType="image/png"/>
  <Override PartName="/ppt/media/image29.jpeg" ContentType="image/jpeg"/>
  <Override PartName="/ppt/media/image30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25.png" ContentType="image/png"/>
  <Override PartName="/ppt/media/image19.jpeg" ContentType="image/jpeg"/>
  <Override PartName="/ppt/media/image7.png" ContentType="image/png"/>
  <Override PartName="/ppt/media/image22.jpeg" ContentType="image/jpeg"/>
  <Override PartName="/ppt/media/image9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jpeg" ContentType="image/jpeg"/>
  <Override PartName="/ppt/media/image15.png" ContentType="image/png"/>
  <Override PartName="/ppt/media/image18.jpeg" ContentType="image/jpeg"/>
  <Override PartName="/ppt/media/image2.jpeg" ContentType="image/jpeg"/>
  <Override PartName="/ppt/media/image20.png" ContentType="image/png"/>
  <Override PartName="/ppt/media/image21.jpeg" ContentType="image/jpeg"/>
  <Override PartName="/ppt/media/image2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794E51-E4A6-4739-8437-E3A9378AEF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160" y="519120"/>
            <a:ext cx="80010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010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160" y="3799800"/>
            <a:ext cx="80010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C732D5-A852-4640-9EAD-CD41373911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160" y="519120"/>
            <a:ext cx="80010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3904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2840" y="1371600"/>
            <a:ext cx="3904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160" y="3799800"/>
            <a:ext cx="3904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2840" y="3799800"/>
            <a:ext cx="3904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F6E001-8A45-4358-AAFF-2F68119C31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160" y="519120"/>
            <a:ext cx="80010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257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560" y="1371600"/>
            <a:ext cx="257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3960" y="1371600"/>
            <a:ext cx="257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160" y="3799800"/>
            <a:ext cx="257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560" y="3799800"/>
            <a:ext cx="257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3960" y="3799800"/>
            <a:ext cx="257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0043E3-0CB0-4E64-95C6-F9BEB2BB17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160" y="519120"/>
            <a:ext cx="80010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3160" y="137160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160" y="519120"/>
            <a:ext cx="80010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160" y="519120"/>
            <a:ext cx="80010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3904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32840" y="1371600"/>
            <a:ext cx="3904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160" y="519120"/>
            <a:ext cx="80010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33160" y="519120"/>
            <a:ext cx="80010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160" y="519120"/>
            <a:ext cx="80010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3904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32840" y="1371600"/>
            <a:ext cx="3904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33160" y="3799800"/>
            <a:ext cx="3904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160" y="519120"/>
            <a:ext cx="80010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160" y="137160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0D1E9F-73EA-43DA-91FB-D25B427A15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160" y="519120"/>
            <a:ext cx="80010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3904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32840" y="1371600"/>
            <a:ext cx="3904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32840" y="3799800"/>
            <a:ext cx="3904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160" y="519120"/>
            <a:ext cx="80010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3904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32840" y="1371600"/>
            <a:ext cx="3904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3160" y="3799800"/>
            <a:ext cx="80010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160" y="519120"/>
            <a:ext cx="80010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010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3160" y="3799800"/>
            <a:ext cx="80010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160" y="519120"/>
            <a:ext cx="80010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3904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32840" y="1371600"/>
            <a:ext cx="3904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160" y="3799800"/>
            <a:ext cx="3904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32840" y="3799800"/>
            <a:ext cx="3904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160" y="519120"/>
            <a:ext cx="80010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257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8560" y="1371600"/>
            <a:ext cx="257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3960" y="1371600"/>
            <a:ext cx="257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3160" y="3799800"/>
            <a:ext cx="257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8560" y="3799800"/>
            <a:ext cx="257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3960" y="3799800"/>
            <a:ext cx="257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160" y="519120"/>
            <a:ext cx="80010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CC71A3-E35D-4845-86CC-B22D91188F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160" y="519120"/>
            <a:ext cx="80010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3904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2840" y="1371600"/>
            <a:ext cx="3904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55092E-7241-4A7D-A1F7-2A7357E363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160" y="519120"/>
            <a:ext cx="80010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D5EE1C-2B64-4C08-A050-A311BBFC01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160" y="519120"/>
            <a:ext cx="80010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A9A6B2-D3B9-411B-B6A0-11EAA03D0B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160" y="519120"/>
            <a:ext cx="80010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3904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2840" y="1371600"/>
            <a:ext cx="3904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160" y="3799800"/>
            <a:ext cx="3904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59BEE5-A585-41F5-96C5-FFC1BA9276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160" y="519120"/>
            <a:ext cx="80010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3904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840" y="1371600"/>
            <a:ext cx="3904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2840" y="3799800"/>
            <a:ext cx="3904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80B69B-D278-4BE1-8B05-F20206CCA7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160" y="519120"/>
            <a:ext cx="80010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3904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840" y="1371600"/>
            <a:ext cx="3904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160" y="3799800"/>
            <a:ext cx="80010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A90E6C-B78B-4637-96A5-F48B183AAC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160" y="519120"/>
            <a:ext cx="80010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160" y="137160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2120" indent="-22212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84040">
              <a:spcBef>
                <a:spcPts val="700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235080">
              <a:spcBef>
                <a:spcPts val="700"/>
              </a:spcBef>
              <a:buClr>
                <a:srgbClr val="5f5f5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11120" indent="-22212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57440" indent="-17316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57440" indent="-173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57440" indent="-173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33520" y="6095880"/>
            <a:ext cx="4038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pyright © 2004 South-Western. All rights reserved.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095880"/>
            <a:ext cx="22096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3–</a:t>
            </a:r>
            <a:fld id="{06E54A3A-FAAF-49FC-816A-0AB816D6921D}" type="slidenum"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f5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528156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638680" y="1447920"/>
            <a:ext cx="327672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0099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3"/>
          </p:nvPr>
        </p:nvSpPr>
        <p:spPr>
          <a:xfrm>
            <a:off x="5486400" y="599436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3366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6699"/>
                </a:solidFill>
                <a:latin typeface="Arial"/>
              </a:rPr>
              <a:t>&lt;footer&gt;</a:t>
            </a:r>
            <a:r>
              <a:rPr b="1" lang="en-US" sz="1000" spc="-1" strike="noStrike">
                <a:solidFill>
                  <a:srgbClr val="336699"/>
                </a:solidFill>
                <a:latin typeface="Arial"/>
              </a:rPr>
              <a:t> Copyright © 2004 South-Western</a:t>
            </a:r>
            <a:br>
              <a:rPr sz="1000"/>
            </a:br>
            <a:r>
              <a:rPr b="1" lang="en-US" sz="1000" spc="-1" strike="noStrike">
                <a:solidFill>
                  <a:srgbClr val="336699"/>
                </a:solidFill>
                <a:latin typeface="Arial"/>
              </a:rPr>
              <a:t>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19840" y="5410080"/>
            <a:ext cx="198144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99"/>
                </a:solidFill>
                <a:latin typeface="Tahoma"/>
              </a:rPr>
              <a:t>PowerPoint slides by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99"/>
                </a:solidFill>
                <a:latin typeface="Tahoma"/>
              </a:rPr>
              <a:t>R. Dennis Middlemist</a:t>
            </a:r>
            <a:br>
              <a:rPr sz="1000"/>
            </a:br>
            <a:r>
              <a:rPr b="1" lang="en-US" sz="1000" spc="-1" strike="noStrike">
                <a:solidFill>
                  <a:srgbClr val="006699"/>
                </a:solidFill>
                <a:latin typeface="Tahoma"/>
              </a:rPr>
              <a:t>Colorado State Univers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257800" y="0"/>
            <a:ext cx="92160" cy="6858000"/>
          </a:xfrm>
          <a:prstGeom prst="rect">
            <a:avLst/>
          </a:prstGeom>
          <a:gradFill rotWithShape="0">
            <a:gsLst>
              <a:gs pos="0">
                <a:srgbClr val="5e4600"/>
              </a:gs>
              <a:gs pos="50000">
                <a:srgbClr val="cc9900"/>
              </a:gs>
              <a:gs pos="100000">
                <a:srgbClr val="5e46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2" marL="739800" algn="ctr">
              <a:spcBef>
                <a:spcPts val="499"/>
              </a:spcBef>
              <a:buClr>
                <a:srgbClr val="5f5f5f"/>
              </a:buClr>
              <a:buSzPct val="75000"/>
              <a:buFont typeface="Wingdings" charset="2"/>
              <a:buChar char="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89000" algn="ctr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4280" algn="ctr"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484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484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638680" y="1447920"/>
            <a:ext cx="3276720" cy="946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Tahoma"/>
              </a:rPr>
              <a:t>Chapter 3</a:t>
            </a:r>
            <a:endParaRPr b="1" lang="en-US" sz="2800" spc="-1" strike="noStrike">
              <a:solidFill>
                <a:srgbClr val="0099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5715000" y="2104560"/>
            <a:ext cx="3200400" cy="26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Internal Environment: Resources, Capabilities,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d Core Competenc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3160" y="519120"/>
            <a:ext cx="80010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reating Valu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2120" indent="-222120">
              <a:spcBef>
                <a:spcPts val="174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y exploiting their core competencies or competitive advantages, firms create valu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2120" indent="-222120">
              <a:spcBef>
                <a:spcPts val="174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alue is measured b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84040">
              <a:spcBef>
                <a:spcPts val="1500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A product’s performance characteristics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625320" indent="-284040">
              <a:spcBef>
                <a:spcPts val="1500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The product’s attributes for which customers are willing to pay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222120" indent="-222120">
              <a:spcBef>
                <a:spcPts val="174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rms create value by innovatively bundling and leveraging their resources and capabilit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B8A805-E95A-4AEB-B88C-1DE9E1F8BEE6}" type="slidenum">
              <a:t>10</a:t>
            </a:fld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6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1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6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31" dur="5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3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3160" y="519120"/>
            <a:ext cx="80010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reating Competitive Advant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2120" indent="-222120">
              <a:spcBef>
                <a:spcPts val="174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re competencies, in combination with product-market positions, are the firm’s most important sources of competitive advanta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2120" indent="-222120">
              <a:spcBef>
                <a:spcPts val="174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re competencies of a firm, in addition to its analysis of its general, industry, and competitor environments, should drive its selection of strateg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EED6C5-C5FF-4F45-8348-5926466F5FE6}" type="slidenum">
              <a:t>11</a:t>
            </a:fld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43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4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160" y="519120"/>
            <a:ext cx="80010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he Challenge of Internal Analysi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2120" indent="-222120">
              <a:spcBef>
                <a:spcPts val="174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ategic decisions in terms of the firm’s resources, capabilities, and core competenc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84040">
              <a:spcBef>
                <a:spcPts val="1500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Are non-routine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625320" indent="-284040">
              <a:spcBef>
                <a:spcPts val="1500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Have ethical implications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625320" indent="-284040">
              <a:spcBef>
                <a:spcPts val="1500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Significantly influence the firm’s ability to earn above-average returns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E0FC2-9D55-4000-8E5E-141F7A9C1023}" type="slidenum">
              <a:t>12</a:t>
            </a:fld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55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0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5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7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160" y="519120"/>
            <a:ext cx="80010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he Challenge of Internal Analysis (cont’d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2120" indent="-22212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develop and use core competencies, managers must hav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84040">
              <a:spcBef>
                <a:spcPts val="601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Courage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625320" indent="-284040">
              <a:spcBef>
                <a:spcPts val="601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Self-confidence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625320" indent="-284040">
              <a:spcBef>
                <a:spcPts val="601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Integrity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625320" indent="-284040">
              <a:spcBef>
                <a:spcPts val="601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The capacity to deal with uncertainty and complexity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625320" indent="-284040">
              <a:spcBef>
                <a:spcPts val="601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A willingness to hold people (and themselves) accountable for their work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4856C6-FBE9-461B-B456-1FB615DA1B84}" type="slidenum">
              <a:t>13</a:t>
            </a:fld>
          </a:p>
        </p:txBody>
      </p: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85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90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95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00" dur="5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05" dur="5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1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160" y="519120"/>
            <a:ext cx="8001000" cy="1373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Conditions Affecting Managerial Decisions about Resources, Capabilities and Core Competencie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33520" y="1478520"/>
            <a:ext cx="8074080" cy="74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f5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467480" y="606420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Figure 3.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601344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URCE: Adapted from R. Amit &amp; P. J. H. Schoemaker, 1993, Strategic assets and organizational rent,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Strategic Management Journal,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4: 33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538200" y="1833480"/>
            <a:ext cx="1797120" cy="79236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2271600" y="2090880"/>
            <a:ext cx="1005120" cy="2775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3233880" y="1844640"/>
            <a:ext cx="5381640" cy="14335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4"/>
          <a:stretch/>
        </p:blipFill>
        <p:spPr>
          <a:xfrm>
            <a:off x="538200" y="3224160"/>
            <a:ext cx="1785960" cy="8017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5"/>
          <a:stretch/>
        </p:blipFill>
        <p:spPr>
          <a:xfrm>
            <a:off x="2271600" y="3481560"/>
            <a:ext cx="1005120" cy="2775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6"/>
          <a:stretch/>
        </p:blipFill>
        <p:spPr>
          <a:xfrm>
            <a:off x="3222720" y="3341520"/>
            <a:ext cx="5370480" cy="124164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7"/>
          <a:stretch/>
        </p:blipFill>
        <p:spPr>
          <a:xfrm>
            <a:off x="538200" y="4594320"/>
            <a:ext cx="1785960" cy="7905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8"/>
          <a:stretch/>
        </p:blipFill>
        <p:spPr>
          <a:xfrm>
            <a:off x="2281320" y="4849920"/>
            <a:ext cx="995400" cy="27936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9"/>
          <a:stretch/>
        </p:blipFill>
        <p:spPr>
          <a:xfrm>
            <a:off x="3222720" y="4700520"/>
            <a:ext cx="5370480" cy="1241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7CFF2C-D6BF-4161-A828-0B2F76037264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3160" y="519120"/>
            <a:ext cx="800100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Resources, Capabilities and Core Competencie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038120" y="1371600"/>
            <a:ext cx="4343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2120" indent="-22212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84040">
              <a:spcBef>
                <a:spcPts val="601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Are the source of a firm’s capabilities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625320" indent="-284040">
              <a:spcBef>
                <a:spcPts val="601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Are broad in scope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625320" indent="-284040">
              <a:spcBef>
                <a:spcPts val="601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Cover a spectrum of individual, social and organizational phenomena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625320" indent="-284040">
              <a:spcBef>
                <a:spcPts val="601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Alone, do not yield a competitive advantage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203480" y="5045040"/>
            <a:ext cx="1860480" cy="12636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DiscCore_Fig%203.2" descr=""/>
          <p:cNvPicPr/>
          <p:nvPr/>
        </p:nvPicPr>
        <p:blipFill>
          <a:blip r:embed="rId1"/>
          <a:stretch/>
        </p:blipFill>
        <p:spPr>
          <a:xfrm>
            <a:off x="1025640" y="1225440"/>
            <a:ext cx="2340000" cy="1555920"/>
          </a:xfrm>
          <a:prstGeom prst="rect">
            <a:avLst/>
          </a:prstGeom>
          <a:ln w="0">
            <a:noFill/>
          </a:ln>
        </p:spPr>
      </p:pic>
      <p:pic>
        <p:nvPicPr>
          <p:cNvPr id="166" name="CoreComp_Fig%203.2" descr=""/>
          <p:cNvPicPr/>
          <p:nvPr/>
        </p:nvPicPr>
        <p:blipFill>
          <a:blip r:embed="rId2"/>
          <a:stretch/>
        </p:blipFill>
        <p:spPr>
          <a:xfrm>
            <a:off x="1368360" y="3016080"/>
            <a:ext cx="1654200" cy="841680"/>
          </a:xfrm>
          <a:prstGeom prst="rect">
            <a:avLst/>
          </a:prstGeom>
          <a:ln w="0">
            <a:noFill/>
          </a:ln>
        </p:spPr>
      </p:pic>
      <p:pic>
        <p:nvPicPr>
          <p:cNvPr id="167" name="Capabilities_Fig%203.2" descr=""/>
          <p:cNvPicPr/>
          <p:nvPr/>
        </p:nvPicPr>
        <p:blipFill>
          <a:blip r:embed="rId3"/>
          <a:stretch/>
        </p:blipFill>
        <p:spPr>
          <a:xfrm>
            <a:off x="1382760" y="4102200"/>
            <a:ext cx="1625400" cy="826920"/>
          </a:xfrm>
          <a:prstGeom prst="rect">
            <a:avLst/>
          </a:prstGeom>
          <a:ln w="0">
            <a:noFill/>
          </a:ln>
        </p:spPr>
      </p:pic>
      <p:pic>
        <p:nvPicPr>
          <p:cNvPr id="168" name="Resources_Fig%203.2" descr=""/>
          <p:cNvPicPr/>
          <p:nvPr/>
        </p:nvPicPr>
        <p:blipFill>
          <a:blip r:embed="rId4"/>
          <a:stretch/>
        </p:blipFill>
        <p:spPr>
          <a:xfrm>
            <a:off x="1360440" y="5151600"/>
            <a:ext cx="1668600" cy="106488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2195640" y="2695680"/>
            <a:ext cx="0" cy="314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195640" y="3776760"/>
            <a:ext cx="0" cy="318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195640" y="4853160"/>
            <a:ext cx="0" cy="295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F65810-DEE8-4C54-9F99-75956716DEC5}" type="slidenum">
              <a:t>15</a:t>
            </a:fld>
          </a:p>
        </p:txBody>
      </p:sp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4500"/>
                            </p:stCondLst>
                            <p:childTnLst>
                              <p:par>
                                <p:cTn id="2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0"/>
                            </p:stCondLst>
                            <p:childTnLst>
                              <p:par>
                                <p:cTn id="2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5500"/>
                            </p:stCondLst>
                            <p:childTnLst>
                              <p:par>
                                <p:cTn id="2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5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6000"/>
                            </p:stCondLst>
                            <p:childTnLst>
                              <p:par>
                                <p:cTn id="2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5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6500"/>
                            </p:stCondLst>
                            <p:childTnLst>
                              <p:par>
                                <p:cTn id="2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3160" y="519120"/>
            <a:ext cx="800100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Resources, Capabilities and Core Competencie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038120" y="1371240"/>
            <a:ext cx="4496040" cy="48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2120" indent="-22212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84040">
              <a:spcBef>
                <a:spcPts val="601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Are a firm’s assets, including people and the value of its brand name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625320" indent="-284040">
              <a:spcBef>
                <a:spcPts val="601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Represent inputs into a firm’s production process, such as: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2" marL="974880" indent="-235080">
              <a:spcBef>
                <a:spcPts val="499"/>
              </a:spcBef>
              <a:buClr>
                <a:srgbClr val="5f5f5f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pital equi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235080">
              <a:spcBef>
                <a:spcPts val="499"/>
              </a:spcBef>
              <a:buClr>
                <a:srgbClr val="5f5f5f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kills of employ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235080">
              <a:spcBef>
                <a:spcPts val="499"/>
              </a:spcBef>
              <a:buClr>
                <a:srgbClr val="5f5f5f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rand nam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235080">
              <a:spcBef>
                <a:spcPts val="499"/>
              </a:spcBef>
              <a:buClr>
                <a:srgbClr val="5f5f5f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ancial resour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235080">
              <a:spcBef>
                <a:spcPts val="499"/>
              </a:spcBef>
              <a:buClr>
                <a:srgbClr val="5f5f5f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lented manag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203480" y="5045040"/>
            <a:ext cx="1860480" cy="12636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DiscCore_Fig%203.2" descr=""/>
          <p:cNvPicPr/>
          <p:nvPr/>
        </p:nvPicPr>
        <p:blipFill>
          <a:blip r:embed="rId1"/>
          <a:stretch/>
        </p:blipFill>
        <p:spPr>
          <a:xfrm>
            <a:off x="1025640" y="1225440"/>
            <a:ext cx="2340000" cy="1555920"/>
          </a:xfrm>
          <a:prstGeom prst="rect">
            <a:avLst/>
          </a:prstGeom>
          <a:ln w="0">
            <a:noFill/>
          </a:ln>
        </p:spPr>
      </p:pic>
      <p:pic>
        <p:nvPicPr>
          <p:cNvPr id="176" name="CoreComp_Fig%203.2" descr=""/>
          <p:cNvPicPr/>
          <p:nvPr/>
        </p:nvPicPr>
        <p:blipFill>
          <a:blip r:embed="rId2"/>
          <a:stretch/>
        </p:blipFill>
        <p:spPr>
          <a:xfrm>
            <a:off x="1368360" y="3016080"/>
            <a:ext cx="1654200" cy="841680"/>
          </a:xfrm>
          <a:prstGeom prst="rect">
            <a:avLst/>
          </a:prstGeom>
          <a:ln w="0">
            <a:noFill/>
          </a:ln>
        </p:spPr>
      </p:pic>
      <p:pic>
        <p:nvPicPr>
          <p:cNvPr id="177" name="Capabilities_Fig%203.2" descr=""/>
          <p:cNvPicPr/>
          <p:nvPr/>
        </p:nvPicPr>
        <p:blipFill>
          <a:blip r:embed="rId3"/>
          <a:stretch/>
        </p:blipFill>
        <p:spPr>
          <a:xfrm>
            <a:off x="1382760" y="4102200"/>
            <a:ext cx="1625400" cy="826920"/>
          </a:xfrm>
          <a:prstGeom prst="rect">
            <a:avLst/>
          </a:prstGeom>
          <a:ln w="0">
            <a:noFill/>
          </a:ln>
        </p:spPr>
      </p:pic>
      <p:pic>
        <p:nvPicPr>
          <p:cNvPr id="178" name="Resources_Fig%203.2" descr=""/>
          <p:cNvPicPr/>
          <p:nvPr/>
        </p:nvPicPr>
        <p:blipFill>
          <a:blip r:embed="rId4"/>
          <a:stretch/>
        </p:blipFill>
        <p:spPr>
          <a:xfrm>
            <a:off x="1360440" y="5151600"/>
            <a:ext cx="1668600" cy="106488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2195640" y="2695680"/>
            <a:ext cx="0" cy="314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195640" y="3776760"/>
            <a:ext cx="0" cy="318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195640" y="4853160"/>
            <a:ext cx="0" cy="295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14E1ED-BF9A-46F2-B099-9C82BFAFDAA0}" type="slidenum">
              <a:t>16</a:t>
            </a:fld>
          </a:p>
        </p:txBody>
      </p:sp>
    </p:spTree>
  </p:cSld>
  <p:transition>
    <p:dissolve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4000"/>
                            </p:stCondLst>
                            <p:childTnLst>
                              <p:par>
                                <p:cTn id="24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4500"/>
                            </p:stCondLst>
                            <p:childTnLst>
                              <p:par>
                                <p:cTn id="25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0"/>
                            </p:stCondLst>
                            <p:childTnLst>
                              <p:par>
                                <p:cTn id="25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5500"/>
                            </p:stCondLst>
                            <p:childTnLst>
                              <p:par>
                                <p:cTn id="26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6000"/>
                            </p:stCondLst>
                            <p:childTnLst>
                              <p:par>
                                <p:cTn id="27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6500"/>
                            </p:stCondLst>
                            <p:childTnLst>
                              <p:par>
                                <p:cTn id="28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7000"/>
                            </p:stCondLst>
                            <p:childTnLst>
                              <p:par>
                                <p:cTn id="28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7500"/>
                            </p:stCondLst>
                            <p:childTnLst>
                              <p:par>
                                <p:cTn id="29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3160" y="519120"/>
            <a:ext cx="800100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Resources, Capabilities and Core Competencie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038120" y="1371600"/>
            <a:ext cx="44960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2120" indent="-222120">
              <a:spcBef>
                <a:spcPts val="104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84040">
              <a:spcBef>
                <a:spcPts val="901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Tangible resources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2" marL="974880" indent="-235080">
              <a:spcBef>
                <a:spcPts val="751"/>
              </a:spcBef>
              <a:buClr>
                <a:srgbClr val="5f5f5f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ancial resour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235080">
              <a:spcBef>
                <a:spcPts val="751"/>
              </a:spcBef>
              <a:buClr>
                <a:srgbClr val="5f5f5f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hysical resour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235080">
              <a:spcBef>
                <a:spcPts val="751"/>
              </a:spcBef>
              <a:buClr>
                <a:srgbClr val="5f5f5f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chnological resour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235080">
              <a:spcBef>
                <a:spcPts val="751"/>
              </a:spcBef>
              <a:buClr>
                <a:srgbClr val="5f5f5f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ganizational resour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84040">
              <a:spcBef>
                <a:spcPts val="901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Intangible resources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2" marL="974880" indent="-235080">
              <a:spcBef>
                <a:spcPts val="751"/>
              </a:spcBef>
              <a:buClr>
                <a:srgbClr val="5f5f5f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uman resour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235080">
              <a:spcBef>
                <a:spcPts val="751"/>
              </a:spcBef>
              <a:buClr>
                <a:srgbClr val="5f5f5f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novation resour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235080">
              <a:spcBef>
                <a:spcPts val="751"/>
              </a:spcBef>
              <a:buClr>
                <a:srgbClr val="5f5f5f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putation resour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203480" y="5045040"/>
            <a:ext cx="1860480" cy="12636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DiscCore_Fig%203.2" descr=""/>
          <p:cNvPicPr/>
          <p:nvPr/>
        </p:nvPicPr>
        <p:blipFill>
          <a:blip r:embed="rId1"/>
          <a:stretch/>
        </p:blipFill>
        <p:spPr>
          <a:xfrm>
            <a:off x="1025640" y="1225440"/>
            <a:ext cx="2340000" cy="1555920"/>
          </a:xfrm>
          <a:prstGeom prst="rect">
            <a:avLst/>
          </a:prstGeom>
          <a:ln w="0">
            <a:noFill/>
          </a:ln>
        </p:spPr>
      </p:pic>
      <p:pic>
        <p:nvPicPr>
          <p:cNvPr id="186" name="CoreComp_Fig%203.2" descr=""/>
          <p:cNvPicPr/>
          <p:nvPr/>
        </p:nvPicPr>
        <p:blipFill>
          <a:blip r:embed="rId2"/>
          <a:stretch/>
        </p:blipFill>
        <p:spPr>
          <a:xfrm>
            <a:off x="1368360" y="3016080"/>
            <a:ext cx="1654200" cy="841680"/>
          </a:xfrm>
          <a:prstGeom prst="rect">
            <a:avLst/>
          </a:prstGeom>
          <a:ln w="0">
            <a:noFill/>
          </a:ln>
        </p:spPr>
      </p:pic>
      <p:pic>
        <p:nvPicPr>
          <p:cNvPr id="187" name="Capabilities_Fig%203.2" descr=""/>
          <p:cNvPicPr/>
          <p:nvPr/>
        </p:nvPicPr>
        <p:blipFill>
          <a:blip r:embed="rId3"/>
          <a:stretch/>
        </p:blipFill>
        <p:spPr>
          <a:xfrm>
            <a:off x="1382760" y="4102200"/>
            <a:ext cx="1625400" cy="826920"/>
          </a:xfrm>
          <a:prstGeom prst="rect">
            <a:avLst/>
          </a:prstGeom>
          <a:ln w="0">
            <a:noFill/>
          </a:ln>
        </p:spPr>
      </p:pic>
      <p:pic>
        <p:nvPicPr>
          <p:cNvPr id="188" name="Resources_Fig%203.2" descr=""/>
          <p:cNvPicPr/>
          <p:nvPr/>
        </p:nvPicPr>
        <p:blipFill>
          <a:blip r:embed="rId4"/>
          <a:stretch/>
        </p:blipFill>
        <p:spPr>
          <a:xfrm>
            <a:off x="1360440" y="5151600"/>
            <a:ext cx="1668600" cy="106488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2195640" y="2695680"/>
            <a:ext cx="0" cy="314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195640" y="3776760"/>
            <a:ext cx="0" cy="318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195640" y="4853160"/>
            <a:ext cx="0" cy="295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C5E1F5-F2A7-401D-9FB1-B983F6C3EB82}" type="slidenum">
              <a:t>17</a:t>
            </a:fld>
          </a:p>
        </p:txBody>
      </p:sp>
    </p:spTree>
  </p:cSld>
  <p:transition>
    <p:dissolve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4000"/>
                            </p:stCondLst>
                            <p:childTnLst>
                              <p:par>
                                <p:cTn id="3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4500"/>
                            </p:stCondLst>
                            <p:childTnLst>
                              <p:par>
                                <p:cTn id="3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" dur="5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5000"/>
                            </p:stCondLst>
                            <p:childTnLst>
                              <p:par>
                                <p:cTn id="3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5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500"/>
                            </p:stCondLst>
                            <p:childTnLst>
                              <p:par>
                                <p:cTn id="3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8" dur="50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6000"/>
                            </p:stCondLst>
                            <p:childTnLst>
                              <p:par>
                                <p:cTn id="3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2" dur="500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6500"/>
                            </p:stCondLst>
                            <p:childTnLst>
                              <p:par>
                                <p:cTn id="3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6" dur="500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7000"/>
                            </p:stCondLst>
                            <p:childTnLst>
                              <p:par>
                                <p:cTn id="3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500"/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7500"/>
                            </p:stCondLst>
                            <p:childTnLst>
                              <p:par>
                                <p:cTn id="3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8000"/>
                            </p:stCondLst>
                            <p:childTnLst>
                              <p:par>
                                <p:cTn id="3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8" dur="500"/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8500"/>
                            </p:stCondLst>
                            <p:childTnLst>
                              <p:par>
                                <p:cTn id="3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2" dur="500"/>
                                        <p:tgtEl>
                                          <p:spTgt spid="1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3160" y="519120"/>
            <a:ext cx="80010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angible Resourc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"/>
          <p:cNvSpPr/>
          <p:nvPr/>
        </p:nvSpPr>
        <p:spPr>
          <a:xfrm>
            <a:off x="685800" y="1600200"/>
            <a:ext cx="769608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308916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ancial Resource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firm’s borrowing capacity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firm’s ability to generate internal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308916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ganizational Resource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firm’s formal reporting structur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its formal planning, controlling,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coordinating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308916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ysical Resource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phistication and location of a firm’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ant and equipme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to raw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308916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chnological Resource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ock of technology, such as patents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de-marks, copyrights, and trad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r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" y="572940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URCES: Adapted from J. B. Barney, 1991, Firm resources and sustained competitive advantage,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Journal of Management,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7: 101; R. M. Grant, 1991,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Contemporary Strategy Analysis,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ambridge, U.K.: Blackwell Business, 100–102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467480" y="606420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Table 3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DEF51A-1269-4422-AA14-317D7D25F285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3160" y="519120"/>
            <a:ext cx="80010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tangible Resourc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7" name=""/>
          <p:cNvSpPr/>
          <p:nvPr/>
        </p:nvSpPr>
        <p:spPr>
          <a:xfrm>
            <a:off x="609480" y="1258920"/>
            <a:ext cx="79250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089160"/>
                <a:tab algn="l" pos="325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uman Resource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nowled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89160"/>
                <a:tab algn="l" pos="325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u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89160"/>
                <a:tab algn="l" pos="325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nagerial capabil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89160"/>
                <a:tab algn="l" pos="325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ganizational routi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89160"/>
                <a:tab algn="l" pos="325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89160"/>
                <a:tab algn="l" pos="325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novation Resource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dea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89160"/>
                <a:tab algn="l" pos="325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ientific capabilitie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89160"/>
                <a:tab algn="l" pos="325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pacity to innov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89160"/>
                <a:tab algn="l" pos="325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89160"/>
                <a:tab algn="l" pos="325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utational Resource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utation with customer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89160"/>
                <a:tab algn="l" pos="325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and nam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89160"/>
                <a:tab algn="l" pos="325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ceptions of product quality,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urability, and reliability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89160"/>
                <a:tab algn="l" pos="325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utation with supplier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89160"/>
                <a:tab algn="l" pos="325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efficient, effective, supportive, an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tually beneficial interactions and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lationshi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" y="57625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URCES: Adapted from R. Hall, 1992, The strategic analysis of intangible resources,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Strategic Management Journal,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3: 136–139; R. M. Grant, 1991,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Contemporary Strategy Analysis,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ambridge, U.K.: Blackwell Business, 101–104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467480" y="606420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Table 3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4C0476-EDFC-4913-A6C8-13F87F914051}" type="slidenum">
              <a:t>19</a:t>
            </a:fld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160" y="519120"/>
            <a:ext cx="80010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ahoma"/>
              </a:rPr>
              <a:t>Knowledge Objectiv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2120" indent="-22212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84040">
              <a:spcBef>
                <a:spcPts val="1250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6699"/>
                </a:solidFill>
                <a:latin typeface="Arial"/>
              </a:rPr>
              <a:t>Explain the need for firms to study and understand their internal environment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625320" indent="-284040">
              <a:spcBef>
                <a:spcPts val="1250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6699"/>
                </a:solidFill>
                <a:latin typeface="Arial"/>
              </a:rPr>
              <a:t>Define value and discuss its importance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625320" indent="-284040">
              <a:spcBef>
                <a:spcPts val="1250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6699"/>
                </a:solidFill>
                <a:latin typeface="Arial"/>
              </a:rPr>
              <a:t>Describe the differences between tangible and intangible resources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625320" indent="-284040">
              <a:spcBef>
                <a:spcPts val="1250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6699"/>
                </a:solidFill>
                <a:latin typeface="Arial"/>
              </a:rPr>
              <a:t>Define capabilities and discuss how they are developed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625320" indent="-284040">
              <a:spcBef>
                <a:spcPts val="1250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6699"/>
                </a:solidFill>
                <a:latin typeface="Arial"/>
              </a:rPr>
              <a:t>Describe four criteria used to determine whether resources and capabilities are core competencies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9DFFA8-DDB5-4A5A-8DAA-429A5D79EB8F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3160" y="519120"/>
            <a:ext cx="800100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Resources, Capabilities and Core Competencie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733560" y="1371600"/>
            <a:ext cx="4800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2120" indent="-222120">
              <a:spcBef>
                <a:spcPts val="14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84040">
              <a:spcBef>
                <a:spcPts val="1001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Are the firm’s capacity to deploy resources that have been purposely integrated to achieve a desired end state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625320" indent="-284040">
              <a:spcBef>
                <a:spcPts val="1001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Emerge over time through complex interactions among tangible and intangible resources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625320" indent="-284040">
              <a:spcBef>
                <a:spcPts val="1001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Often are based on developing, carrying and exchanging information and knowledge through the firm’s human capital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235160" y="3965400"/>
            <a:ext cx="1860480" cy="10814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DiscCore_Fig%203.2" descr=""/>
          <p:cNvPicPr/>
          <p:nvPr/>
        </p:nvPicPr>
        <p:blipFill>
          <a:blip r:embed="rId1"/>
          <a:stretch/>
        </p:blipFill>
        <p:spPr>
          <a:xfrm>
            <a:off x="1025640" y="1225440"/>
            <a:ext cx="2340000" cy="1555920"/>
          </a:xfrm>
          <a:prstGeom prst="rect">
            <a:avLst/>
          </a:prstGeom>
          <a:ln w="0">
            <a:noFill/>
          </a:ln>
        </p:spPr>
      </p:pic>
      <p:pic>
        <p:nvPicPr>
          <p:cNvPr id="204" name="CoreComp_Fig%203.2" descr=""/>
          <p:cNvPicPr/>
          <p:nvPr/>
        </p:nvPicPr>
        <p:blipFill>
          <a:blip r:embed="rId2"/>
          <a:stretch/>
        </p:blipFill>
        <p:spPr>
          <a:xfrm>
            <a:off x="1368360" y="3016080"/>
            <a:ext cx="1654200" cy="841680"/>
          </a:xfrm>
          <a:prstGeom prst="rect">
            <a:avLst/>
          </a:prstGeom>
          <a:ln w="0">
            <a:noFill/>
          </a:ln>
        </p:spPr>
      </p:pic>
      <p:pic>
        <p:nvPicPr>
          <p:cNvPr id="205" name="Capabilities_Fig%203.2" descr=""/>
          <p:cNvPicPr/>
          <p:nvPr/>
        </p:nvPicPr>
        <p:blipFill>
          <a:blip r:embed="rId3"/>
          <a:stretch/>
        </p:blipFill>
        <p:spPr>
          <a:xfrm>
            <a:off x="1382760" y="4102200"/>
            <a:ext cx="1625400" cy="826920"/>
          </a:xfrm>
          <a:prstGeom prst="rect">
            <a:avLst/>
          </a:prstGeom>
          <a:ln w="0">
            <a:noFill/>
          </a:ln>
        </p:spPr>
      </p:pic>
      <p:pic>
        <p:nvPicPr>
          <p:cNvPr id="206" name="Resources_Fig%203.2" descr=""/>
          <p:cNvPicPr/>
          <p:nvPr/>
        </p:nvPicPr>
        <p:blipFill>
          <a:blip r:embed="rId4"/>
          <a:stretch/>
        </p:blipFill>
        <p:spPr>
          <a:xfrm>
            <a:off x="1360440" y="5151600"/>
            <a:ext cx="1668600" cy="106488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2195640" y="2695680"/>
            <a:ext cx="0" cy="314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195640" y="3776760"/>
            <a:ext cx="0" cy="318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195640" y="4853160"/>
            <a:ext cx="0" cy="295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611754-F048-4E16-A03E-84987E9685E8}" type="slidenum">
              <a:t>20</a:t>
            </a:fld>
          </a:p>
        </p:txBody>
      </p:sp>
    </p:spTree>
  </p:cSld>
  <p:transition>
    <p:dissolve/>
  </p:transition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0"/>
                      </p:stCondLst>
                      <p:childTnLst>
                        <p:par>
                          <p:cTn id="346" fill="hold">
                            <p:stCondLst>
                              <p:cond delay="4000"/>
                            </p:stCondLst>
                            <p:childTnLst>
                              <p:par>
                                <p:cTn id="34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4500"/>
                            </p:stCondLst>
                            <p:childTnLst>
                              <p:par>
                                <p:cTn id="35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5000"/>
                            </p:stCondLst>
                            <p:childTnLst>
                              <p:par>
                                <p:cTn id="36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5500"/>
                            </p:stCondLst>
                            <p:childTnLst>
                              <p:par>
                                <p:cTn id="36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3160" y="519120"/>
            <a:ext cx="800100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Resources, Capabilities and Core Competencie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733560" y="1371600"/>
            <a:ext cx="46479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2120" indent="-22212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84040">
              <a:spcBef>
                <a:spcPts val="601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The foundation of many capabilities lies in: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2" marL="974880" indent="-235080">
              <a:spcBef>
                <a:spcPts val="499"/>
              </a:spcBef>
              <a:buClr>
                <a:srgbClr val="5f5f5f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unique skills and knowledge of a firm’s employ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235080">
              <a:spcBef>
                <a:spcPts val="499"/>
              </a:spcBef>
              <a:buClr>
                <a:srgbClr val="5f5f5f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functional expertise of those employ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84040">
              <a:spcBef>
                <a:spcPts val="601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Capabilities are often developed in specific functional areas or as part of a functional area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235160" y="3965400"/>
            <a:ext cx="1860480" cy="10814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DiscCore_Fig%203.2" descr=""/>
          <p:cNvPicPr/>
          <p:nvPr/>
        </p:nvPicPr>
        <p:blipFill>
          <a:blip r:embed="rId1"/>
          <a:stretch/>
        </p:blipFill>
        <p:spPr>
          <a:xfrm>
            <a:off x="1025640" y="1225440"/>
            <a:ext cx="2340000" cy="1555920"/>
          </a:xfrm>
          <a:prstGeom prst="rect">
            <a:avLst/>
          </a:prstGeom>
          <a:ln w="0">
            <a:noFill/>
          </a:ln>
        </p:spPr>
      </p:pic>
      <p:pic>
        <p:nvPicPr>
          <p:cNvPr id="214" name="CoreComp_Fig%203.2" descr=""/>
          <p:cNvPicPr/>
          <p:nvPr/>
        </p:nvPicPr>
        <p:blipFill>
          <a:blip r:embed="rId2"/>
          <a:stretch/>
        </p:blipFill>
        <p:spPr>
          <a:xfrm>
            <a:off x="1368360" y="3016080"/>
            <a:ext cx="1654200" cy="841680"/>
          </a:xfrm>
          <a:prstGeom prst="rect">
            <a:avLst/>
          </a:prstGeom>
          <a:ln w="0">
            <a:noFill/>
          </a:ln>
        </p:spPr>
      </p:pic>
      <p:pic>
        <p:nvPicPr>
          <p:cNvPr id="215" name="Capabilities_Fig%203.2" descr=""/>
          <p:cNvPicPr/>
          <p:nvPr/>
        </p:nvPicPr>
        <p:blipFill>
          <a:blip r:embed="rId3"/>
          <a:stretch/>
        </p:blipFill>
        <p:spPr>
          <a:xfrm>
            <a:off x="1382760" y="4102200"/>
            <a:ext cx="1625400" cy="826920"/>
          </a:xfrm>
          <a:prstGeom prst="rect">
            <a:avLst/>
          </a:prstGeom>
          <a:ln w="0">
            <a:noFill/>
          </a:ln>
        </p:spPr>
      </p:pic>
      <p:pic>
        <p:nvPicPr>
          <p:cNvPr id="216" name="Resources_Fig%203.2" descr=""/>
          <p:cNvPicPr/>
          <p:nvPr/>
        </p:nvPicPr>
        <p:blipFill>
          <a:blip r:embed="rId4"/>
          <a:stretch/>
        </p:blipFill>
        <p:spPr>
          <a:xfrm>
            <a:off x="1360440" y="5151600"/>
            <a:ext cx="1668600" cy="106488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2195640" y="2695680"/>
            <a:ext cx="0" cy="314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195640" y="3776760"/>
            <a:ext cx="0" cy="318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195640" y="4853160"/>
            <a:ext cx="0" cy="295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1C3163-3499-4154-B4CD-4FF51D425A21}" type="slidenum">
              <a:t>21</a:t>
            </a:fld>
          </a:p>
        </p:txBody>
      </p:sp>
    </p:spTree>
  </p:cSld>
  <p:transition>
    <p:dissolve/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0"/>
                      </p:stCondLst>
                      <p:childTnLst>
                        <p:par>
                          <p:cTn id="377" fill="hold">
                            <p:stCondLst>
                              <p:cond delay="4000"/>
                            </p:stCondLst>
                            <p:childTnLst>
                              <p:par>
                                <p:cTn id="37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4500"/>
                            </p:stCondLst>
                            <p:childTnLst>
                              <p:par>
                                <p:cTn id="3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7" dur="5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5000"/>
                            </p:stCondLst>
                            <p:childTnLst>
                              <p:par>
                                <p:cTn id="3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1" dur="5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5500"/>
                            </p:stCondLst>
                            <p:childTnLst>
                              <p:par>
                                <p:cTn id="3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5" dur="50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6000"/>
                            </p:stCondLst>
                            <p:childTnLst>
                              <p:par>
                                <p:cTn id="3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9" dur="500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457200" y="501480"/>
            <a:ext cx="7696080" cy="580716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193840"/>
            <a:ext cx="2057400" cy="1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Examples of Firms’ Capabilities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2" name=""/>
          <p:cNvSpPr/>
          <p:nvPr/>
        </p:nvSpPr>
        <p:spPr>
          <a:xfrm>
            <a:off x="533520" y="606420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Table 3.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F16453-BAA7-4134-8154-D576EA857567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3160" y="519120"/>
            <a:ext cx="800100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Resources, Capabilities and Core Competencie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352680" y="1371600"/>
            <a:ext cx="518184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2120" indent="-222120">
              <a:spcBef>
                <a:spcPts val="14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re Competenc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87280">
              <a:spcBef>
                <a:spcPts val="1199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Resources and capabilities that serve as a source of a firm’s competitive advantage: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2" marL="974880" indent="-235080">
              <a:spcBef>
                <a:spcPts val="1001"/>
              </a:spcBef>
              <a:buClr>
                <a:srgbClr val="5f5f5f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tinguish a company competitively and reflect its pers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235080">
              <a:spcBef>
                <a:spcPts val="1001"/>
              </a:spcBef>
              <a:buClr>
                <a:srgbClr val="5f5f5f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merge over time through an organizational process of accumulating and learning how to deploy different resources and capabil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235160" y="2886120"/>
            <a:ext cx="1860480" cy="10810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DiscCore_Fig%203.2" descr=""/>
          <p:cNvPicPr/>
          <p:nvPr/>
        </p:nvPicPr>
        <p:blipFill>
          <a:blip r:embed="rId1"/>
          <a:stretch/>
        </p:blipFill>
        <p:spPr>
          <a:xfrm>
            <a:off x="1025640" y="1225440"/>
            <a:ext cx="2340000" cy="1555920"/>
          </a:xfrm>
          <a:prstGeom prst="rect">
            <a:avLst/>
          </a:prstGeom>
          <a:ln w="0">
            <a:noFill/>
          </a:ln>
        </p:spPr>
      </p:pic>
      <p:pic>
        <p:nvPicPr>
          <p:cNvPr id="227" name="CoreComp_Fig%203.2" descr=""/>
          <p:cNvPicPr/>
          <p:nvPr/>
        </p:nvPicPr>
        <p:blipFill>
          <a:blip r:embed="rId2"/>
          <a:stretch/>
        </p:blipFill>
        <p:spPr>
          <a:xfrm>
            <a:off x="1368360" y="3016080"/>
            <a:ext cx="1654200" cy="841680"/>
          </a:xfrm>
          <a:prstGeom prst="rect">
            <a:avLst/>
          </a:prstGeom>
          <a:ln w="0">
            <a:noFill/>
          </a:ln>
        </p:spPr>
      </p:pic>
      <p:pic>
        <p:nvPicPr>
          <p:cNvPr id="228" name="Capabilities_Fig%203.2" descr=""/>
          <p:cNvPicPr/>
          <p:nvPr/>
        </p:nvPicPr>
        <p:blipFill>
          <a:blip r:embed="rId3"/>
          <a:stretch/>
        </p:blipFill>
        <p:spPr>
          <a:xfrm>
            <a:off x="1382760" y="4102200"/>
            <a:ext cx="1625400" cy="826920"/>
          </a:xfrm>
          <a:prstGeom prst="rect">
            <a:avLst/>
          </a:prstGeom>
          <a:ln w="0">
            <a:noFill/>
          </a:ln>
        </p:spPr>
      </p:pic>
      <p:pic>
        <p:nvPicPr>
          <p:cNvPr id="229" name="Resources_Fig%203.2" descr=""/>
          <p:cNvPicPr/>
          <p:nvPr/>
        </p:nvPicPr>
        <p:blipFill>
          <a:blip r:embed="rId4"/>
          <a:stretch/>
        </p:blipFill>
        <p:spPr>
          <a:xfrm>
            <a:off x="1360440" y="5151600"/>
            <a:ext cx="1668600" cy="106488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2195640" y="2695680"/>
            <a:ext cx="0" cy="314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195640" y="3776760"/>
            <a:ext cx="0" cy="318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195640" y="4853160"/>
            <a:ext cx="0" cy="295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332D9-F2F5-4809-8BC0-B4D7D2C6A530}" type="slidenum">
              <a:t>23</a:t>
            </a:fld>
          </a:p>
        </p:txBody>
      </p:sp>
    </p:spTree>
  </p:cSld>
  <p:transition>
    <p:dissolve/>
  </p:transition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0"/>
                      </p:stCondLst>
                      <p:childTnLst>
                        <p:par>
                          <p:cTn id="403" fill="hold">
                            <p:stCondLst>
                              <p:cond delay="4000"/>
                            </p:stCondLst>
                            <p:childTnLst>
                              <p:par>
                                <p:cTn id="4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6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4500"/>
                            </p:stCondLst>
                            <p:childTnLst>
                              <p:par>
                                <p:cTn id="4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0" dur="5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5000"/>
                            </p:stCondLst>
                            <p:childTnLst>
                              <p:par>
                                <p:cTn id="4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4" dur="5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5500"/>
                            </p:stCondLst>
                            <p:childTnLst>
                              <p:par>
                                <p:cTn id="4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8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3160" y="519120"/>
            <a:ext cx="800100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Resources, Capabilities and Core Competencie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352680" y="137124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2120" indent="-222120">
              <a:spcBef>
                <a:spcPts val="14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re Competenc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87280">
              <a:spcBef>
                <a:spcPts val="1199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Activities that a firm performs especially well compared to competitors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623880" indent="-287280">
              <a:spcBef>
                <a:spcPts val="1199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Activities through which the firm adds unique value to its goods or services over a long period of time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235160" y="2886120"/>
            <a:ext cx="1860480" cy="10810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DiscCore_Fig%203.2" descr=""/>
          <p:cNvPicPr/>
          <p:nvPr/>
        </p:nvPicPr>
        <p:blipFill>
          <a:blip r:embed="rId1"/>
          <a:stretch/>
        </p:blipFill>
        <p:spPr>
          <a:xfrm>
            <a:off x="1025640" y="1225440"/>
            <a:ext cx="2340000" cy="1555920"/>
          </a:xfrm>
          <a:prstGeom prst="rect">
            <a:avLst/>
          </a:prstGeom>
          <a:ln w="0">
            <a:noFill/>
          </a:ln>
        </p:spPr>
      </p:pic>
      <p:pic>
        <p:nvPicPr>
          <p:cNvPr id="237" name="CoreComp_Fig%203.2" descr=""/>
          <p:cNvPicPr/>
          <p:nvPr/>
        </p:nvPicPr>
        <p:blipFill>
          <a:blip r:embed="rId2"/>
          <a:stretch/>
        </p:blipFill>
        <p:spPr>
          <a:xfrm>
            <a:off x="1368360" y="3016080"/>
            <a:ext cx="1654200" cy="841680"/>
          </a:xfrm>
          <a:prstGeom prst="rect">
            <a:avLst/>
          </a:prstGeom>
          <a:ln w="0">
            <a:noFill/>
          </a:ln>
        </p:spPr>
      </p:pic>
      <p:pic>
        <p:nvPicPr>
          <p:cNvPr id="238" name="Capabilities_Fig%203.2" descr=""/>
          <p:cNvPicPr/>
          <p:nvPr/>
        </p:nvPicPr>
        <p:blipFill>
          <a:blip r:embed="rId3"/>
          <a:stretch/>
        </p:blipFill>
        <p:spPr>
          <a:xfrm>
            <a:off x="1382760" y="4102200"/>
            <a:ext cx="1625400" cy="826920"/>
          </a:xfrm>
          <a:prstGeom prst="rect">
            <a:avLst/>
          </a:prstGeom>
          <a:ln w="0">
            <a:noFill/>
          </a:ln>
        </p:spPr>
      </p:pic>
      <p:pic>
        <p:nvPicPr>
          <p:cNvPr id="239" name="Resources_Fig%203.2" descr=""/>
          <p:cNvPicPr/>
          <p:nvPr/>
        </p:nvPicPr>
        <p:blipFill>
          <a:blip r:embed="rId4"/>
          <a:stretch/>
        </p:blipFill>
        <p:spPr>
          <a:xfrm>
            <a:off x="1360440" y="5151600"/>
            <a:ext cx="1668600" cy="106488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2195640" y="2695680"/>
            <a:ext cx="0" cy="314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195640" y="3776760"/>
            <a:ext cx="0" cy="318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195640" y="4853160"/>
            <a:ext cx="0" cy="295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C32A4-EEA1-4003-BAFC-B839167D072B}" type="slidenum">
              <a:t>24</a:t>
            </a:fld>
          </a:p>
        </p:txBody>
      </p:sp>
    </p:spTree>
  </p:cSld>
  <p:transition>
    <p:dissolve/>
  </p:transition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0"/>
                      </p:stCondLst>
                      <p:childTnLst>
                        <p:par>
                          <p:cTn id="422" fill="hold">
                            <p:stCondLst>
                              <p:cond delay="4000"/>
                            </p:stCondLst>
                            <p:childTnLst>
                              <p:par>
                                <p:cTn id="4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5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3160" y="519120"/>
            <a:ext cx="80010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Building Sustainable Competitive Advant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114440" y="1371600"/>
            <a:ext cx="4419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2120" indent="-22212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 Criteria of Sustainable Competitive Advanta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84040">
              <a:spcBef>
                <a:spcPts val="601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Valuable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625320" indent="-284040">
              <a:spcBef>
                <a:spcPts val="601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Rare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625320" indent="-284040">
              <a:spcBef>
                <a:spcPts val="601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Costly to imitate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625320" indent="-284040">
              <a:spcBef>
                <a:spcPts val="601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Nonsubstituable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245" name="DiscCore_Fig%203.2" descr=""/>
          <p:cNvPicPr/>
          <p:nvPr/>
        </p:nvPicPr>
        <p:blipFill>
          <a:blip r:embed="rId1"/>
          <a:stretch/>
        </p:blipFill>
        <p:spPr>
          <a:xfrm>
            <a:off x="1065240" y="1225440"/>
            <a:ext cx="2340000" cy="1555920"/>
          </a:xfrm>
          <a:prstGeom prst="rect">
            <a:avLst/>
          </a:prstGeom>
          <a:ln w="0">
            <a:noFill/>
          </a:ln>
        </p:spPr>
      </p:pic>
      <p:pic>
        <p:nvPicPr>
          <p:cNvPr id="246" name="FourCrit_Fig%203.2" descr=""/>
          <p:cNvPicPr/>
          <p:nvPr/>
        </p:nvPicPr>
        <p:blipFill>
          <a:blip r:embed="rId2"/>
          <a:stretch/>
        </p:blipFill>
        <p:spPr>
          <a:xfrm>
            <a:off x="1130400" y="3011400"/>
            <a:ext cx="2208240" cy="1467000"/>
          </a:xfrm>
          <a:prstGeom prst="rect">
            <a:avLst/>
          </a:prstGeom>
          <a:ln w="0">
            <a:noFill/>
          </a:ln>
        </p:spPr>
      </p:pic>
      <p:pic>
        <p:nvPicPr>
          <p:cNvPr id="247" name="Valuable_Fig%203.2" descr=""/>
          <p:cNvPicPr/>
          <p:nvPr/>
        </p:nvPicPr>
        <p:blipFill>
          <a:blip r:embed="rId3"/>
          <a:stretch/>
        </p:blipFill>
        <p:spPr>
          <a:xfrm>
            <a:off x="1058760" y="4708440"/>
            <a:ext cx="2352600" cy="148140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2235240" y="2700360"/>
            <a:ext cx="0" cy="324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235240" y="4410000"/>
            <a:ext cx="0" cy="309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914400" y="4578480"/>
            <a:ext cx="2608200" cy="16905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7099F-A123-48F7-9A73-5C442365B6CC}" type="slidenum">
              <a:t>25</a:t>
            </a:fld>
          </a:p>
        </p:txBody>
      </p:sp>
    </p:spTree>
  </p:cSld>
  <p:transition>
    <p:dissolve/>
  </p:transition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0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3500"/>
                            </p:stCondLst>
                            <p:childTnLst>
                              <p:par>
                                <p:cTn id="43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4000"/>
                            </p:stCondLst>
                            <p:childTnLst>
                              <p:par>
                                <p:cTn id="44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4500"/>
                            </p:stCondLst>
                            <p:childTnLst>
                              <p:par>
                                <p:cTn id="45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459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The Four Criteria of Sustainable Competitive Advantage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2" name=""/>
          <p:cNvSpPr/>
          <p:nvPr/>
        </p:nvSpPr>
        <p:spPr>
          <a:xfrm>
            <a:off x="609480" y="1295280"/>
            <a:ext cx="77724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35480"/>
                <a:tab algn="l" pos="3602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5480"/>
                <a:tab algn="l" pos="3602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luable Capabiliti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p a firm neutralize threats or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loit opportun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5480"/>
                <a:tab algn="l" pos="3602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5480"/>
                <a:tab algn="l" pos="3602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re Capabiliti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 not possessed by many oth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5480"/>
                <a:tab algn="l" pos="3602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5480"/>
                <a:tab algn="l" pos="3602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stly-to-Imitate Capabiliti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storical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 unique and a valuabl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anizational culture or brand nam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mbiguous caus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e causes an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of a competence are uncle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5480"/>
                <a:tab algn="l" pos="3602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cial complexity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rpersona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ionships, trust, and friendship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ong managers, suppliers, an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5480"/>
                <a:tab algn="l" pos="3602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5480"/>
                <a:tab algn="l" pos="3602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nsubstitutable Capabiliti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strategic equival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467480" y="606420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Table 3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DD186A-245B-4062-A1EB-4AB882A33F39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33160" y="519120"/>
            <a:ext cx="80010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Building Sustainable Competitive Advant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939840" y="1371600"/>
            <a:ext cx="4267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2120" indent="-22212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aluable capabilit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84040">
              <a:spcBef>
                <a:spcPts val="601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Help a firm neutralize threats or exploit opportunities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222120" indent="-22212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are capabilit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84040">
              <a:spcBef>
                <a:spcPts val="601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Are not possessed by many others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256" name="DiscCore_Fig%203.2" descr=""/>
          <p:cNvPicPr/>
          <p:nvPr/>
        </p:nvPicPr>
        <p:blipFill>
          <a:blip r:embed="rId1"/>
          <a:stretch/>
        </p:blipFill>
        <p:spPr>
          <a:xfrm>
            <a:off x="1065240" y="1225440"/>
            <a:ext cx="2340000" cy="1555920"/>
          </a:xfrm>
          <a:prstGeom prst="rect">
            <a:avLst/>
          </a:prstGeom>
          <a:ln w="0">
            <a:noFill/>
          </a:ln>
        </p:spPr>
      </p:pic>
      <p:pic>
        <p:nvPicPr>
          <p:cNvPr id="257" name="FourCrit_Fig%203.2" descr=""/>
          <p:cNvPicPr/>
          <p:nvPr/>
        </p:nvPicPr>
        <p:blipFill>
          <a:blip r:embed="rId2"/>
          <a:stretch/>
        </p:blipFill>
        <p:spPr>
          <a:xfrm>
            <a:off x="1130400" y="3011400"/>
            <a:ext cx="2208240" cy="1467000"/>
          </a:xfrm>
          <a:prstGeom prst="rect">
            <a:avLst/>
          </a:prstGeom>
          <a:ln w="0">
            <a:noFill/>
          </a:ln>
        </p:spPr>
      </p:pic>
      <p:pic>
        <p:nvPicPr>
          <p:cNvPr id="258" name="Valuable_Fig%203.2" descr=""/>
          <p:cNvPicPr/>
          <p:nvPr/>
        </p:nvPicPr>
        <p:blipFill>
          <a:blip r:embed="rId3"/>
          <a:stretch/>
        </p:blipFill>
        <p:spPr>
          <a:xfrm>
            <a:off x="1058760" y="4708440"/>
            <a:ext cx="2352600" cy="14814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2235240" y="2700360"/>
            <a:ext cx="0" cy="324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235240" y="4410000"/>
            <a:ext cx="0" cy="309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914400" y="4578480"/>
            <a:ext cx="2608200" cy="16905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5ACA96-026B-469F-9EBE-F1A1705E516C}" type="slidenum">
              <a:t>27</a:t>
            </a:fld>
          </a:p>
        </p:txBody>
      </p:sp>
    </p:spTree>
  </p:cSld>
  <p:transition>
    <p:dissolve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0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33160" y="519120"/>
            <a:ext cx="80010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Building Sustainable Competitive Advant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919320" y="1208160"/>
            <a:ext cx="4800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06280" indent="-2062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stly-to-Imitate Capabilit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81400" indent="-263880">
              <a:spcBef>
                <a:spcPts val="601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Historical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2" marL="906480" indent="-218520">
              <a:spcBef>
                <a:spcPts val="499"/>
              </a:spcBef>
              <a:buClr>
                <a:srgbClr val="5f5f5f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unique and a valuable organizational culture or brand na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81400" indent="-263880">
              <a:spcBef>
                <a:spcPts val="601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Ambiguous cause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2" marL="906480" indent="-218520">
              <a:spcBef>
                <a:spcPts val="499"/>
              </a:spcBef>
              <a:buClr>
                <a:srgbClr val="5f5f5f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causes and uses of a competence are unclea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81400" indent="-263880">
              <a:spcBef>
                <a:spcPts val="601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Social complexity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2" marL="906480" indent="-218520">
              <a:spcBef>
                <a:spcPts val="499"/>
              </a:spcBef>
              <a:buClr>
                <a:srgbClr val="5f5f5f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personal relationships, trust, and friendship among managers, suppliers, and custom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DiscCore_Fig%203.2" descr=""/>
          <p:cNvPicPr/>
          <p:nvPr/>
        </p:nvPicPr>
        <p:blipFill>
          <a:blip r:embed="rId1"/>
          <a:stretch/>
        </p:blipFill>
        <p:spPr>
          <a:xfrm>
            <a:off x="1065240" y="1225440"/>
            <a:ext cx="2340000" cy="1555920"/>
          </a:xfrm>
          <a:prstGeom prst="rect">
            <a:avLst/>
          </a:prstGeom>
          <a:ln w="0">
            <a:noFill/>
          </a:ln>
        </p:spPr>
      </p:pic>
      <p:pic>
        <p:nvPicPr>
          <p:cNvPr id="265" name="FourCrit_Fig%203.2" descr=""/>
          <p:cNvPicPr/>
          <p:nvPr/>
        </p:nvPicPr>
        <p:blipFill>
          <a:blip r:embed="rId2"/>
          <a:stretch/>
        </p:blipFill>
        <p:spPr>
          <a:xfrm>
            <a:off x="1130400" y="3011400"/>
            <a:ext cx="2208240" cy="1467000"/>
          </a:xfrm>
          <a:prstGeom prst="rect">
            <a:avLst/>
          </a:prstGeom>
          <a:ln w="0">
            <a:noFill/>
          </a:ln>
        </p:spPr>
      </p:pic>
      <p:pic>
        <p:nvPicPr>
          <p:cNvPr id="266" name="Valuable_Fig%203.2" descr=""/>
          <p:cNvPicPr/>
          <p:nvPr/>
        </p:nvPicPr>
        <p:blipFill>
          <a:blip r:embed="rId3"/>
          <a:stretch/>
        </p:blipFill>
        <p:spPr>
          <a:xfrm>
            <a:off x="1058760" y="4708440"/>
            <a:ext cx="2352600" cy="148140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2235240" y="2700360"/>
            <a:ext cx="0" cy="324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235240" y="4410000"/>
            <a:ext cx="0" cy="309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914400" y="4578480"/>
            <a:ext cx="2608200" cy="16905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726F62-C792-4D70-BFFF-F4FBF57E88CE}" type="slidenum">
              <a:t>28</a:t>
            </a:fld>
          </a:p>
        </p:txBody>
      </p:sp>
    </p:spTree>
  </p:cSld>
  <p:transition>
    <p:dissolve/>
  </p:transition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33160" y="519120"/>
            <a:ext cx="80010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Building Sustainable Competitive Advant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733920" y="1371600"/>
            <a:ext cx="5029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2120" indent="-22212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nsubstitutable Capabilit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84040">
              <a:spcBef>
                <a:spcPts val="601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No strategic equivalent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272" name="DiscCore_Fig%203.2" descr=""/>
          <p:cNvPicPr/>
          <p:nvPr/>
        </p:nvPicPr>
        <p:blipFill>
          <a:blip r:embed="rId1"/>
          <a:stretch/>
        </p:blipFill>
        <p:spPr>
          <a:xfrm>
            <a:off x="1065240" y="1225440"/>
            <a:ext cx="2340000" cy="1555920"/>
          </a:xfrm>
          <a:prstGeom prst="rect">
            <a:avLst/>
          </a:prstGeom>
          <a:ln w="0">
            <a:noFill/>
          </a:ln>
        </p:spPr>
      </p:pic>
      <p:pic>
        <p:nvPicPr>
          <p:cNvPr id="273" name="FourCrit_Fig%203.2" descr=""/>
          <p:cNvPicPr/>
          <p:nvPr/>
        </p:nvPicPr>
        <p:blipFill>
          <a:blip r:embed="rId2"/>
          <a:stretch/>
        </p:blipFill>
        <p:spPr>
          <a:xfrm>
            <a:off x="1130400" y="3011400"/>
            <a:ext cx="2208240" cy="1467000"/>
          </a:xfrm>
          <a:prstGeom prst="rect">
            <a:avLst/>
          </a:prstGeom>
          <a:ln w="0">
            <a:noFill/>
          </a:ln>
        </p:spPr>
      </p:pic>
      <p:pic>
        <p:nvPicPr>
          <p:cNvPr id="274" name="Valuable_Fig%203.2" descr=""/>
          <p:cNvPicPr/>
          <p:nvPr/>
        </p:nvPicPr>
        <p:blipFill>
          <a:blip r:embed="rId3"/>
          <a:stretch/>
        </p:blipFill>
        <p:spPr>
          <a:xfrm>
            <a:off x="1058760" y="4708440"/>
            <a:ext cx="2352600" cy="148140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2235240" y="2700360"/>
            <a:ext cx="0" cy="324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235240" y="4410000"/>
            <a:ext cx="0" cy="309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914400" y="4578480"/>
            <a:ext cx="2608200" cy="16905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0E12F2-2C23-406A-A906-DDE60CB4CEE9}" type="slidenum">
              <a:t>29</a:t>
            </a:fld>
          </a:p>
        </p:txBody>
      </p:sp>
    </p:spTree>
  </p:cSld>
  <p:transition>
    <p:dissolve/>
  </p:transition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0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500"/>
                            </p:stCondLst>
                            <p:childTnLst>
                              <p:par>
                                <p:cTn id="58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160" y="519120"/>
            <a:ext cx="80010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ahoma"/>
              </a:rPr>
              <a:t>Knowledge Objectives (cont’d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2120" indent="-22212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27040" y="2254320"/>
            <a:ext cx="80010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625320" indent="-284040">
              <a:lnSpc>
                <a:spcPct val="100000"/>
              </a:lnSpc>
              <a:spcBef>
                <a:spcPts val="1250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6699"/>
                </a:solidFill>
                <a:latin typeface="Arial"/>
              </a:rPr>
              <a:t>Explain how value chain analysis is used to identify and evaluate resources and capabiliti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284040">
              <a:lnSpc>
                <a:spcPct val="100000"/>
              </a:lnSpc>
              <a:spcBef>
                <a:spcPts val="1250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6699"/>
                </a:solidFill>
                <a:latin typeface="Arial"/>
              </a:rPr>
              <a:t>Define outsourcing and discuss the reasons for its u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284040">
              <a:lnSpc>
                <a:spcPct val="100000"/>
              </a:lnSpc>
              <a:spcBef>
                <a:spcPts val="1250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6699"/>
                </a:solidFill>
                <a:latin typeface="Arial"/>
              </a:rPr>
              <a:t>Discuss the importance of preventing core competencies from becoming core rigiditi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A0A02-9A2B-4219-8E0E-03BC4FB86964}" type="slidenum">
              <a:t>3</a:t>
            </a:fld>
          </a:p>
        </p:txBody>
      </p:sp>
    </p:spTree>
  </p:cSld>
  <p:transition>
    <p:dissolv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536400" y="4832280"/>
            <a:ext cx="8077320" cy="65736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533520" y="1370520"/>
            <a:ext cx="8074080" cy="74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f5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33160" y="519120"/>
            <a:ext cx="8001000" cy="825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Outcomes from Combinations of the Criteria for Sustainable Competitive Advantage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"/>
          <p:cNvSpPr/>
          <p:nvPr/>
        </p:nvSpPr>
        <p:spPr>
          <a:xfrm>
            <a:off x="7467480" y="606420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Table 3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457200" y="1984320"/>
            <a:ext cx="8156520" cy="1141560"/>
            <a:chOff x="457200" y="1984320"/>
            <a:chExt cx="8156520" cy="1141560"/>
          </a:xfrm>
        </p:grpSpPr>
        <p:pic>
          <p:nvPicPr>
            <p:cNvPr id="284" name="" descr=""/>
            <p:cNvPicPr/>
            <p:nvPr/>
          </p:nvPicPr>
          <p:blipFill>
            <a:blip r:embed="rId2"/>
            <a:stretch/>
          </p:blipFill>
          <p:spPr>
            <a:xfrm>
              <a:off x="536400" y="1984320"/>
              <a:ext cx="8077320" cy="114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5" name=""/>
            <p:cNvSpPr/>
            <p:nvPr/>
          </p:nvSpPr>
          <p:spPr>
            <a:xfrm>
              <a:off x="457200" y="3048120"/>
              <a:ext cx="8153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57200" y="3048120"/>
              <a:ext cx="815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457200" y="3070080"/>
            <a:ext cx="8156520" cy="574920"/>
            <a:chOff x="457200" y="3070080"/>
            <a:chExt cx="8156520" cy="574920"/>
          </a:xfrm>
        </p:grpSpPr>
        <p:pic>
          <p:nvPicPr>
            <p:cNvPr id="288" name="" descr=""/>
            <p:cNvPicPr/>
            <p:nvPr/>
          </p:nvPicPr>
          <p:blipFill>
            <a:blip r:embed="rId3"/>
            <a:stretch/>
          </p:blipFill>
          <p:spPr>
            <a:xfrm>
              <a:off x="536400" y="3070080"/>
              <a:ext cx="8077320" cy="57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"/>
            <p:cNvSpPr/>
            <p:nvPr/>
          </p:nvSpPr>
          <p:spPr>
            <a:xfrm>
              <a:off x="457200" y="3581280"/>
              <a:ext cx="8153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57200" y="3581280"/>
              <a:ext cx="815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457200" y="3608280"/>
            <a:ext cx="8156520" cy="584280"/>
            <a:chOff x="457200" y="3608280"/>
            <a:chExt cx="8156520" cy="584280"/>
          </a:xfrm>
        </p:grpSpPr>
        <p:pic>
          <p:nvPicPr>
            <p:cNvPr id="292" name="" descr=""/>
            <p:cNvPicPr/>
            <p:nvPr/>
          </p:nvPicPr>
          <p:blipFill>
            <a:blip r:embed="rId4"/>
            <a:stretch/>
          </p:blipFill>
          <p:spPr>
            <a:xfrm>
              <a:off x="536400" y="3608280"/>
              <a:ext cx="8077320" cy="58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3" name=""/>
            <p:cNvSpPr/>
            <p:nvPr/>
          </p:nvSpPr>
          <p:spPr>
            <a:xfrm>
              <a:off x="457200" y="4114800"/>
              <a:ext cx="8153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57200" y="4114800"/>
              <a:ext cx="815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457200" y="4127400"/>
            <a:ext cx="8156520" cy="741600"/>
            <a:chOff x="457200" y="4127400"/>
            <a:chExt cx="8156520" cy="741600"/>
          </a:xfrm>
        </p:grpSpPr>
        <p:pic>
          <p:nvPicPr>
            <p:cNvPr id="296" name="" descr=""/>
            <p:cNvPicPr/>
            <p:nvPr/>
          </p:nvPicPr>
          <p:blipFill>
            <a:blip r:embed="rId5"/>
            <a:stretch/>
          </p:blipFill>
          <p:spPr>
            <a:xfrm>
              <a:off x="536400" y="4127400"/>
              <a:ext cx="8077320" cy="74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"/>
            <p:cNvSpPr/>
            <p:nvPr/>
          </p:nvSpPr>
          <p:spPr>
            <a:xfrm>
              <a:off x="457200" y="4800600"/>
              <a:ext cx="8153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57200" y="4800600"/>
              <a:ext cx="815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2005BB-D31A-4851-A87D-38E5DDEF7D8A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3160" y="519120"/>
            <a:ext cx="80010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Value Chain Analysi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2120" indent="-222120">
              <a:spcBef>
                <a:spcPts val="174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lows the firm to understand the parts of its operations that create value and those that do no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2120" indent="-222120">
              <a:spcBef>
                <a:spcPts val="174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template that firms use to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84040">
              <a:spcBef>
                <a:spcPts val="1500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Understand their cost position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625320" indent="-284040">
              <a:spcBef>
                <a:spcPts val="1500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Identify multiple means that might be used to facilitate implementation of a chosen business-level strategy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898088-98FF-4472-BBDE-7A74944A3FF9}" type="slidenum">
              <a:t>31</a:t>
            </a:fld>
          </a:p>
        </p:txBody>
      </p:sp>
    </p:spTree>
  </p:cSld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00" dur="50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05" dur="500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10" dur="500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15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3160" y="519120"/>
            <a:ext cx="80010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Value Chain Analysis (cont’d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2120" indent="-222120">
              <a:spcBef>
                <a:spcPts val="174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imary activities involved with: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84040">
              <a:spcBef>
                <a:spcPts val="1500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A product’s physical creation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625320" indent="-284040">
              <a:spcBef>
                <a:spcPts val="1500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A product’s sale and distribution to buyers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625320" indent="-284040">
              <a:spcBef>
                <a:spcPts val="1500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The product’s service after the sale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222120" indent="-222120">
              <a:spcBef>
                <a:spcPts val="174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activit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84040">
              <a:spcBef>
                <a:spcPts val="1500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Provide the support necessary for the primary activities to take place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AFEDC7-4174-4185-A798-345B6CE9EFCE}" type="slidenum">
              <a:t>32</a:t>
            </a:fld>
          </a:p>
        </p:txBody>
      </p:sp>
    </p:spTree>
  </p:cSld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22" dur="50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27" dur="500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32" dur="500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37" dur="500"/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42" dur="500"/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47" dur="500"/>
                                        <p:tgtEl>
                                          <p:spTgt spid="3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3160" y="519120"/>
            <a:ext cx="80010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Value Chain Analysis (cont’d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2120" indent="-222120">
              <a:spcBef>
                <a:spcPts val="174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alue chai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84040">
              <a:spcBef>
                <a:spcPts val="1500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Shows how a product moves from raw-material stage to the final customer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222120" indent="-222120">
              <a:spcBef>
                <a:spcPts val="174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be a source of competitive advantage, a resource or capability must allow the firm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84040">
              <a:spcBef>
                <a:spcPts val="1500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To perform an activity in a manner that is superior to the way competitors perform it, or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625320" indent="-284040">
              <a:spcBef>
                <a:spcPts val="1500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To perform a value-creating activity that competitors cannot complete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030CBB-2A15-4DEF-AD60-B65860727522}" type="slidenum">
              <a:t>33</a:t>
            </a:fld>
          </a:p>
        </p:txBody>
      </p:sp>
    </p:spTree>
  </p:cSld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54" dur="5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59" dur="500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64" dur="500"/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69" dur="500"/>
                                        <p:tgtEl>
                                          <p:spTgt spid="3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74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5718240" y="5708520"/>
            <a:ext cx="2367000" cy="61920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/>
          <p:nvPr/>
        </p:nvSpPr>
        <p:spPr>
          <a:xfrm>
            <a:off x="0" y="932040"/>
            <a:ext cx="9144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Margin_Fig%203.4" descr=""/>
          <p:cNvPicPr/>
          <p:nvPr/>
        </p:nvPicPr>
        <p:blipFill>
          <a:blip r:embed="rId2"/>
          <a:stretch/>
        </p:blipFill>
        <p:spPr>
          <a:xfrm>
            <a:off x="3525840" y="434880"/>
            <a:ext cx="4573440" cy="537048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3520" y="518760"/>
            <a:ext cx="371448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he Basic Value Chai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533520" y="1601280"/>
            <a:ext cx="2743200" cy="74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f5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032880" y="525456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bound Logist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035040" y="4656240"/>
            <a:ext cx="112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per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032880" y="4057560"/>
            <a:ext cx="186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utbound Logist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032160" y="3459240"/>
            <a:ext cx="190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keting and Sa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035760" y="287640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rot="16200000">
            <a:off x="2947680" y="4449960"/>
            <a:ext cx="177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m Infrastru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rot="16200000">
            <a:off x="3006360" y="3948480"/>
            <a:ext cx="278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uman Resource 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683160" y="4067640"/>
            <a:ext cx="254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chnological Develop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4872960" y="4696200"/>
            <a:ext cx="127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c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3"/>
          <a:stretch/>
        </p:blipFill>
        <p:spPr>
          <a:xfrm>
            <a:off x="3021120" y="2898720"/>
            <a:ext cx="509400" cy="2876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2F85F9-AF5B-432F-8FD2-735D26E5B2AC}" type="slidenum">
              <a:t>34</a:t>
            </a:fld>
          </a:p>
        </p:txBody>
      </p:sp>
    </p:spTree>
  </p:cSld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0" y="932040"/>
            <a:ext cx="9144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33160" y="518760"/>
            <a:ext cx="80010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he Value-Creating Potential of Primary Activiti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15280" indent="-215280"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bound logist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6240" indent="-275400">
              <a:spcBef>
                <a:spcPts val="499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Activities used to receive, store, and disseminate inputs to a product (materials handling, warehousing, inventory control, etc.)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215280" indent="-215280"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r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6240" indent="-275400">
              <a:spcBef>
                <a:spcPts val="499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Activities necessary to convert the inputs provided by inbound logistics into final product form (machining, packaging, assembly, etc.)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215280" indent="-215280"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bound logist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6240" indent="-275400">
              <a:spcBef>
                <a:spcPts val="499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Activities involved with collecting, storing, and physically distributing the product to customers (finished goods warehousing, order processing, etc.)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536400" y="1599120"/>
            <a:ext cx="8074080" cy="74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f5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BFC353-EA4C-49DD-970B-04A68844E9F1}" type="slidenum">
              <a:t>35</a:t>
            </a:fld>
          </a:p>
        </p:txBody>
      </p:sp>
    </p:spTree>
  </p:cSld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99" dur="5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04" dur="500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09" dur="500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14" dur="500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19" dur="500"/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24" dur="500"/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0" y="932040"/>
            <a:ext cx="9144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33160" y="518760"/>
            <a:ext cx="80010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he Value-Creating Potential of Primary Activities (cont’d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2120" indent="-222120"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6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rketing and sal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84040">
              <a:spcBef>
                <a:spcPts val="499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6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Activities completed to provide means through which customers can purchase products and to induce them to do so (advertising, promotion, distribution channels, etc.)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222120" indent="-222120"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6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84040">
              <a:spcBef>
                <a:spcPts val="499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6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Activities designed to enhance or maintain a product’s value (repair, training, adjustment, etc.)</a:t>
            </a:r>
            <a:br>
              <a:rPr sz="2000"/>
            </a:b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222120" indent="0">
              <a:spcBef>
                <a:spcPts val="601"/>
              </a:spcBef>
              <a:buNone/>
              <a:tabLst>
                <a:tab algn="l" pos="0"/>
                <a:tab algn="l" pos="96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Each activity should be examined relative to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ompetitors’ abilities and rated 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as superior, 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equivalent or inferi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536400" y="1599120"/>
            <a:ext cx="8074080" cy="74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f5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2DF2D9-DB34-458E-AB55-12EA8A02764D}" type="slidenum">
              <a:t>36</a:t>
            </a:fld>
          </a:p>
        </p:txBody>
      </p:sp>
    </p:spTree>
  </p:cSld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39" dur="5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44" dur="500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49" dur="500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54" dur="500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59" dur="500"/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0" y="932040"/>
            <a:ext cx="9144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33160" y="518760"/>
            <a:ext cx="80010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he Value-Creating Potential of Primary Activities: Suppor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2120" indent="-222120"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ure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84040">
              <a:spcBef>
                <a:spcPts val="499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Activities completed to purchase the inputs needed to produce a firm’s products (raw materials and supplies, machines, laboratory equipment, etc.)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222120" indent="-222120"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chnological develop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84040">
              <a:spcBef>
                <a:spcPts val="499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Activities completed to improve a firm’s product and the processes used to manufacture it (process equipment, basic research, product design, etc)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222120" indent="-222120"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uman resource manage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84040">
              <a:spcBef>
                <a:spcPts val="499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Activities involved with recruiting, hiring, training, developing, and compensating all personnel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36400" y="1599120"/>
            <a:ext cx="8074080" cy="74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f5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D61EEE-4647-4F4B-8860-36E2E6DA2798}" type="slidenum">
              <a:t>37</a:t>
            </a:fld>
          </a:p>
        </p:txBody>
      </p:sp>
    </p:spTree>
  </p:cSld>
  <p:timing>
    <p:tnLst>
      <p:par>
        <p:cTn id="760" dur="indefinite" restart="never" nodeType="tmRoot">
          <p:childTnLst>
            <p:seq>
              <p:cTn id="761" dur="indefinite" nodeType="mainSeq">
                <p:childTnLst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74" dur="5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79" dur="500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84" dur="500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89" dur="500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94" dur="500"/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99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0" y="932040"/>
            <a:ext cx="9144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33160" y="518760"/>
            <a:ext cx="80010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he Value-Creating Potential of Primary Activities: Support (cont’d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3316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2120" indent="-22212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1541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rm infrastruct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8404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Wingdings" charset="2"/>
              <a:buChar char=""/>
              <a:tabLst>
                <a:tab algn="l" pos="1541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Activities that support the work of the entire value chain (general management, planning, finance, accounting, legal, government relations, etc.)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2" marL="974880" indent="-235080">
              <a:lnSpc>
                <a:spcPct val="90000"/>
              </a:lnSpc>
              <a:spcBef>
                <a:spcPts val="451"/>
              </a:spcBef>
              <a:buClr>
                <a:srgbClr val="5f5f5f"/>
              </a:buClr>
              <a:buSzPct val="75000"/>
              <a:buFont typeface="Wingdings" charset="2"/>
              <a:buChar char=""/>
              <a:tabLst>
                <a:tab algn="l" pos="1541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ffectively and consistently identify external opportunities and threa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235080">
              <a:lnSpc>
                <a:spcPct val="90000"/>
              </a:lnSpc>
              <a:spcBef>
                <a:spcPts val="451"/>
              </a:spcBef>
              <a:buClr>
                <a:srgbClr val="5f5f5f"/>
              </a:buClr>
              <a:buSzPct val="75000"/>
              <a:buFont typeface="Wingdings" charset="2"/>
              <a:buChar char=""/>
              <a:tabLst>
                <a:tab algn="l" pos="1541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dentify resources and capabiliti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235080">
              <a:lnSpc>
                <a:spcPct val="90000"/>
              </a:lnSpc>
              <a:spcBef>
                <a:spcPts val="451"/>
              </a:spcBef>
              <a:buClr>
                <a:srgbClr val="5f5f5f"/>
              </a:buClr>
              <a:buSzPct val="75000"/>
              <a:buFont typeface="Wingdings" charset="2"/>
              <a:buChar char=""/>
              <a:tabLst>
                <a:tab algn="l" pos="1541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pport core competencie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541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Each activity should be examined relative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o competitors’ abilities and rated as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superior, equivalent or inferi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6400" y="1599120"/>
            <a:ext cx="8074080" cy="74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f5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B93657-6858-45D5-ADF2-ADAF2926AE9E}" type="slidenum">
              <a:t>38</a:t>
            </a:fld>
          </a:p>
        </p:txBody>
      </p:sp>
    </p:spTree>
  </p:cSld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14" dur="50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19" dur="500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0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22" dur="500"/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25" dur="500"/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6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28" dur="500"/>
                                        <p:tgtEl>
                                          <p:spTgt spid="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33" dur="500"/>
                                        <p:tgtEl>
                                          <p:spTgt spid="3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33160" y="519120"/>
            <a:ext cx="80010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Outsourc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01000" cy="48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2120" indent="-22212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purchase of a value-creating activity from an external suppli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84040">
              <a:spcBef>
                <a:spcPts val="601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Few organizations possess the resources and capabilities required to achieve competitive superiority in all primary and support activities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222120" indent="-22212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y forming and emphasizing fewer capabilit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84040">
              <a:spcBef>
                <a:spcPts val="601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A firm can concentrate on those areas in which it can create value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625320" indent="-284040">
              <a:spcBef>
                <a:spcPts val="601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Specialty suppliers can perform outsourced capabilities more efficiently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0CABE3-49AE-4AE3-8722-B438DE16E058}" type="slidenum">
              <a:t>39</a:t>
            </a:fld>
          </a:p>
        </p:txBody>
      </p:sp>
    </p:spTree>
  </p:cSld>
  <p:timing>
    <p:tnLst>
      <p:par>
        <p:cTn id="834" dur="indefinite" restart="never" nodeType="tmRoot">
          <p:childTnLst>
            <p:seq>
              <p:cTn id="835" dur="indefinite" nodeType="mainSeq">
                <p:childTnLst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48" dur="5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53" dur="500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58" dur="500"/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63" dur="500"/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68" dur="500"/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82760" y="380880"/>
            <a:ext cx="8196120" cy="62326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7467480" y="606420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Figure 1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56560" y="6576840"/>
            <a:ext cx="3914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pyright © 2004 South-Western. All rights reserved.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439560" y="561960"/>
            <a:ext cx="4781880" cy="6039000"/>
            <a:chOff x="439560" y="561960"/>
            <a:chExt cx="4781880" cy="6039000"/>
          </a:xfrm>
        </p:grpSpPr>
        <p:sp>
          <p:nvSpPr>
            <p:cNvPr id="94" name=""/>
            <p:cNvSpPr/>
            <p:nvPr/>
          </p:nvSpPr>
          <p:spPr>
            <a:xfrm>
              <a:off x="838080" y="561960"/>
              <a:ext cx="1103400" cy="20685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39560" y="2639880"/>
              <a:ext cx="530280" cy="39610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7160" y="6346800"/>
              <a:ext cx="4364280" cy="2221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271600" y="5991120"/>
              <a:ext cx="1443240" cy="528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4427640" y="5407200"/>
            <a:ext cx="1492200" cy="9777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2000" y="3090960"/>
            <a:ext cx="1347840" cy="914400"/>
          </a:xfrm>
          <a:prstGeom prst="rect">
            <a:avLst/>
          </a:prstGeom>
          <a:solidFill>
            <a:srgbClr val="9ac1d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448000" y="3092400"/>
            <a:ext cx="1347840" cy="914400"/>
          </a:xfrm>
          <a:prstGeom prst="rect">
            <a:avLst/>
          </a:prstGeom>
          <a:solidFill>
            <a:srgbClr val="9ac1d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01960" y="3090960"/>
            <a:ext cx="1347840" cy="914400"/>
          </a:xfrm>
          <a:prstGeom prst="rect">
            <a:avLst/>
          </a:prstGeom>
          <a:solidFill>
            <a:srgbClr val="9ac1d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54080" y="4029120"/>
            <a:ext cx="1347840" cy="914400"/>
          </a:xfrm>
          <a:prstGeom prst="rect">
            <a:avLst/>
          </a:prstGeom>
          <a:solidFill>
            <a:srgbClr val="9ac1d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440080" y="4030560"/>
            <a:ext cx="1347840" cy="914400"/>
          </a:xfrm>
          <a:prstGeom prst="rect">
            <a:avLst/>
          </a:prstGeom>
          <a:solidFill>
            <a:srgbClr val="9ac1d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794040" y="4029120"/>
            <a:ext cx="1347840" cy="914400"/>
          </a:xfrm>
          <a:prstGeom prst="rect">
            <a:avLst/>
          </a:prstGeom>
          <a:solidFill>
            <a:srgbClr val="9ac1d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54000" y="2789280"/>
            <a:ext cx="4364280" cy="22464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838600" y="5005440"/>
            <a:ext cx="4395600" cy="4222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33920" y="1828800"/>
            <a:ext cx="1652760" cy="9763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775480" y="3084480"/>
            <a:ext cx="1347480" cy="914400"/>
          </a:xfrm>
          <a:prstGeom prst="rect">
            <a:avLst/>
          </a:prstGeom>
          <a:solidFill>
            <a:srgbClr val="9ac1d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29440" y="3083040"/>
            <a:ext cx="1347840" cy="914400"/>
          </a:xfrm>
          <a:prstGeom prst="rect">
            <a:avLst/>
          </a:prstGeom>
          <a:solidFill>
            <a:srgbClr val="9ac1d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767560" y="4022640"/>
            <a:ext cx="1347480" cy="914400"/>
          </a:xfrm>
          <a:prstGeom prst="rect">
            <a:avLst/>
          </a:prstGeom>
          <a:solidFill>
            <a:srgbClr val="9ac1d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121520" y="4021200"/>
            <a:ext cx="1347840" cy="914400"/>
          </a:xfrm>
          <a:prstGeom prst="rect">
            <a:avLst/>
          </a:prstGeom>
          <a:solidFill>
            <a:srgbClr val="9ac1d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662440" y="2797200"/>
            <a:ext cx="2984760" cy="22464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295960" y="3930480"/>
            <a:ext cx="384120" cy="2876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3068640" y="1841400"/>
            <a:ext cx="1608120" cy="955800"/>
            <a:chOff x="3068640" y="1841400"/>
            <a:chExt cx="1608120" cy="955800"/>
          </a:xfrm>
        </p:grpSpPr>
        <p:sp>
          <p:nvSpPr>
            <p:cNvPr id="115" name=""/>
            <p:cNvSpPr/>
            <p:nvPr/>
          </p:nvSpPr>
          <p:spPr>
            <a:xfrm>
              <a:off x="3873600" y="1841400"/>
              <a:ext cx="803160" cy="754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68640" y="2492280"/>
              <a:ext cx="882720" cy="3049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324120" y="519120"/>
            <a:ext cx="2210040" cy="1373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The Strategic Management Proces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8918640" y="2082960"/>
            <a:ext cx="22536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FB6265-55F1-4394-8079-3C3A7CDB2912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5732640" y="5738760"/>
            <a:ext cx="2366640" cy="619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0" y="932040"/>
            <a:ext cx="9144000" cy="14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0" name="Margin_Fig%203.4" descr=""/>
          <p:cNvPicPr/>
          <p:nvPr/>
        </p:nvPicPr>
        <p:blipFill>
          <a:blip r:embed="rId2"/>
          <a:stretch/>
        </p:blipFill>
        <p:spPr>
          <a:xfrm>
            <a:off x="3525840" y="434880"/>
            <a:ext cx="4573440" cy="537048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6035040" y="4656240"/>
            <a:ext cx="112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per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032160" y="3459240"/>
            <a:ext cx="190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keting and Sa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rot="16200000">
            <a:off x="2947680" y="4449960"/>
            <a:ext cx="177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m Infrastru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3"/>
          <a:stretch/>
        </p:blipFill>
        <p:spPr>
          <a:xfrm>
            <a:off x="3021120" y="2898720"/>
            <a:ext cx="509400" cy="287676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/>
          <p:nvPr/>
        </p:nvSpPr>
        <p:spPr>
          <a:xfrm flipV="1">
            <a:off x="533520" y="1200600"/>
            <a:ext cx="2743200" cy="74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f5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4121280" y="2430360"/>
            <a:ext cx="1649160" cy="3276720"/>
            <a:chOff x="4121280" y="2430360"/>
            <a:chExt cx="1649160" cy="3276720"/>
          </a:xfrm>
        </p:grpSpPr>
        <p:sp>
          <p:nvSpPr>
            <p:cNvPr id="347" name=""/>
            <p:cNvSpPr/>
            <p:nvPr/>
          </p:nvSpPr>
          <p:spPr>
            <a:xfrm>
              <a:off x="4121280" y="3354480"/>
              <a:ext cx="534960" cy="234792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678200" y="4370400"/>
              <a:ext cx="543240" cy="133200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238720" y="2430360"/>
              <a:ext cx="531720" cy="327672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0" name=""/>
          <p:cNvGrpSpPr/>
          <p:nvPr/>
        </p:nvGrpSpPr>
        <p:grpSpPr>
          <a:xfrm>
            <a:off x="5792760" y="2738520"/>
            <a:ext cx="2219400" cy="2963880"/>
            <a:chOff x="5792760" y="2738520"/>
            <a:chExt cx="2219400" cy="2963880"/>
          </a:xfrm>
        </p:grpSpPr>
        <p:sp>
          <p:nvSpPr>
            <p:cNvPr id="351" name=""/>
            <p:cNvSpPr/>
            <p:nvPr/>
          </p:nvSpPr>
          <p:spPr>
            <a:xfrm>
              <a:off x="5792760" y="5122800"/>
              <a:ext cx="2219400" cy="57960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792760" y="3929040"/>
              <a:ext cx="2205000" cy="57960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792760" y="2738520"/>
              <a:ext cx="1401840" cy="57780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33160" y="519120"/>
            <a:ext cx="80010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Outsourcing Decis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5" name=""/>
          <p:cNvSpPr/>
          <p:nvPr/>
        </p:nvSpPr>
        <p:spPr>
          <a:xfrm>
            <a:off x="378000" y="1314360"/>
            <a:ext cx="2998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firm may outsource all or only part of one or more primary and/or support activit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436680" y="3421080"/>
            <a:ext cx="1584360" cy="789120"/>
            <a:chOff x="436680" y="3421080"/>
            <a:chExt cx="1584360" cy="789120"/>
          </a:xfrm>
        </p:grpSpPr>
        <p:sp>
          <p:nvSpPr>
            <p:cNvPr id="357" name=""/>
            <p:cNvSpPr/>
            <p:nvPr/>
          </p:nvSpPr>
          <p:spPr>
            <a:xfrm>
              <a:off x="1366920" y="3767040"/>
              <a:ext cx="457200" cy="44316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36680" y="3421080"/>
              <a:ext cx="1584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Outsourced activ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6032880" y="525456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bound Logist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035760" y="287640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032880" y="4057560"/>
            <a:ext cx="186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utbound Logist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rot="16200000">
            <a:off x="3006360" y="3948480"/>
            <a:ext cx="278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uman Resource 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rot="16200000">
            <a:off x="3683160" y="4067640"/>
            <a:ext cx="254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chnological Develop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rot="16200000">
            <a:off x="4872960" y="4696200"/>
            <a:ext cx="127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c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62EBCF-009D-4020-9E11-CCE7713CE5FD}" type="slidenum">
              <a:t>40</a:t>
            </a:fld>
          </a:p>
        </p:txBody>
      </p:sp>
    </p:spTree>
  </p:cSld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33160" y="519120"/>
            <a:ext cx="80010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trategic Rationales for Outsourc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2120" indent="-22212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prove business focu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84040">
              <a:spcBef>
                <a:spcPts val="601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Lets a company focus on broader business issues by having outside experts handle various operational details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222120" indent="-22212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vide access to world-class capabilit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84040">
              <a:spcBef>
                <a:spcPts val="601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The specialized resources of outsourcing providers makes world-class capabilities available to firms in a wide range of applications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ABD3E1-7C89-482E-9EEB-FAC501AC4B50}" type="slidenum">
              <a:t>41</a:t>
            </a:fld>
          </a:p>
        </p:txBody>
      </p:sp>
    </p:spTree>
  </p:cSld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01" dur="500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06" dur="500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11" dur="500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16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33160" y="519120"/>
            <a:ext cx="80010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trategic Rationales for Outsourcing (cont’d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2120" indent="-22212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celerate business re-engineering benefi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8404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Achieves re-engineering benefits more quickly by having outsiders—who have already achieved world-class standards—take over process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222120" indent="-22212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haring risk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8404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Reduces investment requirements and makes firm more flexible, dynamic and better able to adapt to changing opportunities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222120" indent="-22212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ees resources for other purpos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8404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Redirects efforts from non-core activities toward those that serve customers more effectively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1E262D-C6FB-49A9-B90A-E25B912ECB96}" type="slidenum">
              <a:t>42</a:t>
            </a:fld>
          </a:p>
        </p:txBody>
      </p:sp>
    </p:spTree>
  </p:cSld>
  <p:timing>
    <p:tnLst>
      <p:par>
        <p:cTn id="917" dur="indefinite" restart="never" nodeType="tmRoot">
          <p:childTnLst>
            <p:seq>
              <p:cTn id="918" dur="indefinite" nodeType="mainSeq">
                <p:childTnLst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23" dur="50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28" dur="500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33" dur="500"/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38" dur="500"/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43" dur="500"/>
                                        <p:tgtEl>
                                          <p:spTgt spid="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4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19120"/>
            <a:ext cx="80010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Outsourcing Issu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2120" indent="-22212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eatest valu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8404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Outsource only to firms possessing a core competence in terms of performing the primary or supporting the outsourced activity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222120" indent="-22212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aluating resources and capabilit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8404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Do not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 outsource activities in which the firm itself can create and capture value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222120" indent="-22212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vironmental threats and ongoing task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8404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Do not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 outsource primary and support activities that are used to neutralize environmental threats or to complete necessary ongoing organizational tasks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0C3613-95AB-4EFD-A981-BEA779166122}" type="slidenum">
              <a:t>43</a:t>
            </a:fld>
          </a:p>
        </p:txBody>
      </p:sp>
    </p:spTree>
  </p:cSld>
  <p:timing>
    <p:tnLst>
      <p:par>
        <p:cTn id="949" dur="indefinite" restart="never" nodeType="tmRoot">
          <p:childTnLst>
            <p:seq>
              <p:cTn id="950" dur="indefinite" nodeType="mainSeq">
                <p:childTnLst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63" dur="5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68" dur="500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73" dur="500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78" dur="500"/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83" dur="500"/>
                                        <p:tgtEl>
                                          <p:spTgt spid="3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88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33160" y="519120"/>
            <a:ext cx="80010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Outsourcing Issues (cont’d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2120" indent="-22212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nstrategic team of resour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84040">
              <a:spcBef>
                <a:spcPts val="601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Do not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 outsource capabilities that are critical to the firm’s success, even though the capabilities are not actual sources of competitive advantage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222120" indent="-22212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rm’s knowledge ba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84040">
              <a:spcBef>
                <a:spcPts val="601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Do not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 outsource activities that stimulate the development of new capabilities and competencies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9E23ED-3B06-4BCD-A58E-7DDD2E5F1BA6}" type="slidenum">
              <a:t>44</a:t>
            </a:fld>
          </a:p>
        </p:txBody>
      </p:sp>
    </p:spTree>
  </p:cSld>
  <p:timing>
    <p:tnLst>
      <p:par>
        <p:cTn id="989" dur="indefinite" restart="never" nodeType="tmRoot">
          <p:childTnLst>
            <p:seq>
              <p:cTn id="990" dur="indefinite" nodeType="mainSeq">
                <p:childTnLst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95" dur="5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00" dur="500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05" dur="500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10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33160" y="519120"/>
            <a:ext cx="80010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autions and Remind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2120" indent="-222120">
              <a:lnSpc>
                <a:spcPct val="90000"/>
              </a:lnSpc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ver take for granted that core competencies will continue to provide a source of competitive advanta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2120" indent="-222120">
              <a:lnSpc>
                <a:spcPct val="90000"/>
              </a:lnSpc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 core competencies have the potential to become core rigiditi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2120" indent="-222120">
              <a:lnSpc>
                <a:spcPct val="90000"/>
              </a:lnSpc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rigidities are former core competencies that now generate inertia and stifle inno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2120" indent="-222120">
              <a:lnSpc>
                <a:spcPct val="90000"/>
              </a:lnSpc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ermining what the firm can do through continuous and effective analyses of its internal environment increases the likelihood of long-term competitive succe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74ED9C-55D8-4B5B-9E0A-85B430F3F538}" type="slidenum">
              <a:t>45</a:t>
            </a:fld>
          </a:p>
        </p:txBody>
      </p:sp>
    </p:spTree>
  </p:cSld>
  <p:timing>
    <p:tnLst>
      <p:par>
        <p:cTn id="1011" dur="indefinite" restart="never" nodeType="tmRoot">
          <p:childTnLst>
            <p:seq>
              <p:cTn id="1012" dur="indefinite" nodeType="mainSeq">
                <p:childTnLst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7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25" dur="5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30" dur="500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35" dur="500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40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3160" y="519120"/>
            <a:ext cx="80010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autions and Reminders (cont’d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2120" indent="-22212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termining what the firm can do through continuous and effective analyses of its internal environment increase the likelihood of long-term competitive succes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87AA2B-BDD6-4686-B0BC-60597DA2AD38}" type="slidenum">
              <a:t>46</a:t>
            </a:fld>
          </a:p>
        </p:txBody>
      </p:sp>
    </p:spTree>
  </p:cSld>
  <p:timing>
    <p:tnLst>
      <p:par>
        <p:cTn id="1041" dur="indefinite" restart="never" nodeType="tmRoot">
          <p:childTnLst>
            <p:seq>
              <p:cTn id="1042" dur="indefinite" nodeType="mainSeq">
                <p:childTnLst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47" dur="5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160" y="519120"/>
            <a:ext cx="80010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ompetitive Advant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2120" indent="-22212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rms achieve strategic competitiveness and earn above-average returns when their core competencies are effectivel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84040">
              <a:spcBef>
                <a:spcPts val="601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Acquired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625320" indent="-284040">
              <a:spcBef>
                <a:spcPts val="601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Bundled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625320" indent="-284040">
              <a:spcBef>
                <a:spcPts val="601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Leveraged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222120" indent="-22212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time, the benefits of any value-creating strategy can be duplicated by competito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43D74A-6780-4306-8B70-C8A3D2D20C24}" type="slidenum">
              <a:t>5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5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0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5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0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160" y="519120"/>
            <a:ext cx="80010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ompetitive Advantage (cont’d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2120" indent="-22212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stainability of a competitive advantage is a function of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84040">
              <a:spcBef>
                <a:spcPts val="601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The rate of core competence obsolescence due to environmental changes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625320" indent="-284040">
              <a:spcBef>
                <a:spcPts val="601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The availability of substitutes for the core competence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625320" indent="-284040">
              <a:spcBef>
                <a:spcPts val="601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The difficulty competitors have in duplicating or imitating the core competence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C64508-C46D-49FF-A583-BFE0EE3FCA77}" type="slidenum">
              <a:t>6</a:t>
            </a:fld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2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7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2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495680" y="1771560"/>
            <a:ext cx="4119840" cy="21700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538200" y="1771560"/>
            <a:ext cx="3997440" cy="21700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71320" y="533160"/>
            <a:ext cx="80010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Outcomes from External and Internal Environmental Analys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33520" y="1601280"/>
            <a:ext cx="8074080" cy="74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f5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467480" y="606420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Figure 3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5400000">
            <a:off x="2440800" y="1981440"/>
            <a:ext cx="241200" cy="3872160"/>
          </a:xfrm>
          <a:custGeom>
            <a:avLst/>
            <a:gdLst>
              <a:gd name="textAreaLeft" fmla="*/ 0 w 241200"/>
              <a:gd name="textAreaRight" fmla="*/ 169200 w 241200"/>
              <a:gd name="textAreaTop" fmla="*/ 161280 h 3872160"/>
              <a:gd name="textAreaBottom" fmla="*/ 3710880 h 3872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590920" y="403848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14400" y="4419720"/>
            <a:ext cx="335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ine opportunities and thre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5400000">
            <a:off x="6341760" y="1968120"/>
            <a:ext cx="237960" cy="3902040"/>
          </a:xfrm>
          <a:custGeom>
            <a:avLst/>
            <a:gdLst>
              <a:gd name="textAreaLeft" fmla="*/ 0 w 237960"/>
              <a:gd name="textAreaRight" fmla="*/ 167040 w 237960"/>
              <a:gd name="textAreaTop" fmla="*/ 162360 h 3902040"/>
              <a:gd name="textAreaBottom" fmla="*/ 3739680 h 3902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477120" y="403848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00600" y="4419720"/>
            <a:ext cx="3657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ine unique resources, capabilities, and competenci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ustainable competitive advanta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195A0F-6725-45C1-AAF4-D605BBD987FC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160" y="519120"/>
            <a:ext cx="80010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he Context of Internal Analysi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2120" indent="-222120">
              <a:spcBef>
                <a:spcPts val="104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ffective analysis of a firm’s internal environment (learning what the firm can do ) requires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84040">
              <a:spcBef>
                <a:spcPts val="901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Fostering  an organizational setting in which experimentation and learning are expected and promoted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625320" indent="-284040">
              <a:spcBef>
                <a:spcPts val="901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Using a global mind-set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625320" indent="-284040">
              <a:spcBef>
                <a:spcPts val="901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Thinking of the firm as a bundle of heterogeneous resources and capabilities that can be used to create an exclusive market position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D5812A-1A5D-4DF2-8DBE-96CE6743EC02}" type="slidenum">
              <a:t>8</a:t>
            </a:fld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2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7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2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266760" y="1244520"/>
            <a:ext cx="8610480" cy="505620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3160" y="519120"/>
            <a:ext cx="80010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omponents of Internal Analysi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7467480" y="606420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Figure 3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B09558-71C9-4094-ADDA-F92D296561AC}" type="slidenum">
              <a:t>9</a:t>
            </a:fld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3T03:21:06Z</dcterms:created>
  <dc:creator>Revised by Charlie Cook, University of West Alabama</dc:creator>
  <dc:description/>
  <dc:language>en-US</dc:language>
  <cp:lastModifiedBy>TL User</cp:lastModifiedBy>
  <dcterms:modified xsi:type="dcterms:W3CDTF">2004-01-14T16:48:34Z</dcterms:modified>
  <cp:revision>65</cp:revision>
  <dc:subject>Chapter 3</dc:subject>
  <dc:title>Strategic Management 6e. - Hitt, Hoskisson, and Ireland</dc:title>
</cp:coreProperties>
</file>