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B800-5692-40AA-A7A4-77430745F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CFA8-1AE4-46DB-B86F-9C166CD89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A415-EF5A-41A3-92DA-6B4804D8F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1B67-06A4-4E9F-B13A-77A41BAEB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3C30-18FB-4A7F-8842-F21E9C0A0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5E7C-1E88-4C6D-B64D-7EC6C63D0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10D7-F721-472E-AD70-32A1DCBD4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D5F6-F97C-4212-95EF-7872BC233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2C06-8E97-41B8-9D20-7C4F600DB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28FA-3E92-4601-82BD-26DC69A7F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3CBC-4CDB-4703-AD63-8225DE01C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E6D3-5071-422C-9332-132FF9780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–</a:t>
            </a:r>
            <a:fld id="{356709C4-645B-4481-AFF8-DB73234DFE9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5486400" y="599436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Copyright © 2004 South-Western</a:t>
            </a:r>
            <a:br>
              <a:rPr sz="1000"/>
            </a:b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19840" y="5410080"/>
            <a:ext cx="19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PowerPoint slides b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Tahoma"/>
              </a:rPr>
              <a:t>R. Dennis Middlemist</a:t>
            </a:r>
            <a:br>
              <a:rPr sz="1000"/>
            </a:b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Colorado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7398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428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hapter 3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5000" y="2104560"/>
            <a:ext cx="3200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ternal Environment: Resources, Capabiliti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Valu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xploiting their core competencies or competitive advantages, firms create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is measured 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erformance characteristic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attributes for which customers are willing to pa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create value by innovatively bundling and leveraging their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69BA-60BD-4273-A0E8-3E19EB1E2483}" type="slidenum">
              <a:t>10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, in combination with product-market positions, are the firm’s most important sources of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 of a firm, in addition to its analysis of its general, industry, and competitor environments, should drive its selection of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C815-2F76-4D16-B6EC-69CCD336ECCA}" type="slidenum">
              <a:t>11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decisions in terms of the firm’s resources, capabilities, 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n-routi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ve ethical im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gnificantly influence the firm’s ability to earn above-average retur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B575-374E-409A-90FC-16B8CA47AC2A}" type="slidenum">
              <a:t>12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and use core competencies, managers must 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ur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f-confid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egr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capacity to deal with uncertainty and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willingness to hold people (and themselves) accountable for their work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1621-DFEE-449E-A62F-3252F0F2FFCF}" type="slidenum">
              <a:t>13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ditions Affecting Managerial Decisions about 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1478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0134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Adapted from R. Amit &amp; P. J. H. Schoemaker, 1993, Strategic assets and organizational rent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: 3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8200" y="1833480"/>
            <a:ext cx="179712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71600" y="209088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33880" y="1844640"/>
            <a:ext cx="5381640" cy="143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38200" y="3224160"/>
            <a:ext cx="1785960" cy="801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71600" y="348156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22720" y="3341520"/>
            <a:ext cx="5370480" cy="1241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38200" y="4594320"/>
            <a:ext cx="1785960" cy="7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281320" y="4849920"/>
            <a:ext cx="995400" cy="27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3222720" y="4700520"/>
            <a:ext cx="5370480" cy="12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144D-D240-41C9-A00F-29BF7DFC9A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the source of a firm’s capabil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broad in scop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ver a spectrum of individual, social and organizational phenome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one, do not yield a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6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6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D834-0E39-4158-9798-2284421E362E}" type="slidenum">
              <a:t>15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38120" y="1371240"/>
            <a:ext cx="44960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a firm’s assets, including people and the value of its brand na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present inputs into a firm’s production process, such a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d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7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7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7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547E-D76B-4522-91E6-9D358612350B}" type="slidenum">
              <a:t>16</a:t>
            </a:fld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496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t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8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8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8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D2F3-E2B0-4570-AB1B-DFAA8D02A68D}" type="slidenum">
              <a:t>17</a:t>
            </a:fld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7696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borrowing capac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ability to generate inter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formal reporting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ts formal planning, controlling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ordinat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histication and location of a firm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 and equip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o 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 of technology, such as patent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-marks, copyrights, and tra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729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J. B. Barney, 1991, Firm resources and sustained competitive advantage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: 101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0–10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DF2A-4E34-4563-846C-8CC79FD67BD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58920"/>
            <a:ext cx="7925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ial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ovatio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apabilit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custom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 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tions of product quality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ty, and reliabi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suppli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fficient, effective, supportiv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ly beneficial interaction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7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R. Hall, 1992, The strategic analysis of intangible resourc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: 136–139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1–1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E7B9-7FE1-4E49-840F-E9AEE967F556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the need for firms to study and understand their internal environmen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value and discuss its importanc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the differences between tangible and intangible resourc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capabilities and discuss how they are develope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four criteria used to determine whether resources and capabilities are core competenci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05BA-790D-4DEE-AC31-1D5AE046E59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e the firm’s capacity to deploy resources that have been purposely integrated to achieve a desired end stat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merge over time through complex interactions among tangible and intangible resour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ften are based on developing, carrying and exchanging information and knowledge through the firm’s human capit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0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0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C0A8-61EF-4491-A810-9FF4F89CADAE}" type="slidenum">
              <a:t>20</a:t>
            </a:fld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foundation of many capabilities lies i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que skills and knowledge of a firm’s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ctional expertise of those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apabilities are often developed in specific functional areas or as part of a functional are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1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1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1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86C1-9C91-4084-8BC2-67100DA20978}" type="slidenum">
              <a:t>21</a:t>
            </a:fld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501480"/>
            <a:ext cx="7696080" cy="5807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93840"/>
            <a:ext cx="205740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Examples of Firms’ Capabilitie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064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2D1A-842D-4C28-A582-E5487E0E05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52680" y="1371600"/>
            <a:ext cx="51818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ources and capabilities that serve as a source of a firm’s competitive advantage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a company competitively and reflect its pers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 over time through an organizational process of accumulating and learning how to deploy different resources and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2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2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D2AC-D0A5-4A19-9999-56A7765C6741}" type="slidenum">
              <a:t>23</a:t>
            </a:fld>
          </a:p>
        </p:txBody>
      </p:sp>
    </p:spTree>
  </p:cSld>
  <p:transition>
    <p:dissolv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at a firm performs especially well compared to competito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rough which the firm adds unique value to its goods or services over a long period of ti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3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3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3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42C8-31CB-4DD5-BE27-9BE1D28F855F}" type="slidenum">
              <a:t>24</a:t>
            </a:fld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Criteria of Sustainable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l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stly to imita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nsubstit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5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46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47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D320-4A88-4E83-AFDD-89DD294873E3}" type="slidenum">
              <a:t>25</a:t>
            </a:fld>
          </a:p>
        </p:txBody>
      </p:sp>
    </p:spTree>
  </p:cSld>
  <p:transition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Four Criteria of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29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abl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 firm neutralize threats 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r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 possessed by man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ly-to-Imitat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unique and a valu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 or brand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guous cau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ause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f a competence are un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complex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, trust, and friend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managers, supplier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rategic 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3343-56E0-498B-8A34-F64764E3238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398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lp a firm neutralize threats or exploit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t possessed by many oth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56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57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58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DB71-5762-4406-88AA-C68DC83CEB0A}" type="slidenum">
              <a:t>27</a:t>
            </a:fld>
          </a:p>
        </p:txBody>
      </p:sp>
    </p:spTree>
  </p:cSld>
  <p:transition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19320" y="120816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6280" indent="-2062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ly-to-Imitat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istoric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nique and a valuable organizational culture or brand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mbiguous cau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uses and uses of a competence are uncl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ersonal relationships, trust, and friendship among managers, suppliers, and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65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66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C989-6114-40A5-B8BF-0A537A7EC900}" type="slidenum">
              <a:t>28</a:t>
            </a:fld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3392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 strategic equival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2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73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74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61E5-ED63-48B2-B4F5-CFC395136D0C}" type="slidenum">
              <a:t>29</a:t>
            </a:fld>
          </a:p>
        </p:txBody>
      </p:sp>
    </p:spTree>
  </p:cSld>
  <p:transition>
    <p:dissolv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040" y="2254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how value chain analysis is used to identify and evaluate resources and cap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outsourcing and discuss the reasons for its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scuss the importance of preventing core competencies from becoming core rigid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C442-F826-4BDD-A364-54136055E25D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6400" y="4832280"/>
            <a:ext cx="8077320" cy="65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3520" y="1370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comes from Combinations of the Criteria for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57200" y="1984320"/>
            <a:ext cx="8156520" cy="1141560"/>
            <a:chOff x="457200" y="1984320"/>
            <a:chExt cx="8156520" cy="11415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6400" y="1984320"/>
              <a:ext cx="80773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3070080"/>
            <a:ext cx="8156520" cy="574920"/>
            <a:chOff x="457200" y="3070080"/>
            <a:chExt cx="8156520" cy="5749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536400" y="3070080"/>
              <a:ext cx="80773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" y="3608280"/>
            <a:ext cx="8156520" cy="584280"/>
            <a:chOff x="457200" y="3608280"/>
            <a:chExt cx="8156520" cy="584280"/>
          </a:xfrm>
        </p:grpSpPr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536400" y="3608280"/>
              <a:ext cx="80773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7200" y="4127400"/>
            <a:ext cx="8156520" cy="741600"/>
            <a:chOff x="457200" y="4127400"/>
            <a:chExt cx="8156520" cy="7416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536400" y="4127400"/>
              <a:ext cx="807732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D911-D8B9-484D-9B5C-BC1471CA21A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the firm to understand the parts of its operations that create value and those that do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mplate that firms use t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derstand their cos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dentify multiple means that might be used to facilitate implementation of a chosen business-level strateg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0B6C-C286-4E3C-8FFD-F5373069BB3F}" type="slidenum">
              <a:t>31</a:t>
            </a:fld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volved with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hysical cre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sale and distribution to buy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service after the sa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vide the support necessary for the primary activities to take pla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152F-4F28-4A85-9319-82F36034DF89}" type="slidenum">
              <a:t>32</a:t>
            </a:fld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7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7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hows how a product moves from raw-material stage to the final custom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source of competitive advantage, a resource or capability must allow the fir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n activity in a manner that is superior to the way competitors perform it, o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 value-creating activity that competitors cannot comple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F8BD-3C40-4259-AAEE-792D04A05F00}" type="slidenum">
              <a:t>33</a:t>
            </a:fld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718240" y="5708520"/>
            <a:ext cx="2367000" cy="61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37144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Basic Value Ch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3520" y="1601280"/>
            <a:ext cx="274320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CB4C-26A1-436E-9DD7-BA153D829FE3}" type="slidenum">
              <a:t>34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used to receive, store, and disseminate inputs to a product (materials handling, warehousing, inventory control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necessary to convert the inputs provided by inbound logistics into final product form (machining, packaging, assembly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collecting, storing, and physically distributing the product to customers (finished goods warehousing, order processing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31E0-51F7-42C1-B208-0249D628DED3}" type="slidenum">
              <a:t>35</a:t>
            </a:fld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9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4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rovide means through which customers can purchase products and to induce them to do so (advertising, promotion, distribution channel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designed to enhance or maintain a product’s value (repair, training, adjustment, etc.)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etitors’ abilities and rated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s superior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5051-21EB-44C0-BE50-08277F1CB59C}" type="slidenum">
              <a:t>36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urchase the inputs needed to produce a firm’s products (raw materials and supplies, machines, laboratory equipment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improve a firm’s product and the processes used to manufacture it (process equipment, basic research, product design, etc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recruiting, hiring, training, developing, and compensating all personn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AD9E-F405-434A-9200-E9BBA094D028}" type="slidenum">
              <a:t>37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that support the work of the entire value chain (general management, planning, finance, accounting, legal, government relation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ly and consistently identify external opportunities and thre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resources and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core competenc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 competitors’ abilities and rated a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uperior, 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6B09-1FEE-4D4B-9C0C-21C1CCDBFF53}" type="slidenum">
              <a:t>38</a:t>
            </a:fld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3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of a value-creating activity from an external suppl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ew organizations possess the resources and capabilities required to achieve competitive superiority in all primary and support activ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forming and emphasizing fewer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firm can concentrate on those areas in which it can creat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cialty suppliers can perform outsourced capabilities more efficient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1A39-6A7E-4FB3-8FD1-885C82E97F2E}" type="slidenum">
              <a:t>39</a:t>
            </a:fld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3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2760" y="380880"/>
            <a:ext cx="8196120" cy="623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560" y="6576840"/>
            <a:ext cx="39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9560" y="561960"/>
            <a:ext cx="4781880" cy="6039000"/>
            <a:chOff x="439560" y="561960"/>
            <a:chExt cx="4781880" cy="6039000"/>
          </a:xfrm>
        </p:grpSpPr>
        <p:sp>
          <p:nvSpPr>
            <p:cNvPr id="94" name=""/>
            <p:cNvSpPr/>
            <p:nvPr/>
          </p:nvSpPr>
          <p:spPr>
            <a:xfrm>
              <a:off x="838080" y="561960"/>
              <a:ext cx="1103400" cy="206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9560" y="2639880"/>
              <a:ext cx="530280" cy="396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7160" y="6346800"/>
              <a:ext cx="4364280" cy="22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1600" y="5991120"/>
              <a:ext cx="1443240" cy="528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27640" y="5407200"/>
            <a:ext cx="1492200" cy="977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200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8000" y="30924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196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408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080" y="40305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404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4000" y="2789280"/>
            <a:ext cx="436428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5005440"/>
            <a:ext cx="4395600" cy="42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33920" y="1828800"/>
            <a:ext cx="1652760" cy="976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75480" y="308448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440" y="308304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7560" y="402264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1520" y="40212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2440" y="2797200"/>
            <a:ext cx="298476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5960" y="3930480"/>
            <a:ext cx="384120" cy="28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68640" y="1841400"/>
            <a:ext cx="1608120" cy="955800"/>
            <a:chOff x="3068640" y="1841400"/>
            <a:chExt cx="1608120" cy="955800"/>
          </a:xfrm>
        </p:grpSpPr>
        <p:sp>
          <p:nvSpPr>
            <p:cNvPr id="115" name=""/>
            <p:cNvSpPr/>
            <p:nvPr/>
          </p:nvSpPr>
          <p:spPr>
            <a:xfrm>
              <a:off x="3873600" y="1841400"/>
              <a:ext cx="803160" cy="754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8640" y="2492280"/>
              <a:ext cx="882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24120" y="519120"/>
            <a:ext cx="221004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Strategic Management Proc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918640" y="2082960"/>
            <a:ext cx="22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7A43-D1C4-4994-AD2B-DCEAA11E308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32640" y="5738760"/>
            <a:ext cx="2366640" cy="61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932040"/>
            <a:ext cx="9144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V="1">
            <a:off x="533520" y="1200600"/>
            <a:ext cx="27432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121280" y="2430360"/>
            <a:ext cx="1649160" cy="3276720"/>
            <a:chOff x="4121280" y="2430360"/>
            <a:chExt cx="1649160" cy="3276720"/>
          </a:xfrm>
        </p:grpSpPr>
        <p:sp>
          <p:nvSpPr>
            <p:cNvPr id="347" name=""/>
            <p:cNvSpPr/>
            <p:nvPr/>
          </p:nvSpPr>
          <p:spPr>
            <a:xfrm>
              <a:off x="4121280" y="3354480"/>
              <a:ext cx="534960" cy="2347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78200" y="4370400"/>
              <a:ext cx="543240" cy="1332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8720" y="2430360"/>
              <a:ext cx="531720" cy="32767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92760" y="2738520"/>
            <a:ext cx="2219400" cy="2963880"/>
            <a:chOff x="5792760" y="2738520"/>
            <a:chExt cx="2219400" cy="2963880"/>
          </a:xfrm>
        </p:grpSpPr>
        <p:sp>
          <p:nvSpPr>
            <p:cNvPr id="351" name=""/>
            <p:cNvSpPr/>
            <p:nvPr/>
          </p:nvSpPr>
          <p:spPr>
            <a:xfrm>
              <a:off x="5792760" y="5122800"/>
              <a:ext cx="22194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3929040"/>
              <a:ext cx="22050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2760" y="2738520"/>
              <a:ext cx="1401840" cy="5778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Deci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78000" y="1314360"/>
            <a:ext cx="299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m may outsource all or only part of one or more primary and/or support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36680" y="3421080"/>
            <a:ext cx="1584360" cy="789120"/>
            <a:chOff x="436680" y="3421080"/>
            <a:chExt cx="1584360" cy="789120"/>
          </a:xfrm>
        </p:grpSpPr>
        <p:sp>
          <p:nvSpPr>
            <p:cNvPr id="357" name=""/>
            <p:cNvSpPr/>
            <p:nvPr/>
          </p:nvSpPr>
          <p:spPr>
            <a:xfrm>
              <a:off x="1366920" y="3767040"/>
              <a:ext cx="457200" cy="443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6680" y="342108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sourced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D630-BE5F-442B-9DF3-196A1DF6DAF3}" type="slidenum">
              <a:t>40</a:t>
            </a:fld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business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ts a company focus on broader business issues by having outside experts handle various operational detai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ccess to world-class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specialized resources of outsourcing providers makes world-class capabilities available to firms in a wide range of ap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4BC7-9C5F-43EE-A653-DC9A032ED962}" type="slidenum">
              <a:t>41</a:t>
            </a:fld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1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lerate business re-engineering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hieves re-engineering benefits more quickly by having outsiders—who have already achieved world-class standards—take over proces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ng r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uces investment requirements and makes firm more flexible, dynamic and better able to adapt to changing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s resources for other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irects efforts from non-core activities toward those that serve customers more effective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E8B1-568A-4E6A-9AA8-FC79313118CC}" type="slidenum">
              <a:t>42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st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utsource only to firms possessing a core competence in terms of performing the primary or supporting the outsourced activ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ng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in which the firm itself can create and captur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threats and ongoing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primary and support activities that are used to neutralize environmental threats or to complete necessary ongoing organizational task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CF28-4E51-4CCB-8B1D-2BD785DEB1F9}" type="slidenum">
              <a:t>43</a:t>
            </a:fld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rategic team of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capabilities that are critical to the firm’s success, even though the capabilities are not actual sources of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’s knowledg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that stimulate the development of new capabilities and competenc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8EAC-59CF-41DE-B58D-26946D323676}" type="slidenum">
              <a:t>44</a:t>
            </a:fld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ake for granted that core competencies will continue to provide a source of competitive 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re competencies have the potential to become core rigi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rigidities are former core competencies that now generate inertia and stifle inno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s the likelihood of long-term competitive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3F20-639A-415F-8DE3-2627FF70A687}" type="slidenum">
              <a:t>45</a:t>
            </a:fld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 the likelihood of long-term competitive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90DD-B143-45A6-906D-871711DFECA1}" type="slidenum">
              <a:t>46</a:t>
            </a:fld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achieve strategic competitiveness and earn above-average returns when their core competencies are effec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quir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undl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verag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time, the benefits of any value-creating strategy can be duplicated by compet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692E-87CE-4B32-8335-DB9CAD3578D9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ainability of a competitive advantage is a function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rate of core competence obsolescence due to environmental chang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availability of substitutes for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difficulty competitors have in duplicating or imitating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533D-4C78-4E44-BCC7-D1CA8064C0DD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771560"/>
            <a:ext cx="411984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8200" y="1771560"/>
            <a:ext cx="3997440" cy="217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331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comes from External and Internal Environmental Analy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520" y="16012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440800" y="1981440"/>
            <a:ext cx="241200" cy="3872160"/>
          </a:xfrm>
          <a:custGeom>
            <a:avLst/>
            <a:gdLst>
              <a:gd name="textAreaLeft" fmla="*/ 0 w 241200"/>
              <a:gd name="textAreaRight" fmla="*/ 169200 w 241200"/>
              <a:gd name="textAreaTop" fmla="*/ 161280 h 3872160"/>
              <a:gd name="textAreaBottom" fmla="*/ 3710880 h 387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419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opportunities and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341760" y="1968120"/>
            <a:ext cx="237960" cy="3902040"/>
          </a:xfrm>
          <a:custGeom>
            <a:avLst/>
            <a:gdLst>
              <a:gd name="textAreaLeft" fmla="*/ 0 w 237960"/>
              <a:gd name="textAreaRight" fmla="*/ 167040 w 237960"/>
              <a:gd name="textAreaTop" fmla="*/ 162360 h 3902040"/>
              <a:gd name="textAreaBottom" fmla="*/ 3739680 h 39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419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unique resources, capabilities, and competen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stainable competitive adva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3D01-6170-4029-BADD-7C3B1AA6AC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ntext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analysis of a firm’s internal environment (learning what the firm can do ) requir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stering  an organizational setting in which experimentation and learning are expected and promot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ing a global mind-se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nking of the firm as a bundle of heterogeneous resources and capabilities that can be used to create an exclusive marke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49A4-CC99-4B0C-8425-B61775DA6DC0}" type="slidenum">
              <a:t>8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6760" y="1244520"/>
            <a:ext cx="8610480" cy="5056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onents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F917-C895-4BC6-8385-9007EB658613}" type="slidenum">
              <a:t>9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3:21:06Z</dcterms:created>
  <dc:creator>Revised by Charlie Cook, University of West Alabama</dc:creator>
  <dc:description/>
  <dc:language>en-US</dc:language>
  <cp:lastModifiedBy>TL User</cp:lastModifiedBy>
  <dcterms:modified xsi:type="dcterms:W3CDTF">2004-01-14T16:48:34Z</dcterms:modified>
  <cp:revision>65</cp:revision>
  <dc:subject>Chapter 3</dc:subject>
  <dc:title>Strategic Management 6e. - Hitt, Hoskisson, and Ireland</dc:title>
</cp:coreProperties>
</file>