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7E3B-D217-4831-ABE6-10B2CC56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1832-49AA-41CA-8316-818CA32F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B17B-51CD-40AB-95F1-04EE84A4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3FDF-EADB-46A7-852A-089433C0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E223-067B-4E65-94F1-C4490C2D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B880-59F0-432A-B683-3DA7FFA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B185-E698-456C-AE79-08C5E927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7B43-E1DD-4440-84E9-86862D02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07D7-9FC2-4378-909C-61A115C5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A7B5-53A9-43EB-9E89-031BADF9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A106-8495-438F-A5D1-768D479E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2716-6252-4CF5-B024-90C8F418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F5CE-7696-45EF-81F5-E59D2D45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0B98-CFAF-446A-8DAA-657C9E4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4F8F-79FF-485F-8E49-DC25E707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8C7D-F8BC-4927-AC02-24920D55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85F9-7D90-45C0-A7DC-A9624485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3360-2D74-4025-983A-35510DFF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AFE1-398E-4535-80B8-D6DC7BD3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EC27-2A35-4E65-AE41-F6B70946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5332-7573-4AC2-8FF1-995A97E5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2D12-3123-4EFF-BC78-52D6B5C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6274-F45D-4261-B51B-DC9E0D86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9F26-AAB6-4848-A500-C95566A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4543-E180-40EB-90BD-0F8BB6CF308D}" type="slidenum">
              <a:rPr b="0" lang="es-MX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FB69-1A85-4F9E-8BDF-868E8C6E540F}" type="slidenum">
              <a:rPr b="0" lang="es-MX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cort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la prima cobrada (el precio del call 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nd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ilimit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 precio de ejercicio (Strike) más la Prim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puede recomprar el call al precio al que se vendi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31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larga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el precio de ejercicio (Strike) menos la Prima. Si el precio del bien subyacente se va a cero, el Put vale el Strike y se le descuenta lo que se pag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la prima pagada (el costo del put). Si el precio del bien subyacente aumenta, no se ej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corta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la prima cobrada (el precio del put al vender). Se da cuando el precio del bien subyacente está igual o arriba del stri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el precio de ejercicio (Strike) menos la Prima. Se da cuando el precio del bien subyacente disminuye a c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anancia/perd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llegar la fecha de vencimiento, la opción se encuentra dentro de estas tres posibilida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ntro del dinero ("in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era del dinero ("out of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dinero ("at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ice que una opción "call" está dentro del dinero ("in the money") si el precio de ejercicio, K, es menor que el precio del subyacente, S, es decir K &lt;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el precio de ejercicio es mayor que el del subyacente, K &gt; S, entonces se dice que el "call" está fuera del dinero ("out of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estos dos precios son iguales, si K = S, entonces el "call" se encuentra en el dinero ("at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la opción se encuentra dentro del dinero, es por que tiene un valor positivo si es que se quiere v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por el contrario, se encuentra fuera del dinero entonces la opción no se ejerce y tiene valor de c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ut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 el caso de un "put", si el precio de ejercicio es mayor que el del subyacente, K &gt; S, entonces el "put" está dentro del dinero ("in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ambio, si el precio del subyacente es mayor que el del ejercicio, S &gt; K, la opción "put" se encuentra fuera del dinero ("out of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último si estos dos precios son iguales, si K = S, entonces el "call" se encuentra en el dinero ("at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to estandarizado, en el cual el comprador, paga una prima y adquiere el derecho pero no la obligación, de comprar (call) o vender (put) un activo subyacente a un precio pactado en una fecha futur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vendedor está obligado a cumpl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549360"/>
            <a:ext cx="8618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ación del Valor de una opción al ven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95920"/>
            <a:ext cx="8080560" cy="3888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go Tenedor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- K      si     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0        si      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= Valor de la acción al ven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K = Precio del ejercici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76200" y="952560"/>
            <a:ext cx="6820200" cy="53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130840" y="1554840"/>
            <a:ext cx="4560120" cy="3817440"/>
            <a:chOff x="2130840" y="1554840"/>
            <a:chExt cx="4560120" cy="3817440"/>
          </a:xfrm>
        </p:grpSpPr>
        <p:grpSp>
          <p:nvGrpSpPr>
            <p:cNvPr id="144" name=""/>
            <p:cNvGrpSpPr/>
            <p:nvPr/>
          </p:nvGrpSpPr>
          <p:grpSpPr>
            <a:xfrm>
              <a:off x="2130840" y="1554840"/>
              <a:ext cx="4560120" cy="3817440"/>
              <a:chOff x="2130840" y="1554840"/>
              <a:chExt cx="4560120" cy="3817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2670120" y="1600200"/>
                <a:ext cx="3440160" cy="3772080"/>
                <a:chOff x="2670120" y="1600200"/>
                <a:chExt cx="3440160" cy="3772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2687400" y="1600200"/>
                  <a:ext cx="0" cy="377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70120" y="3871800"/>
                  <a:ext cx="3440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3730680" y="1961640"/>
                  <a:ext cx="1906560" cy="190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130840" y="155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40240" y="363456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409920" y="3797280"/>
              <a:ext cx="480960" cy="578880"/>
              <a:chOff x="3409920" y="3797280"/>
              <a:chExt cx="480960" cy="578880"/>
            </a:xfrm>
          </p:grpSpPr>
          <p:sp>
            <p:nvSpPr>
              <p:cNvPr id="152" name=""/>
              <p:cNvSpPr/>
              <p:nvPr/>
            </p:nvSpPr>
            <p:spPr>
              <a:xfrm>
                <a:off x="3733560" y="3797280"/>
                <a:ext cx="0" cy="136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09920" y="39772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5989320" y="1555920"/>
            <a:ext cx="1378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pi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92120" y="1278360"/>
            <a:ext cx="8080560" cy="290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Tened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- K - P         si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- P               si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ima del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76200" y="952560"/>
            <a:ext cx="6820200" cy="53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0840" y="1554840"/>
            <a:ext cx="4560120" cy="3817440"/>
            <a:chOff x="2130840" y="1554840"/>
            <a:chExt cx="4560120" cy="3817440"/>
          </a:xfrm>
        </p:grpSpPr>
        <p:grpSp>
          <p:nvGrpSpPr>
            <p:cNvPr id="158" name=""/>
            <p:cNvGrpSpPr/>
            <p:nvPr/>
          </p:nvGrpSpPr>
          <p:grpSpPr>
            <a:xfrm>
              <a:off x="2130840" y="1554840"/>
              <a:ext cx="4560120" cy="3817440"/>
              <a:chOff x="2130840" y="1554840"/>
              <a:chExt cx="4560120" cy="38174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670120" y="1600200"/>
                <a:ext cx="3440160" cy="3772080"/>
                <a:chOff x="2670120" y="1600200"/>
                <a:chExt cx="3440160" cy="3772080"/>
              </a:xfrm>
            </p:grpSpPr>
            <p:sp>
              <p:nvSpPr>
                <p:cNvPr id="160" name=""/>
                <p:cNvSpPr/>
                <p:nvPr/>
              </p:nvSpPr>
              <p:spPr>
                <a:xfrm flipV="1">
                  <a:off x="2687400" y="1600200"/>
                  <a:ext cx="0" cy="377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670120" y="3871800"/>
                  <a:ext cx="3440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3730680" y="1961640"/>
                  <a:ext cx="1906560" cy="190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2130840" y="155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40240" y="363456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409920" y="3797280"/>
              <a:ext cx="480960" cy="578880"/>
              <a:chOff x="3409920" y="3797280"/>
              <a:chExt cx="480960" cy="578880"/>
            </a:xfrm>
          </p:grpSpPr>
          <p:sp>
            <p:nvSpPr>
              <p:cNvPr id="166" name=""/>
              <p:cNvSpPr/>
              <p:nvPr/>
            </p:nvSpPr>
            <p:spPr>
              <a:xfrm>
                <a:off x="3733560" y="3797280"/>
                <a:ext cx="0" cy="136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09920" y="39772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2064600" y="2228760"/>
            <a:ext cx="4107600" cy="2715840"/>
            <a:chOff x="2064600" y="2228760"/>
            <a:chExt cx="4107600" cy="2715840"/>
          </a:xfrm>
        </p:grpSpPr>
        <p:sp>
          <p:nvSpPr>
            <p:cNvPr id="169" name=""/>
            <p:cNvSpPr/>
            <p:nvPr/>
          </p:nvSpPr>
          <p:spPr>
            <a:xfrm flipV="1">
              <a:off x="2655720" y="4714920"/>
              <a:ext cx="924120" cy="144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676680" y="2228760"/>
              <a:ext cx="2495520" cy="25005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4600" y="454572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41200" y="4006080"/>
              <a:ext cx="65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+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698080" y="137880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compr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8200" y="2337120"/>
            <a:ext cx="1469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r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92120" y="1688040"/>
            <a:ext cx="8080560" cy="290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para el Emis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  - (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- K)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ecio del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90680" y="952560"/>
            <a:ext cx="6267600" cy="5105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124000" y="1553040"/>
            <a:ext cx="5104800" cy="4104000"/>
            <a:chOff x="2124000" y="1553040"/>
            <a:chExt cx="5104800" cy="4104000"/>
          </a:xfrm>
        </p:grpSpPr>
        <p:sp>
          <p:nvSpPr>
            <p:cNvPr id="178" name=""/>
            <p:cNvSpPr/>
            <p:nvPr/>
          </p:nvSpPr>
          <p:spPr>
            <a:xfrm flipV="1">
              <a:off x="2706480" y="1584360"/>
              <a:ext cx="0" cy="4072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86680" y="4037400"/>
              <a:ext cx="391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24000" y="1553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78080" y="380052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8400" y="4208400"/>
              <a:ext cx="209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         K+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26280" y="3250800"/>
              <a:ext cx="1906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11240" y="3230280"/>
              <a:ext cx="2231280" cy="154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1240" y="3250800"/>
              <a:ext cx="0" cy="7815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0760" y="1463040"/>
            <a:ext cx="8080200" cy="344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ipo Pu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ago Tenedor: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0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K -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= Valor de la acción al momento del ven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K = Precio del ejercici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5760" y="704880"/>
            <a:ext cx="6743880" cy="5143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30840" y="849960"/>
            <a:ext cx="5512680" cy="4560120"/>
            <a:chOff x="2130840" y="849960"/>
            <a:chExt cx="5512680" cy="4560120"/>
          </a:xfrm>
        </p:grpSpPr>
        <p:sp>
          <p:nvSpPr>
            <p:cNvPr id="189" name=""/>
            <p:cNvSpPr/>
            <p:nvPr/>
          </p:nvSpPr>
          <p:spPr>
            <a:xfrm flipV="1">
              <a:off x="2668680" y="1085760"/>
              <a:ext cx="0" cy="432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51040" y="4272120"/>
              <a:ext cx="443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30840" y="849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92800" y="395820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33800" y="4301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7800" y="182880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85920" y="1556280"/>
              <a:ext cx="37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71960" y="1531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68440" y="1582200"/>
            <a:ext cx="8080200" cy="3099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para el tened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- P        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(K -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) - P             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ecio del 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86080" y="666720"/>
            <a:ext cx="6743520" cy="5143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130840" y="849960"/>
            <a:ext cx="5512680" cy="4560120"/>
            <a:chOff x="2130840" y="849960"/>
            <a:chExt cx="5512680" cy="4560120"/>
          </a:xfrm>
        </p:grpSpPr>
        <p:sp>
          <p:nvSpPr>
            <p:cNvPr id="200" name=""/>
            <p:cNvSpPr/>
            <p:nvPr/>
          </p:nvSpPr>
          <p:spPr>
            <a:xfrm flipV="1">
              <a:off x="2668680" y="1085760"/>
              <a:ext cx="0" cy="432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51040" y="4272120"/>
              <a:ext cx="443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0840" y="849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92800" y="395820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3800" y="4301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47800" y="182880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85920" y="1556280"/>
              <a:ext cx="37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05080" y="2548440"/>
            <a:ext cx="5605200" cy="2709360"/>
            <a:chOff x="1405080" y="2548440"/>
            <a:chExt cx="5605200" cy="2709360"/>
          </a:xfrm>
        </p:grpSpPr>
        <p:sp>
          <p:nvSpPr>
            <p:cNvPr id="208" name=""/>
            <p:cNvSpPr/>
            <p:nvPr/>
          </p:nvSpPr>
          <p:spPr>
            <a:xfrm>
              <a:off x="2685960" y="281952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7360" y="5181480"/>
              <a:ext cx="194292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05080" y="2548440"/>
              <a:ext cx="110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 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47840" y="431064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X 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204720" y="15883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5040" y="530316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pueden cotizar opciones sobre índices accionarios, acciones, instrumentos de deuda, monedas, futuros, commodities (petróleo, oro, plata, cobre, jugo de naranja concentrado, carne de cerdo, madera, soya, trigo, maíz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s opciones se venden en mercados organizados y O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47600" y="819000"/>
            <a:ext cx="7506000" cy="5486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ago y Beneficio para el emisor del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50480" y="1135440"/>
            <a:ext cx="6359760" cy="4769640"/>
            <a:chOff x="1950480" y="1135440"/>
            <a:chExt cx="6359760" cy="4769640"/>
          </a:xfrm>
        </p:grpSpPr>
        <p:sp>
          <p:nvSpPr>
            <p:cNvPr id="217" name=""/>
            <p:cNvSpPr/>
            <p:nvPr/>
          </p:nvSpPr>
          <p:spPr>
            <a:xfrm flipV="1">
              <a:off x="2682720" y="3543480"/>
              <a:ext cx="1944720" cy="194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111760" y="1135440"/>
              <a:ext cx="6198480" cy="4769640"/>
              <a:chOff x="2111760" y="1135440"/>
              <a:chExt cx="6198480" cy="4769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2687760" y="1390320"/>
                <a:ext cx="0" cy="451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727360" y="3547800"/>
                <a:ext cx="5021280" cy="1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11760" y="113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59520" y="332964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591080" y="363456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50480" y="5269680"/>
              <a:ext cx="49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300680" y="2431080"/>
            <a:ext cx="6185880" cy="2494440"/>
            <a:chOff x="1300680" y="2431080"/>
            <a:chExt cx="6185880" cy="2494440"/>
          </a:xfrm>
        </p:grpSpPr>
        <p:sp>
          <p:nvSpPr>
            <p:cNvPr id="226" name=""/>
            <p:cNvSpPr/>
            <p:nvPr/>
          </p:nvSpPr>
          <p:spPr>
            <a:xfrm>
              <a:off x="4629240" y="2685960"/>
              <a:ext cx="0" cy="8575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300680" y="2431080"/>
              <a:ext cx="6185880" cy="2494440"/>
              <a:chOff x="1300680" y="2431080"/>
              <a:chExt cx="6185880" cy="24944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300680" y="2647440"/>
                <a:ext cx="6185880" cy="2278080"/>
                <a:chOff x="1300680" y="2647440"/>
                <a:chExt cx="6185880" cy="227808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2685960" y="2666880"/>
                  <a:ext cx="1981440" cy="2043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00680" y="4526640"/>
                  <a:ext cx="104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ahoma"/>
                    </a:rPr>
                    <a:t>- (K - P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4648320" y="2647440"/>
                  <a:ext cx="2838240" cy="57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949120" y="3059640"/>
                  <a:ext cx="723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ahoma"/>
                    </a:rPr>
                    <a:t>K - 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2079720" y="24310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5833440" y="20073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02960" y="488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14440" y="907920"/>
            <a:ext cx="8191440" cy="283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binación de Op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ueden combinar diferentes tipos de opciones y obtener diferentes funciones de pagos y beneficios con propósitos especulativos o de cobertu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419200"/>
            <a:ext cx="9144000" cy="4358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K -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      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K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840" y="3103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rotective”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9240" y="1278720"/>
            <a:ext cx="674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una acción + 1 Put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67480" y="-7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rotective”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714680"/>
            <a:ext cx="9144000" cy="455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600" y="803880"/>
            <a:ext cx="645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una acción + 1 Put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040" y="2083680"/>
            <a:ext cx="3042720" cy="3968640"/>
            <a:chOff x="5040" y="2083680"/>
            <a:chExt cx="3042720" cy="3968640"/>
          </a:xfrm>
        </p:grpSpPr>
        <p:grpSp>
          <p:nvGrpSpPr>
            <p:cNvPr id="244" name=""/>
            <p:cNvGrpSpPr/>
            <p:nvPr/>
          </p:nvGrpSpPr>
          <p:grpSpPr>
            <a:xfrm>
              <a:off x="5040" y="2083680"/>
              <a:ext cx="3042720" cy="3394440"/>
              <a:chOff x="5040" y="2083680"/>
              <a:chExt cx="3042720" cy="33944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552600" y="2705040"/>
                <a:ext cx="2495160" cy="2190960"/>
                <a:chOff x="552600" y="2705040"/>
                <a:chExt cx="2495160" cy="219096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552600" y="270504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7360" y="489600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V="1">
                <a:off x="552600" y="2819520"/>
                <a:ext cx="2076480" cy="2076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40" y="3364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57520" y="50792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3960" y="2083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210320" y="56840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c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249360" y="2083680"/>
            <a:ext cx="2693880" cy="3949560"/>
            <a:chOff x="3249360" y="2083680"/>
            <a:chExt cx="2693880" cy="3949560"/>
          </a:xfrm>
        </p:grpSpPr>
        <p:grpSp>
          <p:nvGrpSpPr>
            <p:cNvPr id="254" name=""/>
            <p:cNvGrpSpPr/>
            <p:nvPr/>
          </p:nvGrpSpPr>
          <p:grpSpPr>
            <a:xfrm>
              <a:off x="3249360" y="2083680"/>
              <a:ext cx="2693880" cy="3470400"/>
              <a:chOff x="3249360" y="2083680"/>
              <a:chExt cx="2693880" cy="34704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3448080" y="2724120"/>
                <a:ext cx="2495160" cy="2190960"/>
                <a:chOff x="3448080" y="2724120"/>
                <a:chExt cx="2495160" cy="2190960"/>
              </a:xfrm>
            </p:grpSpPr>
            <p:sp>
              <p:nvSpPr>
                <p:cNvPr id="256" name=""/>
                <p:cNvSpPr/>
                <p:nvPr/>
              </p:nvSpPr>
              <p:spPr>
                <a:xfrm flipV="1">
                  <a:off x="3448080" y="272412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62840" y="491508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448080" y="3486240"/>
                <a:ext cx="1428840" cy="142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72440" y="5155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49360" y="2083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534920" y="56649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71760" y="2045520"/>
            <a:ext cx="2710080" cy="4006800"/>
            <a:chOff x="6071760" y="2045520"/>
            <a:chExt cx="2710080" cy="4006800"/>
          </a:xfrm>
        </p:grpSpPr>
        <p:grpSp>
          <p:nvGrpSpPr>
            <p:cNvPr id="263" name=""/>
            <p:cNvGrpSpPr/>
            <p:nvPr/>
          </p:nvGrpSpPr>
          <p:grpSpPr>
            <a:xfrm>
              <a:off x="6071760" y="2045520"/>
              <a:ext cx="2710080" cy="3508560"/>
              <a:chOff x="6071760" y="2045520"/>
              <a:chExt cx="2710080" cy="350856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6286680" y="2724120"/>
                <a:ext cx="2495160" cy="2190960"/>
                <a:chOff x="6286680" y="2724120"/>
                <a:chExt cx="2495160" cy="219096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6286680" y="272412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301440" y="491508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6305400" y="3486240"/>
                <a:ext cx="131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7601040" y="2761920"/>
                <a:ext cx="723960" cy="72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20120" y="3467160"/>
                <a:ext cx="0" cy="142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5640" y="5155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71760" y="2045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6635520" y="568404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ombin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47600" y="819000"/>
            <a:ext cx="7506000" cy="5486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7680" y="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ne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986480" y="1135440"/>
            <a:ext cx="6323760" cy="4769640"/>
            <a:chOff x="1986480" y="1135440"/>
            <a:chExt cx="6323760" cy="4769640"/>
          </a:xfrm>
        </p:grpSpPr>
        <p:grpSp>
          <p:nvGrpSpPr>
            <p:cNvPr id="276" name=""/>
            <p:cNvGrpSpPr/>
            <p:nvPr/>
          </p:nvGrpSpPr>
          <p:grpSpPr>
            <a:xfrm>
              <a:off x="2111760" y="1135440"/>
              <a:ext cx="6198480" cy="4769640"/>
              <a:chOff x="2111760" y="1135440"/>
              <a:chExt cx="6198480" cy="476964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2687760" y="1390320"/>
                <a:ext cx="0" cy="451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727360" y="3547800"/>
                <a:ext cx="5021280" cy="1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11760" y="113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59520" y="332964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3376440" y="3022920"/>
              <a:ext cx="59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6480" y="4543920"/>
              <a:ext cx="55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685960" y="1542960"/>
              <a:ext cx="3162240" cy="316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42400" y="14360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c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141960" y="22359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otective 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73880" y="1676160"/>
            <a:ext cx="4387320" cy="2620800"/>
            <a:chOff x="1973880" y="1676160"/>
            <a:chExt cx="4387320" cy="2620800"/>
          </a:xfrm>
        </p:grpSpPr>
        <p:sp>
          <p:nvSpPr>
            <p:cNvPr id="287" name=""/>
            <p:cNvSpPr/>
            <p:nvPr/>
          </p:nvSpPr>
          <p:spPr>
            <a:xfrm flipV="1">
              <a:off x="3825720" y="1676160"/>
              <a:ext cx="2535480" cy="253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3880" y="389808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8960" y="3581280"/>
              <a:ext cx="0" cy="628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647800" y="4191120"/>
              <a:ext cx="1162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5760" y="3699360"/>
              <a:ext cx="149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+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495520"/>
            <a:ext cx="9144000" cy="4358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0                  - (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   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040" y="34848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vered C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1800" y="1326240"/>
            <a:ext cx="69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acción + venta de un Call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4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9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9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77920" y="-72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vered C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714680"/>
            <a:ext cx="9144000" cy="455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80" y="2083680"/>
            <a:ext cx="3043080" cy="3394440"/>
            <a:chOff x="4680" y="2083680"/>
            <a:chExt cx="3043080" cy="3394440"/>
          </a:xfrm>
        </p:grpSpPr>
        <p:grpSp>
          <p:nvGrpSpPr>
            <p:cNvPr id="298" name=""/>
            <p:cNvGrpSpPr/>
            <p:nvPr/>
          </p:nvGrpSpPr>
          <p:grpSpPr>
            <a:xfrm>
              <a:off x="552600" y="2705040"/>
              <a:ext cx="2495160" cy="2190960"/>
              <a:chOff x="552600" y="2705040"/>
              <a:chExt cx="2495160" cy="219096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552600" y="270504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360" y="4896000"/>
                <a:ext cx="248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V="1">
              <a:off x="552600" y="2819520"/>
              <a:ext cx="2076480" cy="2076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80" y="3364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7520" y="5079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3960" y="208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249000" y="2083680"/>
            <a:ext cx="2694240" cy="3470400"/>
            <a:chOff x="3249000" y="2083680"/>
            <a:chExt cx="2694240" cy="3470400"/>
          </a:xfrm>
        </p:grpSpPr>
        <p:grpSp>
          <p:nvGrpSpPr>
            <p:cNvPr id="306" name=""/>
            <p:cNvGrpSpPr/>
            <p:nvPr/>
          </p:nvGrpSpPr>
          <p:grpSpPr>
            <a:xfrm>
              <a:off x="3448080" y="2724120"/>
              <a:ext cx="2495160" cy="2190960"/>
              <a:chOff x="3448080" y="2724120"/>
              <a:chExt cx="2495160" cy="2190960"/>
            </a:xfrm>
          </p:grpSpPr>
          <p:sp>
            <p:nvSpPr>
              <p:cNvPr id="307" name=""/>
              <p:cNvSpPr/>
              <p:nvPr/>
            </p:nvSpPr>
            <p:spPr>
              <a:xfrm flipV="1">
                <a:off x="3448080" y="272412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62840" y="4915080"/>
                <a:ext cx="248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672440" y="5155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9000" y="208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71760" y="2045520"/>
            <a:ext cx="2843640" cy="3508560"/>
            <a:chOff x="6071760" y="2045520"/>
            <a:chExt cx="2843640" cy="3508560"/>
          </a:xfrm>
        </p:grpSpPr>
        <p:grpSp>
          <p:nvGrpSpPr>
            <p:cNvPr id="312" name=""/>
            <p:cNvGrpSpPr/>
            <p:nvPr/>
          </p:nvGrpSpPr>
          <p:grpSpPr>
            <a:xfrm>
              <a:off x="6286680" y="2724120"/>
              <a:ext cx="2495520" cy="2190960"/>
              <a:chOff x="6286680" y="2724120"/>
              <a:chExt cx="2495520" cy="219096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286680" y="272412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02520" y="4915080"/>
                <a:ext cx="2479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7601040" y="3600360"/>
              <a:ext cx="131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305400" y="3581280"/>
              <a:ext cx="1314720" cy="131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0120" y="3619440"/>
              <a:ext cx="0" cy="12765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15640" y="5155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71760" y="204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82600" y="803880"/>
            <a:ext cx="815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acción + venta de un Call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448080" y="4915080"/>
            <a:ext cx="2381400" cy="1047600"/>
            <a:chOff x="3448080" y="4915080"/>
            <a:chExt cx="2381400" cy="1047600"/>
          </a:xfrm>
        </p:grpSpPr>
        <p:sp>
          <p:nvSpPr>
            <p:cNvPr id="322" name=""/>
            <p:cNvSpPr/>
            <p:nvPr/>
          </p:nvSpPr>
          <p:spPr>
            <a:xfrm>
              <a:off x="4781520" y="4915080"/>
              <a:ext cx="1047960" cy="104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48080" y="4933800"/>
              <a:ext cx="1352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1733400"/>
            <a:ext cx="8458200" cy="2068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sidere la siguiente estrategia:  comprar un Call + un bono con valor cara igual al precio de ejercicio y con período de expiración igual al de la op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3440" y="2469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ut - Call P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704880"/>
            <a:ext cx="8458200" cy="378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all 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0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-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Bono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K                    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K                      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4905720"/>
            <a:ext cx="72730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sma función de Pagos que el “Protective P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ben costar lo mismo los portafol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0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0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5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6760" y="1181160"/>
            <a:ext cx="8458200" cy="33350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strategias de Invers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ptimista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Comprar acción, comprar un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          call, vender un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esimista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Vender acción, vender un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           call, comprar un pu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pos de 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LL (C): proporciona el derecho pero no la obligación a comprar un bien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holder comprador: tiene el derecho a compr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writer vendedor call: tiene la obligación de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T (P): proporciona el derecho pero no la obligación a vender un bien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holder vendedor: tiene el derecho a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writer vendedor put: tiene la obligación de compr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47680" y="800280"/>
            <a:ext cx="8458200" cy="5321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considera que el precio de una acción que actualmente cotiza en $100 puede subir en los próximos 6 me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n $10,000 para invert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en contratos de opciones por 100 acciones cada una para ese período de tiempo con precio de ejercicio igual a $100 y una prima de $1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e un bono con período de maduración de 6 meses y tasa de interés de 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800280"/>
            <a:ext cx="8713800" cy="338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strategias de Invers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. Comprar 100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. Comprar 1000 opciones tipo call (10 contrat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. Comprar 100 opciones (1 contrato) e invertir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$9000 en el Bono. ($9270 = $9000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1.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0920" y="54936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or del Portafolio en 6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1700280"/>
          <a:ext cx="9144000" cy="191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1914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0" y="4221000"/>
          <a:ext cx="9144000" cy="19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221000"/>
                    <a:ext cx="9144000" cy="1971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666720"/>
            <a:ext cx="9144000" cy="4483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s opciones presentan dos características impor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Ofrece Apalancamiento. Es decir, incremento en el precio de la acción se traduce en incrementos más que proporcionales en los rendimientos. (Estrategia A vs.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Ofrece un seguro. Con la estrategia C se limita el valor mínimo del portafol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5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3040" y="323280"/>
            <a:ext cx="57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sto del Portafolio Bono + C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451240" y="996840"/>
                <a:ext cx="23922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453960" y="243756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sto del Portafolio Acción +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346040" y="3046320"/>
                <a:ext cx="4907160" cy="26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502920" y="5915520"/>
            <a:ext cx="66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elación entre el precio de un put y un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41440" y="1434960"/>
            <a:ext cx="8602560" cy="5658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jor comprar la acción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derecho de comprar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 precio más al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  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Comprar la opción, ejercerla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ando x y vendiénd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-  (C + x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- (C + x)  &gt;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eneficio segu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00" y="-720"/>
            <a:ext cx="85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Valuación de Opciones antes de su ven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79800" y="655200"/>
            <a:ext cx="3316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uponemos opción Americ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1640" y="312120"/>
            <a:ext cx="85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uación de Opciones antes de su ven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38840" y="1270080"/>
            <a:ext cx="3457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uponemos opción Americ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2600" y="2076480"/>
            <a:ext cx="7524720" cy="4533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00360" y="2965320"/>
            <a:ext cx="3836880" cy="2559240"/>
          </a:xfrm>
          <a:custGeom>
            <a:avLst/>
            <a:gdLst/>
            <a:ahLst/>
            <a:rect l="l" t="t" r="r" b="b"/>
            <a:pathLst>
              <a:path w="2417" h="1612">
                <a:moveTo>
                  <a:pt x="1434" y="4"/>
                </a:moveTo>
                <a:cubicBezTo>
                  <a:pt x="1754" y="8"/>
                  <a:pt x="2074" y="0"/>
                  <a:pt x="2394" y="16"/>
                </a:cubicBezTo>
                <a:cubicBezTo>
                  <a:pt x="2417" y="17"/>
                  <a:pt x="2403" y="87"/>
                  <a:pt x="2394" y="88"/>
                </a:cubicBezTo>
                <a:cubicBezTo>
                  <a:pt x="2263" y="103"/>
                  <a:pt x="2130" y="96"/>
                  <a:pt x="1998" y="100"/>
                </a:cubicBezTo>
                <a:cubicBezTo>
                  <a:pt x="1416" y="116"/>
                  <a:pt x="1718" y="103"/>
                  <a:pt x="1302" y="124"/>
                </a:cubicBezTo>
                <a:cubicBezTo>
                  <a:pt x="1296" y="134"/>
                  <a:pt x="1229" y="213"/>
                  <a:pt x="1302" y="220"/>
                </a:cubicBezTo>
                <a:cubicBezTo>
                  <a:pt x="1537" y="243"/>
                  <a:pt x="1774" y="228"/>
                  <a:pt x="2010" y="232"/>
                </a:cubicBezTo>
                <a:cubicBezTo>
                  <a:pt x="2092" y="240"/>
                  <a:pt x="2168" y="223"/>
                  <a:pt x="2214" y="292"/>
                </a:cubicBezTo>
                <a:cubicBezTo>
                  <a:pt x="2151" y="334"/>
                  <a:pt x="2192" y="313"/>
                  <a:pt x="2082" y="340"/>
                </a:cubicBezTo>
                <a:cubicBezTo>
                  <a:pt x="1795" y="412"/>
                  <a:pt x="1490" y="348"/>
                  <a:pt x="1194" y="352"/>
                </a:cubicBezTo>
                <a:cubicBezTo>
                  <a:pt x="1182" y="356"/>
                  <a:pt x="1169" y="358"/>
                  <a:pt x="1158" y="364"/>
                </a:cubicBezTo>
                <a:cubicBezTo>
                  <a:pt x="1145" y="370"/>
                  <a:pt x="1135" y="382"/>
                  <a:pt x="1122" y="388"/>
                </a:cubicBezTo>
                <a:cubicBezTo>
                  <a:pt x="1099" y="398"/>
                  <a:pt x="1050" y="412"/>
                  <a:pt x="1050" y="412"/>
                </a:cubicBezTo>
                <a:cubicBezTo>
                  <a:pt x="1054" y="432"/>
                  <a:pt x="1043" y="463"/>
                  <a:pt x="1062" y="472"/>
                </a:cubicBezTo>
                <a:cubicBezTo>
                  <a:pt x="1106" y="492"/>
                  <a:pt x="1158" y="482"/>
                  <a:pt x="1206" y="484"/>
                </a:cubicBezTo>
                <a:cubicBezTo>
                  <a:pt x="1338" y="490"/>
                  <a:pt x="1470" y="492"/>
                  <a:pt x="1602" y="496"/>
                </a:cubicBezTo>
                <a:cubicBezTo>
                  <a:pt x="1718" y="508"/>
                  <a:pt x="1835" y="513"/>
                  <a:pt x="1950" y="532"/>
                </a:cubicBezTo>
                <a:cubicBezTo>
                  <a:pt x="1934" y="614"/>
                  <a:pt x="1933" y="608"/>
                  <a:pt x="1854" y="628"/>
                </a:cubicBezTo>
                <a:cubicBezTo>
                  <a:pt x="1455" y="617"/>
                  <a:pt x="1311" y="606"/>
                  <a:pt x="894" y="628"/>
                </a:cubicBezTo>
                <a:cubicBezTo>
                  <a:pt x="845" y="631"/>
                  <a:pt x="750" y="652"/>
                  <a:pt x="750" y="652"/>
                </a:cubicBezTo>
                <a:cubicBezTo>
                  <a:pt x="785" y="793"/>
                  <a:pt x="902" y="731"/>
                  <a:pt x="1038" y="724"/>
                </a:cubicBezTo>
                <a:cubicBezTo>
                  <a:pt x="1258" y="731"/>
                  <a:pt x="1459" y="742"/>
                  <a:pt x="1674" y="760"/>
                </a:cubicBezTo>
                <a:cubicBezTo>
                  <a:pt x="1723" y="776"/>
                  <a:pt x="1742" y="795"/>
                  <a:pt x="1758" y="844"/>
                </a:cubicBezTo>
                <a:cubicBezTo>
                  <a:pt x="1666" y="906"/>
                  <a:pt x="1663" y="903"/>
                  <a:pt x="1542" y="916"/>
                </a:cubicBezTo>
                <a:cubicBezTo>
                  <a:pt x="1216" y="909"/>
                  <a:pt x="923" y="903"/>
                  <a:pt x="606" y="868"/>
                </a:cubicBezTo>
                <a:cubicBezTo>
                  <a:pt x="582" y="872"/>
                  <a:pt x="543" y="858"/>
                  <a:pt x="534" y="880"/>
                </a:cubicBezTo>
                <a:cubicBezTo>
                  <a:pt x="478" y="1014"/>
                  <a:pt x="579" y="1045"/>
                  <a:pt x="666" y="1060"/>
                </a:cubicBezTo>
                <a:cubicBezTo>
                  <a:pt x="847" y="1052"/>
                  <a:pt x="1430" y="975"/>
                  <a:pt x="1470" y="1096"/>
                </a:cubicBezTo>
                <a:cubicBezTo>
                  <a:pt x="1452" y="1169"/>
                  <a:pt x="1420" y="1193"/>
                  <a:pt x="1350" y="1216"/>
                </a:cubicBezTo>
                <a:cubicBezTo>
                  <a:pt x="1202" y="1212"/>
                  <a:pt x="1054" y="1212"/>
                  <a:pt x="906" y="1204"/>
                </a:cubicBezTo>
                <a:cubicBezTo>
                  <a:pt x="830" y="1200"/>
                  <a:pt x="753" y="1193"/>
                  <a:pt x="678" y="1180"/>
                </a:cubicBezTo>
                <a:cubicBezTo>
                  <a:pt x="630" y="1172"/>
                  <a:pt x="534" y="1156"/>
                  <a:pt x="534" y="1156"/>
                </a:cubicBezTo>
                <a:cubicBezTo>
                  <a:pt x="450" y="1173"/>
                  <a:pt x="398" y="1162"/>
                  <a:pt x="354" y="1228"/>
                </a:cubicBezTo>
                <a:cubicBezTo>
                  <a:pt x="427" y="1338"/>
                  <a:pt x="832" y="1288"/>
                  <a:pt x="834" y="1288"/>
                </a:cubicBezTo>
                <a:cubicBezTo>
                  <a:pt x="919" y="1305"/>
                  <a:pt x="996" y="1309"/>
                  <a:pt x="1074" y="1348"/>
                </a:cubicBezTo>
                <a:cubicBezTo>
                  <a:pt x="1066" y="1372"/>
                  <a:pt x="1074" y="1411"/>
                  <a:pt x="1050" y="1420"/>
                </a:cubicBezTo>
                <a:cubicBezTo>
                  <a:pt x="990" y="1443"/>
                  <a:pt x="922" y="1432"/>
                  <a:pt x="858" y="1432"/>
                </a:cubicBezTo>
                <a:cubicBezTo>
                  <a:pt x="742" y="1432"/>
                  <a:pt x="626" y="1424"/>
                  <a:pt x="510" y="1420"/>
                </a:cubicBezTo>
                <a:cubicBezTo>
                  <a:pt x="397" y="1397"/>
                  <a:pt x="334" y="1399"/>
                  <a:pt x="210" y="1408"/>
                </a:cubicBezTo>
                <a:cubicBezTo>
                  <a:pt x="175" y="1420"/>
                  <a:pt x="136" y="1418"/>
                  <a:pt x="102" y="1432"/>
                </a:cubicBezTo>
                <a:cubicBezTo>
                  <a:pt x="75" y="1443"/>
                  <a:pt x="30" y="1480"/>
                  <a:pt x="30" y="1480"/>
                </a:cubicBezTo>
                <a:cubicBezTo>
                  <a:pt x="22" y="1492"/>
                  <a:pt x="8" y="1502"/>
                  <a:pt x="6" y="1516"/>
                </a:cubicBezTo>
                <a:cubicBezTo>
                  <a:pt x="0" y="1551"/>
                  <a:pt x="28" y="1561"/>
                  <a:pt x="54" y="1564"/>
                </a:cubicBezTo>
                <a:cubicBezTo>
                  <a:pt x="102" y="1570"/>
                  <a:pt x="150" y="1572"/>
                  <a:pt x="198" y="1576"/>
                </a:cubicBezTo>
                <a:cubicBezTo>
                  <a:pt x="826" y="1547"/>
                  <a:pt x="550" y="1545"/>
                  <a:pt x="1026" y="1564"/>
                </a:cubicBezTo>
                <a:cubicBezTo>
                  <a:pt x="1052" y="1603"/>
                  <a:pt x="1050" y="1586"/>
                  <a:pt x="1050" y="16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33480" y="2350440"/>
            <a:ext cx="7115040" cy="4148640"/>
            <a:chOff x="933480" y="2350440"/>
            <a:chExt cx="7115040" cy="4148640"/>
          </a:xfrm>
        </p:grpSpPr>
        <p:sp>
          <p:nvSpPr>
            <p:cNvPr id="350" name=""/>
            <p:cNvSpPr/>
            <p:nvPr/>
          </p:nvSpPr>
          <p:spPr>
            <a:xfrm flipV="1">
              <a:off x="952560" y="2628720"/>
              <a:ext cx="0" cy="3238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3480" y="5867280"/>
              <a:ext cx="4152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952560" y="2837880"/>
              <a:ext cx="3009960" cy="300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276720" y="3257280"/>
              <a:ext cx="2609640" cy="260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35960" y="60393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58560" y="235044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Valor Máxim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79920" y="2664720"/>
              <a:ext cx="25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Valor Mínimo = S -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9560" y="331200"/>
            <a:ext cx="83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ctores que inciden en el valor de una o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1000" y="1390680"/>
          <a:ext cx="61020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0680"/>
                    <a:ext cx="6102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447920" y="1790640"/>
          <a:ext cx="6229080" cy="3828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90640"/>
                    <a:ext cx="6229080" cy="3828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83320" y="3312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de Black - Sc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9840" y="1359000"/>
            <a:ext cx="8524800" cy="3496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lack and Scholes mostraron que existe una estrategia de comprar una combinación de bonos y acciones que permite  replicar el valor de un c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ado el precio de la acción y la tasa libre de riesgo se puede establecer el costo de la estrategia y dado que  ésta presenta el mismo riesgo que un call, el costo del  call debe ser el mism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28600" y="165240"/>
            <a:ext cx="858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con dos posibles resultados para el precio de la acción: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o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680" y="1271880"/>
            <a:ext cx="8524800" cy="4939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ponemos r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10%,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U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= $60,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$40, que existe un call por 100 acciones que vence dentro de un año con precio de ejercicio igual a $5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sideremos dos estrategi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. Comprar un Call (100 opcio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. Comprar “B” unidades de un bono y “m”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unidades de la 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pecificación de una o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IEN SUBYACENTE (S).- El valor del activo sobre el cual es emitida la op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CIO DE EJERCICIO (STRIKE PRICE=K).- Precio específico al cual el activo puede ser comprado o vend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.- Fecha en la cual la opción puede ser ejerc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MA.- Precio de mercado al cual puede ser comprada o vendida una op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165240"/>
            <a:ext cx="858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con dos posibles resultados para el precio de la acción: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o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5800" y="182916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gos Esp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38120" y="2971800"/>
          <a:ext cx="8153280" cy="22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2971800"/>
                    <a:ext cx="8153280" cy="2257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70000" y="770040"/>
            <a:ext cx="85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¿Cuál es el valor de “m” y “B” que hacen que las estrategias A y B sean igua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63600" y="2744640"/>
                <a:ext cx="853272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-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  y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,00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0000" y="95292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¿Cuál es el costo de la estrategia 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74840" y="2428920"/>
          <a:ext cx="8021520" cy="127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2428920"/>
                    <a:ext cx="8021520" cy="12762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66560" y="4896360"/>
            <a:ext cx="82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or lo tanto el valor del call debe ser igual a $682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4000" y="596520"/>
            <a:ext cx="8524800" cy="59396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. No existen restricciones a la venta cor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2. No hay costos de transa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3. No hay impue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4. Opción Europ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5. No hay dividen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6. El precio de la acción es una variabl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in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7. El mercado opera ininterrumpid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8. Tasa de interés es cons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9. El precio de la acción tiene una distribución log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263520" y="711360"/>
            <a:ext cx="8524800" cy="5675400"/>
            <a:chOff x="263520" y="711360"/>
            <a:chExt cx="8524800" cy="5675400"/>
          </a:xfrm>
        </p:grpSpPr>
        <p:sp>
          <p:nvSpPr>
            <p:cNvPr id="378" name=""/>
            <p:cNvSpPr/>
            <p:nvPr/>
          </p:nvSpPr>
          <p:spPr>
            <a:xfrm>
              <a:off x="263520" y="711360"/>
              <a:ext cx="8524800" cy="567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Fórm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Donde: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N(d) = Probabilidad de que una variable aleatoria  distribuida como una normal estandarizada sea menor o igual a d.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2082960" y="1409760"/>
                  <a:ext cx="4082760" cy="26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sup>
                          </m:sSup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T</m:t>
                                  </m:r>
                                </m:e>
                              </m:rad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T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20760" y="1253160"/>
            <a:ext cx="8524800" cy="485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directivos de algunas empresas reciben un salario base y algún tipo de compensación adicional en función del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los últimos años se ha incrementado el uso de opciones de compra de acciones de la empresa como compensación del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426240"/>
            <a:ext cx="76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ciones y compensación por desemp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20760" y="1629720"/>
            <a:ext cx="8524800" cy="36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s razones son las siguie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Los directivos y accionistas comparten e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mismo 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Permite reducir el sueldo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En algunos países presentan una forma d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evitar el pago de impuestos pers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426240"/>
            <a:ext cx="76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ciones y compensación por desemp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600" y="1219320"/>
            <a:ext cx="8458200" cy="4053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jemplo: Compensación de Michael Eis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cutivo de Walt Disney. En 1996 recibió como compensación 8 millones de opciones de compra de la acción de la Empresa para ejercer en los próximos 5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nto vale la compensa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5840" y="1104840"/>
            <a:ext cx="8458200" cy="3558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$71.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K =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0.0426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0.20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47680" y="838080"/>
            <a:ext cx="8458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tilizando la fórmula de Black - Sc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93760" y="1679400"/>
                <a:ext cx="8272440" cy="378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26</m:t>
                            </m:r>
                            <m:r>
                              <m:t xml:space="preserve">)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26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89</m:t>
                        </m:r>
                      </m:e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9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1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pecificación de una o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CIÓN LARGA.- Derecho a comprar/vender un valor en una fecha, plazo, cantidad, calidad y precio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CIÓN CORTA.- Obligación a comprar/vender un valor en una fecha, plazo, cantidad, calidad y precio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845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ilizando una tabla de una distribución normal estandarizada encontramos lo sigu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760" y="1402560"/>
            <a:ext cx="8168040" cy="4018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(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) = Pr (x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98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0.838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(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) = 0.7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 = 77.16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8386 - 77.16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-0.07 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 5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7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64.7064 - 38.11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26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5483160"/>
            <a:ext cx="845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or de la compensación = 26.6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8,00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$212,766,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1120" y="1028880"/>
            <a:ext cx="4115880" cy="1814400"/>
            <a:chOff x="681120" y="1028880"/>
            <a:chExt cx="4115880" cy="1814400"/>
          </a:xfrm>
        </p:grpSpPr>
        <p:grpSp>
          <p:nvGrpSpPr>
            <p:cNvPr id="392" name=""/>
            <p:cNvGrpSpPr/>
            <p:nvPr/>
          </p:nvGrpSpPr>
          <p:grpSpPr>
            <a:xfrm>
              <a:off x="681120" y="1165320"/>
              <a:ext cx="4115880" cy="1677960"/>
              <a:chOff x="681120" y="1165320"/>
              <a:chExt cx="4115880" cy="1677960"/>
            </a:xfrm>
          </p:grpSpPr>
          <p:sp>
            <p:nvSpPr>
              <p:cNvPr id="393" name=""/>
              <p:cNvSpPr/>
              <p:nvPr/>
            </p:nvSpPr>
            <p:spPr>
              <a:xfrm flipV="1">
                <a:off x="681120" y="2819160"/>
                <a:ext cx="217080" cy="12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898200" y="2773440"/>
                <a:ext cx="214560" cy="46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113120" y="2668320"/>
                <a:ext cx="217080" cy="1047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330560" y="2482920"/>
                <a:ext cx="217080" cy="1857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547640" y="2190600"/>
                <a:ext cx="216720" cy="2919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1764360" y="1794960"/>
                <a:ext cx="215280" cy="395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1980000" y="1271160"/>
                <a:ext cx="217080" cy="523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63600" y="1165320"/>
                <a:ext cx="217080" cy="501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80680" y="1666800"/>
                <a:ext cx="215280" cy="360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96320" y="2027160"/>
                <a:ext cx="216720" cy="373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13040" y="2400480"/>
                <a:ext cx="217080" cy="233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0120" y="2633760"/>
                <a:ext cx="217080" cy="115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47560" y="2749680"/>
                <a:ext cx="214560" cy="47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62480" y="2797200"/>
                <a:ext cx="217080" cy="34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79920" y="2832120"/>
                <a:ext cx="217080" cy="11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209680" y="1028880"/>
              <a:ext cx="857520" cy="266400"/>
            </a:xfrm>
            <a:custGeom>
              <a:avLst/>
              <a:gdLst/>
              <a:ahLst/>
              <a:rect l="l" t="t" r="r" b="b"/>
              <a:pathLst>
                <a:path w="540" h="168">
                  <a:moveTo>
                    <a:pt x="0" y="168"/>
                  </a:moveTo>
                  <a:cubicBezTo>
                    <a:pt x="24" y="144"/>
                    <a:pt x="42" y="111"/>
                    <a:pt x="72" y="96"/>
                  </a:cubicBezTo>
                  <a:cubicBezTo>
                    <a:pt x="88" y="88"/>
                    <a:pt x="105" y="82"/>
                    <a:pt x="120" y="72"/>
                  </a:cubicBezTo>
                  <a:cubicBezTo>
                    <a:pt x="162" y="42"/>
                    <a:pt x="178" y="17"/>
                    <a:pt x="228" y="0"/>
                  </a:cubicBezTo>
                  <a:cubicBezTo>
                    <a:pt x="370" y="11"/>
                    <a:pt x="438" y="6"/>
                    <a:pt x="540" y="108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 flipV="1">
            <a:off x="628560" y="55224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8560" y="2952720"/>
            <a:ext cx="4934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81320" y="91440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89360" y="309780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219480" y="291240"/>
            <a:ext cx="4786200" cy="2566440"/>
            <a:chOff x="3219480" y="291240"/>
            <a:chExt cx="4786200" cy="2566440"/>
          </a:xfrm>
        </p:grpSpPr>
        <p:sp>
          <p:nvSpPr>
            <p:cNvPr id="414" name=""/>
            <p:cNvSpPr/>
            <p:nvPr/>
          </p:nvSpPr>
          <p:spPr>
            <a:xfrm>
              <a:off x="3219480" y="1947960"/>
              <a:ext cx="674640" cy="909720"/>
            </a:xfrm>
            <a:custGeom>
              <a:avLst/>
              <a:gdLst/>
              <a:ahLst/>
              <a:rect l="l" t="t" r="r" b="b"/>
              <a:pathLst>
                <a:path w="425" h="573">
                  <a:moveTo>
                    <a:pt x="0" y="45"/>
                  </a:moveTo>
                  <a:cubicBezTo>
                    <a:pt x="86" y="16"/>
                    <a:pt x="58" y="0"/>
                    <a:pt x="96" y="57"/>
                  </a:cubicBezTo>
                  <a:cubicBezTo>
                    <a:pt x="76" y="64"/>
                    <a:pt x="36" y="73"/>
                    <a:pt x="24" y="93"/>
                  </a:cubicBezTo>
                  <a:cubicBezTo>
                    <a:pt x="11" y="114"/>
                    <a:pt x="0" y="165"/>
                    <a:pt x="0" y="165"/>
                  </a:cubicBezTo>
                  <a:cubicBezTo>
                    <a:pt x="21" y="228"/>
                    <a:pt x="36" y="216"/>
                    <a:pt x="96" y="201"/>
                  </a:cubicBezTo>
                  <a:cubicBezTo>
                    <a:pt x="105" y="187"/>
                    <a:pt x="125" y="141"/>
                    <a:pt x="156" y="153"/>
                  </a:cubicBezTo>
                  <a:cubicBezTo>
                    <a:pt x="169" y="158"/>
                    <a:pt x="172" y="177"/>
                    <a:pt x="180" y="189"/>
                  </a:cubicBezTo>
                  <a:cubicBezTo>
                    <a:pt x="116" y="285"/>
                    <a:pt x="200" y="169"/>
                    <a:pt x="120" y="249"/>
                  </a:cubicBezTo>
                  <a:cubicBezTo>
                    <a:pt x="40" y="329"/>
                    <a:pt x="156" y="245"/>
                    <a:pt x="60" y="309"/>
                  </a:cubicBezTo>
                  <a:cubicBezTo>
                    <a:pt x="25" y="362"/>
                    <a:pt x="11" y="362"/>
                    <a:pt x="48" y="417"/>
                  </a:cubicBezTo>
                  <a:cubicBezTo>
                    <a:pt x="84" y="413"/>
                    <a:pt x="122" y="416"/>
                    <a:pt x="156" y="405"/>
                  </a:cubicBezTo>
                  <a:cubicBezTo>
                    <a:pt x="183" y="396"/>
                    <a:pt x="228" y="357"/>
                    <a:pt x="228" y="357"/>
                  </a:cubicBezTo>
                  <a:cubicBezTo>
                    <a:pt x="244" y="361"/>
                    <a:pt x="266" y="356"/>
                    <a:pt x="276" y="369"/>
                  </a:cubicBezTo>
                  <a:cubicBezTo>
                    <a:pt x="284" y="379"/>
                    <a:pt x="273" y="396"/>
                    <a:pt x="264" y="405"/>
                  </a:cubicBezTo>
                  <a:cubicBezTo>
                    <a:pt x="231" y="438"/>
                    <a:pt x="190" y="455"/>
                    <a:pt x="156" y="489"/>
                  </a:cubicBezTo>
                  <a:cubicBezTo>
                    <a:pt x="138" y="544"/>
                    <a:pt x="135" y="554"/>
                    <a:pt x="192" y="573"/>
                  </a:cubicBezTo>
                  <a:cubicBezTo>
                    <a:pt x="208" y="569"/>
                    <a:pt x="226" y="570"/>
                    <a:pt x="240" y="561"/>
                  </a:cubicBezTo>
                  <a:cubicBezTo>
                    <a:pt x="349" y="489"/>
                    <a:pt x="182" y="552"/>
                    <a:pt x="300" y="513"/>
                  </a:cubicBezTo>
                  <a:cubicBezTo>
                    <a:pt x="365" y="522"/>
                    <a:pt x="425" y="508"/>
                    <a:pt x="360" y="57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486240" y="291240"/>
              <a:ext cx="4519440" cy="2166120"/>
              <a:chOff x="3486240" y="291240"/>
              <a:chExt cx="4519440" cy="21661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3486240" y="1123920"/>
                <a:ext cx="1333440" cy="1333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7240" y="291240"/>
                <a:ext cx="2998440" cy="11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robabilidad de qu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esté dentro del diner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la opció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60440" y="3806640"/>
            <a:ext cx="8151840" cy="180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ntras mayor sea S más valiosa será la opción. Si S depende en parte del esfuerzo de la administración, ésta tendrá incentivos para trabajar de manera que S sea lo mayor po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pos de 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urope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jerce sólo al ven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mericana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 ejercerse en cualquier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mento hasta su ven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larg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teóricamente ilimitada. Entre más aumenta el precio del bien subyacente mayor es la gana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la prima pagada (el costo del call). Si el precio del bien subyacente disminuye, no se ej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 precio de ejercicio (Strike) más la Prim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punto en el que se puede vender el call al mismo precio al que se compr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700280"/>
            <a:ext cx="8515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6T17:53:26Z</dcterms:created>
  <dc:creator>I.T.A.M.</dc:creator>
  <dc:description/>
  <dc:language>en-US</dc:language>
  <cp:lastModifiedBy>IVAN ALVAREZ VALDES</cp:lastModifiedBy>
  <cp:lastPrinted>1999-10-16T18:15:54Z</cp:lastPrinted>
  <dcterms:modified xsi:type="dcterms:W3CDTF">2006-06-28T03:59:32Z</dcterms:modified>
  <cp:revision>75</cp:revision>
  <dc:subject/>
  <dc:title>Riesgo de seguros: Una perspectiva financiera</dc:title>
</cp:coreProperties>
</file>