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4EE-F01E-4EFF-8199-75F7500C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829-D50E-41B5-BD9E-475E9E35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CC9-6867-467B-9C79-1DC16552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62C-720A-42B4-9333-A2469BF6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EFAE-7C53-486F-89C3-B797BBF7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CE0F-5423-4519-9D86-DFC290AF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F466-C879-430B-9E0B-D7A2DF87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2BD6-81D3-49C0-8479-319CA691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3DBD-143B-40E5-8E25-CB0E8341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D7FB-93B2-471D-B1CB-CCEE96ED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167A-F9F5-4321-9C27-BF9C72CC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687D-1C32-4287-A674-66C4C8B7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048E-A6BA-442F-A529-18170075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AF94-369D-463E-8DAA-D95A6540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6CA9-B348-41F6-BD6F-E0605998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545F-0055-4785-8A80-EC81DD99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1136-B472-4663-9047-4DD4B10D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C6E-90EE-43C2-BA3A-CA38B73B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E79-5D02-4A72-8614-0BE1292C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556-F3DE-4F6E-BE89-ED109FF9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0D6-1179-4B63-99B7-10227A6A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1DB-4B9D-480D-BBC4-FCB068DB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14B-FFD9-4E62-A951-0AE31AB3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A60-99E9-4223-96E1-AEADC582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654F-2A3A-4F9B-851B-D757A27E4112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7402-3D58-4D0B-B2FB-0D3642894866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6633"/>
                </a:solidFill>
                <a:latin typeface="Arial"/>
              </a:rPr>
              <a:t>Eficiencia de Mercado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La hipótesis débil del mercado eficiente (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gún esta hipótesis ningún inversionista podrá conseguir u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ndimiento superior al del promedio del mercado analizan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clusivamente la información pasada (la serie histórica de precio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 si lo logra será sólo por az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hora bien, si el mercado se ajusta a esta hipótesis, un inversor s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drá “ganarle al mercado" utilizando la información hecha públ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 la información privilegi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La hipótesis semi fuerte del mercado eficiente (1)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gún esta hipótesis un mercado es eficiente en form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emi fuerte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do los precios reflejan, no sólo toda la información pasada, sino también toda la información pública acerca de la empresa o de su entorno, que pueda afectar a cada título en particular (informe de resultados, anuncios de dividendos, balances anuales, trimestrales, variación del tipo de interé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do que una gran parte de la información utilizada por los analistas financieros está ampliamente disponible para el público, esta hipótesis desafía fuertemente la profesión de analista financi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La hipótesis semi fuerte del mercado eficiente (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o es, si la eficiencia del mercado se ajusta a dicha hipótesis, la persona que emplee 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nálisis fundamental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a intentar lograr un rendimiento superior a la media del mercado está perdiendo el tiempo, puesto que la cotización de los títulos ya refleja exactamente su valor teórico o intrínsec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 única forma de lograr un rendimiento superior al promedio, que no sea por medio del azar, es a través de la utilización de la información privilegiad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La hipótesis fuerte del mercado eficient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ipótesis fuert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e del supuesto de que los precios reflejan absolutamente toda la información ya sea pasada, pública o privad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gún ella, ningún inversor podrá “ganarle al mercado" sólo porr az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 es una hipótesis extrema que es prácticamente imposible de cumplir en ningún mercado, pues ello implicaría que dicho mercado sería perfecto y eso es una quime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rolario …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necesario hacer hincapié en que para que un mercado sea eficiente es necesario que los participantes realicen análisis de la información a fin de que la competencia entre ellos, asegure que los precios de los títulos reflejan toda la información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Tipos de Análisi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álisis técnic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busca patrones recurrentes en las series históricas de precios y, por tanto, predec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álisis fundament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utiliza las predicciones de beneficios y dividendos de la empresa, las expectativas sobre los tipos de interés y la valoración del riesgo de la compañía para determinar el precio intrínseco de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los analistas pensaran que el mercado es eficiente y renunciaran a realizar sus análisis entonces es seguro que el mercado llegaría a ser rápida y completamente ine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resumen, los mercados se aproximan a la eficiencia cuando los participantes en los mismos creen que no son eficientes y compiten buscando esa ineficiencia que les hará ganar una mayor rentabilidad que el promedio de los inversionist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1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general, la mayoría de los estudios que se han realizado sobre la distribución de las cotizaciones bursátiles llevan a conclusiones muy simi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Kendall (1953) realizó un estudio sobre los cambios semanales de los precios de las acciones industriales británicas y llega a la conclusión de que la distribución de los rendimientos se aproximaba a una de tipo normal. Los precios parecían moverse aleatoriamente y no existían patrones predecibles sobre su comport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ore (1962), por su parte, analiza las primeras diferencias de los logaritmos de los precios de ocho acciones del NYSE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New York Stock Exchang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y también se inclina por la hipótesis de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2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ugene Fama (1965) analiz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ó secuencias en los precios de la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ontró que ni los retornos positivos ni los negativos persistían en una forma que contradijera la hipótesis de mercados efic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 encontró una correlación débil en los retornos de muy corto plazo. Sin embargo, no lo suficientemente grande como para contrarrestar los costos de trans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3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general, la evidencia empírica apoya a la eficienci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mi-fuert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razón para esperar que los mercados sean eficientes en una forma débil es que es simple y barato encontrar patrones en los precios de los activos. Si, en realidad, estos existieran, la gente los explotaría. Pero, en ese proceso tales patrones desaparecí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ficiencia semi-fuerte utiliza, en tanto, información y un razonamiento mucho más complejo que la eficiencia déb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ficiencia fuerte es difícil de justificar. La evidencia empírica muestra que el uso de información interna de las empresas ha llevado a rendimientos anormalmente altos. (Jaffe,1974; Finnerty, 1976; Seyhun, 198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ficiencia de mercad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MX" sz="21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es eficiente si los precios de los activos reflejan completamente toda la información disponib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o anterior implica que los inversionistas deben esperar sólo una rentabilidad norma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empresas deben esperar recibir un valor justo por los activos financieros que venden.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Justo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significa que el precio es el valor presente de los flujos futur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s activos financieros estarán valorados para proporcionar un rendimiento acorde con su nivel de riesg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ones (1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llos inversionistas que creen que los mercados financieros son eficientes se dedicarán a realizar una gestión pasiva de sus carteras puesto que pensarán que todo análisis de la información pasada y actual es una pérdida d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embargo, hay suficientes anomalías en dichos mercados que justifican la búsqueda de activos financieros infravalor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ones (2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bien es cierto, que toda estrategia de inversión que inicialmente comience “ganándole al mercado” será rápidamente contrarrestada por el resto de los inversionistas debido a la fuerte competencia existente en el mer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ólo la consecución de una mejor información que el resto de los competidores (información privilegiada incluida) puede dar una ligera superioridad a la gestión de las carteras realizada por profesion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n los mercados financieros existen una serie de operadores que persiguen la adquisición de un activo en un mercado determinado para venderlo inmediatamente en otro mercado a un precio super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e les conoce como arbitrajistas porque a la operación antedicha se la denomina </a:t>
            </a: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arbitraje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icha operación no acarrea ningún riesgo puesto que la compra y venta del activo tienen lugar de forma instantáne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existencia de arbitrajistas que compiten entre sí, aseguran que el precio de un activo determinado sea prácticamente Igual en todos los mercados financieros en los que se coti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 esto se le conoce como la "ley del precio único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pequeñas diferencias observadas entre los mismos se deben a los costos de transacción que no hacen rentable aprovecharse de las mismas y que actúan como un límite para la realización del arbitr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existencia de la competencia entre arbitrajistas es fundamental para que el mercado llegue a ser efici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un mercado en el que no existan oportunidades de arbitraje se puede decir que es efici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Reacción de los precios ante nuev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7480" y="19242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6200" y="5505480"/>
            <a:ext cx="550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38400" y="41529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62240" y="2914560"/>
            <a:ext cx="0" cy="127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3160" y="2895480"/>
            <a:ext cx="354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43160" y="41529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1040" y="2895480"/>
            <a:ext cx="1676520" cy="125748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0" y="792"/>
                </a:moveTo>
                <a:cubicBezTo>
                  <a:pt x="224" y="726"/>
                  <a:pt x="448" y="660"/>
                  <a:pt x="624" y="528"/>
                </a:cubicBezTo>
                <a:cubicBezTo>
                  <a:pt x="800" y="396"/>
                  <a:pt x="928" y="198"/>
                  <a:pt x="1056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62240" y="2133720"/>
            <a:ext cx="0" cy="81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62240" y="1819440"/>
            <a:ext cx="3505320" cy="1076040"/>
          </a:xfrm>
          <a:custGeom>
            <a:avLst/>
            <a:gdLst/>
            <a:ahLst/>
            <a:rect l="l" t="t" r="r" b="b"/>
            <a:pathLst>
              <a:path w="2208" h="678">
                <a:moveTo>
                  <a:pt x="0" y="210"/>
                </a:moveTo>
                <a:cubicBezTo>
                  <a:pt x="92" y="105"/>
                  <a:pt x="184" y="0"/>
                  <a:pt x="552" y="78"/>
                </a:cubicBezTo>
                <a:cubicBezTo>
                  <a:pt x="920" y="156"/>
                  <a:pt x="1564" y="417"/>
                  <a:pt x="2208" y="67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24800" y="5391000"/>
            <a:ext cx="2019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6633"/>
                </a:solidFill>
                <a:latin typeface="Times New Roman"/>
              </a:rPr>
              <a:t>Días anteriores y posteriores al anun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43160" y="4172040"/>
            <a:ext cx="0" cy="1409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09960" y="5657760"/>
            <a:ext cx="1733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6633"/>
                </a:solidFill>
                <a:latin typeface="Times New Roman"/>
              </a:rPr>
              <a:t>0 (día del anunc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81720" y="3448080"/>
            <a:ext cx="552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43880" y="3867120"/>
            <a:ext cx="188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Respuesta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38760" y="1942920"/>
            <a:ext cx="1181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1771560"/>
            <a:ext cx="219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Sobrereacción y reversión (burbu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346040"/>
            <a:ext cx="8534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6633"/>
                </a:solidFill>
                <a:latin typeface="Arial"/>
              </a:rPr>
              <a:t>Precio ac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514600" y="2914560"/>
            <a:ext cx="59040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90680" y="22669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Respuesta mcdo.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En la práctica, ¿qué tan eficiente es el merc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138420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 supuso anteriormente que un mercado eficiente responde de manera inmediata a toda la información disponibl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la realidad, determinada información puede afectar a los precios de los activos más rápidamente que ot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ra manejar tasas de respuesta diferenciales, la información se divide en tres tipo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formación de precios histó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formación públicamente dispon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oda la informa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En la práctica, ¿qué tan eficiente es el mercado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finen tres niveles de eficiencia de los mercados de valores donde cada nivel refleja la clase de información que es rápidamente reflejada en el prec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os niveles se denominan: débil, intermedio y fuer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La hipótesis débil del mercado eficiente (1)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hipótesis débil 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 supone que cada título refleja totalmente 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Información contenida en la serie histórica de precios, es decir, to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información pasad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os inversionistas, por lo tanto,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no pueden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obtener rentabil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uperiores analizando dichas series, puesto que todos l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rticipantes del mercado habrán aprendido ya a explotar l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ñales que dichas series de precios pueden mostrar, y actuar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consecuenc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análisis técnico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, se basa en el estudio de los gráficos de 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olución pasada del precio de un títul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3:11:14Z</dcterms:created>
  <dc:creator>IVAN ALVAREZ VALDES</dc:creator>
  <dc:description/>
  <dc:language>en-US</dc:language>
  <cp:lastModifiedBy>ivan.alvarez</cp:lastModifiedBy>
  <dcterms:modified xsi:type="dcterms:W3CDTF">2006-05-17T16:00:51Z</dcterms:modified>
  <cp:revision>10</cp:revision>
  <dc:subject/>
  <dc:title>Eficiencia de Mercado</dc:title>
</cp:coreProperties>
</file>