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57F1-240B-4F3F-9D7A-4059F162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D2B7-A7A6-467C-9851-A4866EDA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562C-39EA-4493-9E1C-0C676209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3438-1D5F-48FE-9E27-D0D163DB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87E3-37BC-4FE4-A4BF-F29E81D1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CE40-5617-4434-AA53-B7AEED44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6D68-2CEA-4D02-81F7-35F03D50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020F-4A4B-4CBB-9655-4949ACAD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4AC9-D39B-4AB7-A1D8-B4B84C74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9159-7594-4438-81A9-586B8169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BFFA-F504-4612-A5D6-D87A1DEF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5B38-91A9-4A60-878F-3C7D8D59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5A4D-D95D-4611-B705-ED018F51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373E-FFF0-47EB-9F75-DCBE8789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B598-3025-4AB9-AB98-A140B304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8958-03D6-4098-AC3A-29318CC1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7CA9-26BA-43C6-8F1F-610FD928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F93-1AD0-4A45-AD33-9EB57B64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3029-DDB1-4E7E-BB3C-E16C81F5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C919-38EE-483B-A810-082A9C3C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C136-B793-4D6E-ABC9-A0392DAB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A770-B92D-4981-86C5-0A70C15D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1E02-46B3-4117-B3BA-2BC79829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C0DB-5E11-459D-80B3-8EA4C497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F726-2DE4-453D-9633-70FEBAFFE76A}" type="slidenum">
              <a:rPr b="0" lang="es-MX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DC3B-5790-4BCD-9CF4-545E623C4146}" type="slidenum">
              <a:rPr b="0" lang="es-MX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6633"/>
                </a:solidFill>
                <a:latin typeface="Arial"/>
              </a:rPr>
              <a:t>Eficiencia de Mercado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ván Álvarez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La hipótesis débil del mercado eficiente (2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gún esta hipótesis ningún inversionista podrá conseguir u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ndimiento superior al del promedio del mercado analizan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clusivamente la información pasada (la serie histórica de precio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 si lo logra será sólo por azar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hora bien, si el mercado se ajusta a esta hipótesis, un inversor s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drá “ganarle al mercado" utilizando la información hecha públ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 la información privilegi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33"/>
                </a:solidFill>
                <a:latin typeface="Arial"/>
              </a:rPr>
              <a:t>La hipótesis semi fuerte del mercado eficiente (1)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gún esta hipótesis un mercado es eficiente en forma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emi fuerte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ando los precios reflejan, no sólo toda la información pasada, sino también toda la información pública acerca de la empresa o de su entorno, que pueda afectar a cada título en particular (informe de resultados, anuncios de dividendos, balances anuales, trimestrales, variación del tipo de interés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ado que una gran parte de la información utilizada por los analistas financieros está ampliamente disponible para el público, esta hipótesis desafía fuertemente la profesión de analista financie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33"/>
                </a:solidFill>
                <a:latin typeface="Arial"/>
              </a:rPr>
              <a:t>La hipótesis semi fuerte del mercado eficiente (2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to es, si la eficiencia del mercado se ajusta a dicha hipótesis, la persona que emplee el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análisis fundamental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ara intentar lograr un rendimiento superior a la media del mercado está perdiendo el tiempo, puesto que la cotización de los títulos ya refleja exactamente su valor teórico o intrínsec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 única forma de lograr un rendimiento superior al promedio, que no sea por medio del azar, es a través de la utilización de la información privilegiad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La hipótesis fuerte del mercado eficient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ipótesis fuert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e del supuesto de que los precios reflejan absolutamente toda la información ya sea pasada, pública o privad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gún ella, ningún inversor podrá “ganarle al mercado" sólo porr az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 es una hipótesis extrema que es prácticamente imposible de cumplir en ningún mercado, pues ello implicaría que dicho mercado sería perfecto y eso es una quime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Corolario …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necesario hacer hincapié en que para que un mercado sea eficiente es necesario que los participantes realicen análisis de la información a fin de que la competencia entre ellos, asegure que los precios de los títulos reflejan toda la información dispon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Tipos de Análisi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álisis técnic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busca patrones recurrentes en las series históricas de precios y, por tanto, predec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álisis fundamenta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utiliza las predicciones de beneficios y dividendos de la empresa, las expectativas sobre los tipos de interés y la valoración del riesgo de la compañía para determinar el precio intrínseco de la 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Conclusió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los analistas pensaran que el mercado es eficiente y renunciaran a realizar sus análisis entonces es seguro que el mercado llegaría a ser rápida y completamente ine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resumen, los mercados se aproximan a la eficiencia cuando los participantes en los mismos creen que no son eficientes y compiten buscando esa ineficiencia que les hará ganar una mayor rentabilidad que el promedio de los inversionist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Evidencia empírica (1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general, la mayoría de los estudios que se han realizado sobre la distribución de las cotizaciones bursátiles llevan a conclusiones muy simi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Kendall (1953) realizó un estudio sobre los cambios semanales de los precios de las acciones industriales británicas y llega a la conclusión de que la distribución de los rendimientos se aproximaba a una de tipo normal. Los precios parecían moverse aleatoriamente y no existían patrones predecibles sobre su comport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ore (1962), por su parte, analiza las primeras diferencias de los logaritmos de los precios de ocho acciones del NYSE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New York Stock Exchang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y también se inclina por la hipótesis de norm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Evidencia empírica (2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ugene Fama (1965) analiz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ó secuencias en los precios de las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contró que ni los retornos positivos ni los negativos persistían en una forma que contradijera la hipótesis de mercados efic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 encontró una correlación débil en los retornos de muy corto plazo. Sin embargo, no lo suficientemente grande como para contrarrestar los costos de trans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Evidencia empírica (3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general, la evidencia empírica apoya a la eficienci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mi-fuert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a razón para esperar que los mercados sean eficientes en una forma débil es que es simple y barato encontrar patrones en los precios de los activos. Si, en realidad, estos existieran, la gente los explotaría. Pero, en ese proceso tales patrones desaparecí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eficiencia semi-fuerte utiliza, en tanto, información y un razonamiento mucho más complejo que la eficiencia débi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eficiencia fuerte es difícil de justificar. La evidencia empírica muestra que el uso de información interna de las empresas ha llevado a rendimientos anormalmente altos. (Jaffe,1974; Finnerty, 1976; Seyhun, 198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Eficiencia de mercado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s-MX" sz="2100" spc="-1" strike="noStrike">
                <a:solidFill>
                  <a:srgbClr val="000000"/>
                </a:solidFill>
                <a:latin typeface="Arial"/>
              </a:rPr>
              <a:t>mercado de capitales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 es eficiente si los precios de los activos reflejan completamente toda la información disponib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o anterior implica que los inversionistas deben esperar sólo una rentabilidad norma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s empresas deben esperar recibir un valor justo por los activos financieros que venden. </a:t>
            </a: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Justo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 significa que el precio es el valor presente de los flujos futur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s activos financieros estarán valorados para proporcionar un rendimiento acorde con su nivel de riesg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Conclusiones (1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uellos inversionistas que creen que los mercados financieros son eficientes se dedicarán a realizar una gestión pasiva de sus carteras puesto que pensarán que todo análisis de la información pasada y actual es una pérdida de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 embargo, hay suficientes anomalías en dichos mercados que justifican la búsqueda de activos financieros infravalor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Conclusiones (2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 bien es cierto, que toda estrategia de inversión que inicialmente comience “ganándole al mercado” será rápidamente contrarrestada por el resto de los inversionistas debido a la fuerte competencia existente en el mer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ólo la consecución de una mejor información que el resto de los competidores (información privilegiada incluida) puede dar una ligera superioridad a la gestión de las carteras realizada por profesion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En los mercados financieros existen una serie de operadores que persiguen la adquisición de un activo en un mercado determinado para venderlo inmediatamente en otro mercado a un precio superi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Se les conoce como arbitrajistas porque a la operación antedicha se la denomina </a:t>
            </a:r>
            <a:r>
              <a:rPr b="0" i="1" lang="es-MX" sz="2600" spc="-1" strike="noStrike">
                <a:solidFill>
                  <a:srgbClr val="000000"/>
                </a:solidFill>
                <a:latin typeface="Arial"/>
              </a:rPr>
              <a:t>arbitraje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Dicha operación no acarrea ningún riesgo puesto que la compra y venta del activo tienen lugar de forma instantáne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 existencia de arbitrajistas que compiten entre sí, aseguran que el precio de un activo determinado sea prácticamente Igual en todos los mercados financieros en los que se cotiz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A esto se le conoce como la "ley del precio único"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s pequeñas diferencias observadas entre los mismos se deben a los costos de transacción que no hacen rentable aprovecharse de las mismas y que actúan como un límite para la realización del arbitraj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 existencia de la competencia entre arbitrajistas es fundamental para que el mercado llegue a ser efici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n un mercado en el que no existan oportunidades de arbitraje se puede decir que es efici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228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33"/>
                </a:solidFill>
                <a:latin typeface="Arial"/>
              </a:rPr>
              <a:t>Reacción de los precios ante nuev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57480" y="192420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76200" y="5505480"/>
            <a:ext cx="550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38400" y="415296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62240" y="2914560"/>
            <a:ext cx="0" cy="127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43160" y="2895480"/>
            <a:ext cx="3543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43160" y="41529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1040" y="2895480"/>
            <a:ext cx="1676520" cy="1257480"/>
          </a:xfrm>
          <a:custGeom>
            <a:avLst/>
            <a:gdLst/>
            <a:ahLst/>
            <a:rect l="l" t="t" r="r" b="b"/>
            <a:pathLst>
              <a:path w="1056" h="792">
                <a:moveTo>
                  <a:pt x="0" y="792"/>
                </a:moveTo>
                <a:cubicBezTo>
                  <a:pt x="224" y="726"/>
                  <a:pt x="448" y="660"/>
                  <a:pt x="624" y="528"/>
                </a:cubicBezTo>
                <a:cubicBezTo>
                  <a:pt x="800" y="396"/>
                  <a:pt x="928" y="198"/>
                  <a:pt x="1056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62240" y="2133720"/>
            <a:ext cx="0" cy="819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62240" y="1819440"/>
            <a:ext cx="3505320" cy="1076040"/>
          </a:xfrm>
          <a:custGeom>
            <a:avLst/>
            <a:gdLst/>
            <a:ahLst/>
            <a:rect l="l" t="t" r="r" b="b"/>
            <a:pathLst>
              <a:path w="2208" h="678">
                <a:moveTo>
                  <a:pt x="0" y="210"/>
                </a:moveTo>
                <a:cubicBezTo>
                  <a:pt x="92" y="105"/>
                  <a:pt x="184" y="0"/>
                  <a:pt x="552" y="78"/>
                </a:cubicBezTo>
                <a:cubicBezTo>
                  <a:pt x="920" y="156"/>
                  <a:pt x="1564" y="417"/>
                  <a:pt x="2208" y="67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24800" y="5391000"/>
            <a:ext cx="2019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6633"/>
                </a:solidFill>
                <a:latin typeface="Times New Roman"/>
              </a:rPr>
              <a:t>Días anteriores y posteriores al anun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43160" y="4172040"/>
            <a:ext cx="0" cy="1409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09960" y="5657760"/>
            <a:ext cx="1733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6633"/>
                </a:solidFill>
                <a:latin typeface="Times New Roman"/>
              </a:rPr>
              <a:t>0 (día del anunc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81720" y="3448080"/>
            <a:ext cx="552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43880" y="3867120"/>
            <a:ext cx="188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633"/>
                </a:solidFill>
                <a:latin typeface="Times New Roman"/>
              </a:rPr>
              <a:t>Respuesta retar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838760" y="1942920"/>
            <a:ext cx="1181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1771560"/>
            <a:ext cx="219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633"/>
                </a:solidFill>
                <a:latin typeface="Times New Roman"/>
              </a:rPr>
              <a:t>Sobrereacción y reversión (burbu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346040"/>
            <a:ext cx="85341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6633"/>
                </a:solidFill>
                <a:latin typeface="Arial"/>
              </a:rPr>
              <a:t>Precio ac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514600" y="2914560"/>
            <a:ext cx="59040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90680" y="226692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633"/>
                </a:solidFill>
                <a:latin typeface="Times New Roman"/>
              </a:rPr>
              <a:t>Respuesta mcdo.efi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228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33"/>
                </a:solidFill>
                <a:latin typeface="Arial"/>
              </a:rPr>
              <a:t>En la práctica, ¿qué tan eficiente es el merc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3080" y="138420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Se supuso anteriormente que un mercado eficiente responde de manera inmediata a toda la información disponibl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n la realidad, determinada información puede afectar a los precios de los activos más rápidamente que otr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ara manejar tasas de respuesta diferenciales, la información se divide en tres tipos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información de precios histór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información públicamente dispon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toda la informació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En la práctica, ¿qué tan eficiente es el mercado?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definen tres niveles de eficiencia de los mercados de valores donde cada nivel refleja la clase de información que es rápidamente reflejada en el preci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tos niveles se denominan: débil, intermedio y fuer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La hipótesis débil del mercado eficiente (1)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n la </a:t>
            </a: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hipótesis débil 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se supone que cada título refleja totalmente 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Información contenida en la serie histórica de precios, es decir, to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 información pasad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os inversionistas, por lo tanto,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no pueden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 obtener rentabilidad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superiores analizando dichas series, puesto que todos l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articipantes del mercado habrán aprendido ya a explotar l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señales que dichas series de precios pueden mostrar, y actuará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n consecuenc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análisis técnico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, se basa en el estudio de los gráficos de 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volución pasada del precio de un títul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8T03:11:14Z</dcterms:created>
  <dc:creator>IVAN ALVAREZ VALDES</dc:creator>
  <dc:description/>
  <dc:language>en-US</dc:language>
  <cp:lastModifiedBy>ivan.alvarez</cp:lastModifiedBy>
  <dcterms:modified xsi:type="dcterms:W3CDTF">2006-05-17T16:00:51Z</dcterms:modified>
  <cp:revision>10</cp:revision>
  <dc:subject/>
  <dc:title>Eficiencia de Mercado</dc:title>
</cp:coreProperties>
</file>