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05B6-5E87-4BC8-AF90-6B31615F2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DCD-C769-45EF-B23A-DE68BF559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A303-06E4-426C-94B3-B44128769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709A-8890-4F2A-B6EC-D2944BFB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F1CB3-E8F5-4A4B-A6B0-B56624D4A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467D-10CC-4FB8-82CF-E3D36A80A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CDFC-3953-4861-AB71-A2F125A2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CF31-1E36-4A01-BDF2-D422ED8E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D7B4-6CA0-4418-8225-2DA4EEBFF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EB56D-EE72-4C48-89AE-67F23EE99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EDF3-0E65-4CE8-9D5E-8D797C110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E9DF-97E8-49A1-BAB4-156344C8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06E4-8838-401F-BC6C-AC570C5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E0FA-2F70-432C-9E1D-B7F78586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BF9D0-E9BF-46E5-BCD8-EE12EF242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B462-24FB-491A-8C50-67E6D908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6F82-4334-4A5A-9D2B-1ED8D30F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35B6-1B53-41C0-B3AF-B31A972C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E0BF-88BF-4DCC-B39B-94EF4699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3CB6-473E-42C5-81C8-F0E5E1D8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3DE6-7267-4D49-9C7D-5C587AC3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5052-A79D-4580-AA93-5AFFACB9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7020-A797-4A06-BAF9-AE22BEAB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D1B5-960C-4CB5-B9C3-7717F0AD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B9F9-E4F3-49D2-BC4E-0639B0B36E15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AFD5-C3A9-430C-9795-E9406797851A}" type="slidenum">
              <a:rPr b="0" lang="es-MX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6633"/>
                </a:solidFill>
                <a:latin typeface="Arial"/>
              </a:rPr>
              <a:t>Eficiencia de Mercado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ván Álvarez V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La hipótesis débil del mercado eficiente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egún esta hipótesis ningún inversionista podrá conseguir un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ndimiento superior al del promedio del mercado analizan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clusivamente la información pasada (la serie histórica de precios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 si lo logra será sólo por azar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hora bien, si el mercado se ajusta a esta hipótesis, un inversor s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drá “ganarle al mercado" utilizando la información hecha públic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 la información privilegi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La hipótesis semi fuerte del mercado eficiente (1)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gún esta hipótesis un mercado es eficiente en forma 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semi fuerte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ando los precios reflejan, no sólo toda la información pasada, sino también toda la información pública acerca de la empresa o de su entorno, que pueda afectar a cada título en particular (informe de resultados, anuncios de dividendos, balances anuales, trimestrales, variación del tipo de interé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ado que una gran parte de la información utilizada por los analistas financieros está ampliamente disponible para el público, esta hipótesis desafía fuertemente la profesión de analista financie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La hipótesis semi fuerte del mercado eficiente (2)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sto es, si la eficiencia del mercado se ajusta a dicha hipótesis, la persona que emplee el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análisis fundamental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ara intentar lograr un rendimiento superior a la media del mercado está perdiendo el tiempo, puesto que la cotización de los títulos ya refleja exactamente su valor teórico o intrínsec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a única forma de lograr un rendimiento superior al promedio, que no sea por medio del azar, es a través de la utilización de la información privilegiad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La hipótesis fuerte del mercado eficiente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ipótesis fuert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e del supuesto de que los precios reflejan absolutamente toda la información ya sea pasada, pública o privad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gún ella, ningún inversor podrá “ganarle al mercado" sólo porr aza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sta es una hipótesis extrema que es prácticamente imposible de cumplir en ningún mercado, pues ello implicaría que dicho mercado sería perfecto y eso es una quime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rolario …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necesario hacer hincapié en que para que un mercado sea eficiente es necesario que los participantes realicen análisis de la información a fin de que la competencia entre ellos, asegure que los precios de los títulos reflejan toda la información dispon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Tipos de Análisis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álisis técnic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busca patrones recurrentes en las series históricas de precios y, por tanto, predeci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álisis fundament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 utiliza las predicciones de beneficios y dividendos de la empresa, las expectativas sobre los tipos de interés y la valoración del riesgo de la compañía para determinar el precio intrínseco de la a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 los analistas pensaran que el mercado es eficiente y renunciaran a realizar sus análisis entonces es seguro que el mercado llegaría a ser rápida y completamente ine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resumen, los mercados se aproximan a la eficiencia cuando los participantes en los mismos creen que no son eficientes y compiten buscando esa ineficiencia que les hará ganar una mayor rentabilidad que el promedio de los inversionista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general, la mayoría de los estudios que se han realizado sobre la distribución de las cotizaciones bursátiles llevan a conclusiones muy simi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Kendall (1953) realizó un estudio sobre los cambios semanales de los precios de las acciones industriales británicas y llega a la conclusión de que la distribución de los rendimientos se aproximaba a una de tipo normal. Los precios parecían moverse aleatoriamente y no existían patrones predecibles sobre su comporta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ore (1962), por su parte, analiza las primeras diferencias de los logaritmos de los precios de ocho acciones del NYSE (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New York Stock Exchang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) y también se inclina por la hipótesis de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ugene Fama (1965) anali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ó secuencias en los precios de las ac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7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contró que ni los retornos positivos ni los negativos persistían en una forma que contradijera la hipótesis de mercados efic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 encontró una correlación débil en los retornos de muy corto plazo. Sin embargo, no lo suficientemente grande como para contrarrestar los costos de transac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Evidencia empírica (3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general, la evidencia empírica apoya a la eficienci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mi-fuerte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a razón para esperar que los mercados sean eficientes en una forma débil es que es simple y barato encontrar patrones en los precios de los activos. Si, en realidad, estos existieran, la gente los explotaría. Pero, en ese proceso tales patrones desaparecía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ficiencia semi-fuerte utiliza, en tanto, información y un razonamiento mucho más complejo que la eficiencia déb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eficiencia fuerte es difícil de justificar. La evidencia empírica muestra que el uso de información interna de las empresas ha llevado a rendimientos anormalmente altos. (Jaffe,1974; Finnerty, 1976; Seyhun, 1986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33"/>
                </a:solidFill>
                <a:latin typeface="Arial"/>
              </a:rPr>
              <a:t>Eficiencia de mercado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MX" sz="2100" spc="-1" strike="noStrike">
                <a:solidFill>
                  <a:srgbClr val="000000"/>
                </a:solidFill>
                <a:latin typeface="Arial"/>
              </a:rPr>
              <a:t>mercado de capitales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es eficiente si los precios de los activos reflejan completamente toda la información disponibl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 anterior implica que los inversionistas deben esperar sólo una rentabilidad normal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empresas deben esperar recibir un valor justo por los activos financieros que venden.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Justo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significa que el precio es el valor presente de los flujos futur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Las activos financieros estarán valorados para proporcionar un rendimiento acorde con su nivel de riesg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ones (1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quellos inversionistas que creen que los mercados financieros son eficientes se dedicarán a realizar una gestión pasiva de sus carteras puesto que pensarán que todo análisis de la información pasada y actual es una pérdida de ti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hay suficientes anomalías en dichos mercados que justifican la búsqueda de activos financieros infravalor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Conclusiones (2)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 bien es cierto, que toda estrategia de inversión que inicialmente comience “ganándole al mercado” será rápidamente contrarrestada por el resto de los inversionistas debido a la fuerte competencia existente en el mer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ólo la consecución de una mejor información que el resto de los competidores (información privilegiada incluida) puede dar una ligera superioridad a la gestión de las carteras realizada por profesional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En los mercados financieros existen una serie de operadores que persiguen la adquisición de un activo en un mercado determinado para venderlo inmediatamente en otro mercado a un precio superi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Se les conoce como arbitrajistas porque a la operación antedicha se la denomina </a:t>
            </a: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arbitraje</a:t>
            </a: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Dicha operación no acarrea ningún riesgo puesto que la compra y venta del activo tienen lugar de forma instantáne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existencia de arbitrajistas que compiten entre sí, aseguran que el precio de un activo determinado sea prácticamente Igual en todos los mercados financieros en los que se cotiz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A esto se le conoce como la "ley del precio único"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s pequeñas diferencias observadas entre los mismos se deben a los costos de transacción que no hacen rentable aprovecharse de las mismas y que actúan como un límite para la realización del arbitraj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33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existencia de la competencia entre arbitrajistas es fundamental para que el mercado llegue a ser efici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un mercado en el que no existan oportunidades de arbitraje se puede decir que es eficiente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Reacción de los precios ante nueva infor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57480" y="19242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76200" y="5505480"/>
            <a:ext cx="550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38400" y="4152960"/>
            <a:ext cx="1904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62240" y="2914560"/>
            <a:ext cx="0" cy="1276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43160" y="2895480"/>
            <a:ext cx="3543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143160" y="415296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1040" y="2895480"/>
            <a:ext cx="1676520" cy="1257480"/>
          </a:xfrm>
          <a:custGeom>
            <a:avLst/>
            <a:gdLst/>
            <a:ahLst/>
            <a:rect l="l" t="t" r="r" b="b"/>
            <a:pathLst>
              <a:path w="1056" h="792">
                <a:moveTo>
                  <a:pt x="0" y="792"/>
                </a:moveTo>
                <a:cubicBezTo>
                  <a:pt x="224" y="726"/>
                  <a:pt x="448" y="660"/>
                  <a:pt x="624" y="528"/>
                </a:cubicBezTo>
                <a:cubicBezTo>
                  <a:pt x="800" y="396"/>
                  <a:pt x="928" y="198"/>
                  <a:pt x="1056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62240" y="2133720"/>
            <a:ext cx="0" cy="81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62240" y="1819440"/>
            <a:ext cx="3505320" cy="1076040"/>
          </a:xfrm>
          <a:custGeom>
            <a:avLst/>
            <a:gdLst/>
            <a:ahLst/>
            <a:rect l="l" t="t" r="r" b="b"/>
            <a:pathLst>
              <a:path w="2208" h="678">
                <a:moveTo>
                  <a:pt x="0" y="210"/>
                </a:moveTo>
                <a:cubicBezTo>
                  <a:pt x="92" y="105"/>
                  <a:pt x="184" y="0"/>
                  <a:pt x="552" y="78"/>
                </a:cubicBezTo>
                <a:cubicBezTo>
                  <a:pt x="920" y="156"/>
                  <a:pt x="1564" y="417"/>
                  <a:pt x="2208" y="67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24800" y="5391000"/>
            <a:ext cx="20192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633"/>
                </a:solidFill>
                <a:latin typeface="Times New Roman"/>
              </a:rPr>
              <a:t>Días anteriores y posteriores al anunc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43160" y="4172040"/>
            <a:ext cx="0" cy="1409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09960" y="5657760"/>
            <a:ext cx="1733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6633"/>
                </a:solidFill>
                <a:latin typeface="Times New Roman"/>
              </a:rPr>
              <a:t>0 (día del anunc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1720" y="3448080"/>
            <a:ext cx="552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743880" y="3867120"/>
            <a:ext cx="1885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Respuesta retard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838760" y="1942920"/>
            <a:ext cx="11811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1771560"/>
            <a:ext cx="2190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Sobrereacción y reversión (burbuj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1346040"/>
            <a:ext cx="853416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700" spc="-1" strike="noStrike">
                <a:solidFill>
                  <a:srgbClr val="006633"/>
                </a:solidFill>
                <a:latin typeface="Arial"/>
              </a:rPr>
              <a:t>Precio ac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2514600" y="2914560"/>
            <a:ext cx="59040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90680" y="226692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6633"/>
                </a:solidFill>
                <a:latin typeface="Times New Roman"/>
              </a:rPr>
              <a:t>Respuesta mcdo.efic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228600"/>
            <a:ext cx="8534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6633"/>
                </a:solidFill>
                <a:latin typeface="Arial"/>
              </a:rPr>
              <a:t>En la práctica, ¿qué tan eficiente es el merca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3080" y="1384200"/>
            <a:ext cx="853416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 supuso anteriormente que un mercado eficiente responde de manera inmediata a toda la información disponible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la realidad, determinada información puede afectar a los precios de los activos más rápidamente que ot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ra manejar tasas de respuesta diferenciales, la información se divide en tres tipos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formación de precios histó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formación públicamente disponi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toda la informació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En la práctica, ¿qué tan eficiente es el mercado?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Se definen tres niveles de eficiencia de los mercados de valores donde cada nivel refleja la clase de información que es rápidamente reflejada en el preci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Estos niveles se denominan: débil, intermedio y fuer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33"/>
                </a:solidFill>
                <a:latin typeface="Arial"/>
              </a:rPr>
              <a:t>La hipótesis débil del mercado eficiente (1)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la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hipótesis débil 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 supone que cada título refleja totalmente 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Información contenida en la serie histórica de precios, es decir, to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a información pasada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Los inversionistas, por lo tanto, </a:t>
            </a:r>
            <a:r>
              <a:rPr b="0" lang="es-MX" sz="2100" spc="-1" strike="noStrike" u="sng">
                <a:solidFill>
                  <a:srgbClr val="000000"/>
                </a:solidFill>
                <a:uFillTx/>
                <a:latin typeface="Arial"/>
              </a:rPr>
              <a:t>no pueden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 obtener rentabil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uperiores analizando dichas series, puesto que todos l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participantes del mercado habrán aprendido ya a explotar l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señales que dichas series de precios pueden mostrar, y actuará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n consecuenci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MX" sz="2100" spc="-1" strike="noStrike">
                <a:solidFill>
                  <a:srgbClr val="000000"/>
                </a:solidFill>
                <a:latin typeface="Arial"/>
              </a:rPr>
              <a:t>análisis técnico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, se basa en el estudio de los gráficos de l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volución pasada del precio de un títul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8T03:11:14Z</dcterms:created>
  <dc:creator>IVAN ALVAREZ VALDES</dc:creator>
  <dc:description/>
  <dc:language>en-US</dc:language>
  <cp:lastModifiedBy>ivan.alvarez</cp:lastModifiedBy>
  <dcterms:modified xsi:type="dcterms:W3CDTF">2006-05-17T16:00:51Z</dcterms:modified>
  <cp:revision>10</cp:revision>
  <dc:subject/>
  <dc:title>Eficiencia de Mercado</dc:title>
</cp:coreProperties>
</file>