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A08-E5DD-468B-BF93-AFCEBAE4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AA4-97EB-454D-8241-1B337DCB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110-2C55-4901-A07F-CB012EE0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0B9-BFED-421E-B58C-D914967E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B02-F5C9-4E79-8E2B-F0CCF67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08E-C759-4909-915B-1807CB4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CD2-1E05-4309-B8FA-E5BDB90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CC96-DF1A-437F-B1BF-C1A29AE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7DF-6F53-45DC-AFF8-556B1520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78C3-AAF3-451A-8FC1-A614F837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EDF9-39AA-4D0D-9BAF-CF907EC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45E-B1AF-46D1-9793-C80F2770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C6A5-7881-4158-8790-AA6C005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530-DCAE-4450-B4E3-8C833449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6ED9-E492-45C6-9904-475F1A42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BD1A-098A-4903-A80A-5870C294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5C0-C8FD-406B-B9CF-1F236085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912-6989-43CF-BA4D-7F730BA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7B0-507C-4AF4-A686-229065F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6E9-8AFB-4DA1-B040-099CE328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938-8E59-41C5-8046-B66EBBB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AA8-0C5E-4375-A216-E770FC2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405-ED9A-4DA8-85CB-07F84D3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B5C-6F7C-461C-9894-8E82779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A48-55C7-4C65-A47D-AABF1E70D4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54A-0FF8-4007-A1CD-59A36AAE96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ODELAMIENTO CONCEPTUAL DE DATO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O REL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ribu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2756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l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ick (SIN SOLTAR BOTÓN!!!) en la entidad de origen, y soltarlo en la Entidad de Desti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1117800" cy="622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18302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tar una relación: Doble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591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dinalidad de Re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62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í, el modelo conceptual del ejemplo queda de la siguiente mane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00000" y="2806560"/>
            <a:ext cx="70740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PowerDesigner lo transforma en el modelo físico correspond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26920" y="3009960"/>
            <a:ext cx="7480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bajo en Cl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respecto a su proyec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Entidades Releva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las relaciones entr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los atrib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feccionar el modelo conceptual en PowerDesig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ENGA PRESENTE LOS OBJETIVOS DE SU REDISEÑO AL MODELAR LOS DATOS!!!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JEMPLO: COLECCIÓN PERSONAL DE DISC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ex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tiene una colección de vario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disco tiene un interpr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 interprete puede tener uno o má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disco tiene varias cancion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canción puede salir en uno o má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se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btener el nombre, año e interprete del disco que contiene la canción “The Number of the Beast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stado con nombres de discos y sus respectivas canciones del interprete “Dream Theate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tid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ualquier tipo de objeto o concepto sobre el que se recoge inform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érpr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lació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s una correspondencia o asociación entre dos o más ent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disc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ene u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térpre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disc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ene una o má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n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 canción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pare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n uno o más dis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tribu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Es una característica de interés o un hecho sobre una entidad o sobre una re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cos: Nombre, Año, Sello, Comentario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dis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érpretes: Nombre, país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interpre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nciones: Nombre, duración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ca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dentificad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Atributo o conjunto de atributos que determina de modo único cada ocurrencia de esa ent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63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Ent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Re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atributos de Entidades y re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Dominios de los atribu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500720" y="1484280"/>
            <a:ext cx="576000" cy="4608720"/>
          </a:xfrm>
          <a:custGeom>
            <a:avLst/>
            <a:gdLst>
              <a:gd name="textAreaLeft" fmla="*/ 0 w 576000"/>
              <a:gd name="textAreaRight" fmla="*/ 208080 w 576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3141720"/>
            <a:ext cx="3529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delar e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owerDes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icio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rograma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ybase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owerDesigner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owerDesig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evo…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Modelo de Datos Conceptual (“Conceptual Data Model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1376280" cy="3708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987640" y="350028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858920" y="342900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2200" y="3284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5964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1197000"/>
            <a:ext cx="727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ar las ent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leccionar bot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a paleta mostrada anterior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ick en hoja de trabajo para insertar la entid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91960" cy="254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591012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tar una Entidad: Doble click en la entidad dese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605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0:50:01Z</dcterms:created>
  <dc:creator>Hernán Diez de Medina</dc:creator>
  <dc:description/>
  <dc:language>en-US</dc:language>
  <cp:lastModifiedBy>Hernán Diez de Medina</cp:lastModifiedBy>
  <dcterms:modified xsi:type="dcterms:W3CDTF">2006-05-10T22:32:32Z</dcterms:modified>
  <cp:revision>5</cp:revision>
  <dc:subject/>
  <dc:title>MODELAMIENTO DE DATOS</dc:title>
</cp:coreProperties>
</file>