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44A-AEDB-4773-8701-57C7CEB9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3E4-A589-4B71-AE58-C9FE841F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0CB-A9B5-4429-82FE-628F1EF0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6BA-0E83-44FA-9FBA-E03B6A24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24E9-C2D4-45B3-908C-571634BD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4D2B-03B5-4481-910E-1BAFF838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1C1E-8923-473D-A732-98E0EDDF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C78E-F5CA-418A-978A-9709B51A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56A4-7FD3-4F9F-B3E5-C6F61541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FEEF-9E20-4F07-AC5A-337CC5B0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EB90-9813-4AF0-ABE1-6A351F20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0B3-F897-4B4F-B74C-E0C3ED46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9E8A-5BD6-43ED-9C51-CF4EA149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56D3-FA33-4883-94DE-AE03EA53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F15D-78AA-4C3B-8036-B6FE4EDC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3578-941A-49CA-AF44-96D0D3C3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B24F-743B-4D91-AC57-7617FE0B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16E-A20F-4213-BF12-08511C7B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EEC-A7C5-4756-AD1D-B05DC26B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364-BE46-439A-B2DD-5408B921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8CE-BD5C-4D10-B0C7-3C4E69F5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D56-3CD1-4A35-98FB-F821EED5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449-460A-4178-A044-438CA2FA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4C5-09B0-4D56-8766-2AF2BB52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8CD7-4C57-4283-8164-839BCBD21B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CCF9-2B1A-42FE-A91B-FFB916CEB35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ODELAMIENTO CONCEPTUAL DE DATO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O RELAC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ribu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72756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l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lick (SIN SOLTAR BOTÓN!!!) en la entidad de origen, y soltarlo en la Entidad de Desti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1117800" cy="622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276720" y="3068640"/>
            <a:ext cx="18302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ditar una relación: Doble cli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3591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dinalidad de Re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3762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í, el modelo conceptual del ejemplo queda de la siguiente maner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900000" y="2806560"/>
            <a:ext cx="707400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Y PowerDesigner lo transforma en el modelo físico correspondi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826920" y="3009960"/>
            <a:ext cx="7480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bajo en Cla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 respecto a su proyec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ficar Entidades Releva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ficar las relaciones entre el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ficar los atribu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feccionar el modelo conceptual en PowerDesig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TENGA PRESENTE LOS OBJETIVOS DE SU REDISEÑO AL MODELAR LOS DATOS!!!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JEMPLO: COLECCIÓN PERSONAL DE DISCO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tex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tiene una colección de varios dis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da disco tiene un interpre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 interprete puede tener uno o más dis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da disco tiene varias cancion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canción puede salir en uno o más dis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dese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btener el nombre, año e interprete del disco que contiene la canción “The Number of the Beast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stado con nombres de discos y sus respectivas canciones del interprete “Dream Theater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tida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Cualquier tipo de objeto o concepto sobre el que se recoge inform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nuestro ejempl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érpre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lació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Es una correspondencia o asociación entre dos o más ent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nuestro Ejempl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 disco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iene u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térpre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 disco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iene una o má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an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a canción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apare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n uno o más dis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tribut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Es una característica de interés o un hecho sobre una entidad o sobre una rel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nuestro 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scos: Nombre, Año, Sello, Comentario,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Id_disc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érpretes: Nombre, país,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id_interpre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nciones: Nombre, duración,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id_canció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Identificado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: Atributo o conjunto de atributos que determina de modo único cada ocurrencia de esa entid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630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ficar Ent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ficar Rel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ficar atributos de Entidades y rel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dentificar Dominios de los atribu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OU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H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4500720" y="1484280"/>
            <a:ext cx="576000" cy="4608720"/>
          </a:xfrm>
          <a:custGeom>
            <a:avLst/>
            <a:gdLst>
              <a:gd name="textAreaLeft" fmla="*/ 0 w 576000"/>
              <a:gd name="textAreaRight" fmla="*/ 208080 w 57600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76720" y="3141720"/>
            <a:ext cx="35290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Modelar e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PowerDesig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icio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Programas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Sybase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PowerDesigner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PowerDesign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evo…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Modelo de Datos Conceptual (“Conceptual Data Model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7956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1376280" cy="3708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987640" y="3500280"/>
            <a:ext cx="1295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858920" y="3429000"/>
            <a:ext cx="180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62200" y="3284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59640" y="32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900000" y="1197000"/>
            <a:ext cx="7272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ear las entidad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leccionar botón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a paleta mostrada anterior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lick en hoja de trabajo para insertar la entida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291960" cy="2541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332000" y="2997360"/>
            <a:ext cx="591012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PowerDesign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ditar una Entidad: Doble click en la entidad dese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36050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0:50:01Z</dcterms:created>
  <dc:creator>Hernán Diez de Medina</dc:creator>
  <dc:description/>
  <dc:language>en-US</dc:language>
  <cp:lastModifiedBy>Hernán Diez de Medina</cp:lastModifiedBy>
  <dcterms:modified xsi:type="dcterms:W3CDTF">2006-05-10T22:32:32Z</dcterms:modified>
  <cp:revision>5</cp:revision>
  <dc:subject/>
  <dc:title>MODELAMIENTO DE DATOS</dc:title>
</cp:coreProperties>
</file>