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move the slide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6DC-9631-4CC3-90D1-4E68145D39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5421-7C82-4850-B1CB-91E91D1DCD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A080-D962-41D1-ABDF-96E6F3126A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CDF2-942C-49AC-BAA3-0919B21B7F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38160" y="4395960"/>
            <a:ext cx="4997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4A8F-642B-4848-B8E4-869860F0C1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74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 MANERA DE CONTEXTO DE LA DISCUSIÓN ES BUENO MIRAR DONDE ESTAMOS Y QUE NOS FALTA POR HACER, ESO AYUDARÁ A EVALUAR SI LAS PROPUESTAS DE REGLAMENTO AYUDAN O NO A MEJORAR EL DESEMPEÑO DEL SE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banda ancha ha funcionado por la baja carga regulatoria y por la inversión de privados (Telefónica CTC y VTR, no Entel que como siempre aboga por ventajas regulatorias para usar lo que otros invierten)... Hasta ahora...hay preocupantes señales de querer intervenir regulánd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lefónica CTC voluntariamente definió un modelo abierto el 2000; hoy el TDLC lo copia y obliga a VTR a abrir su red a otros ISP (hasta ahora era cerr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aís se ha beneficiado, los clientes también y las empresas han creado un negocio donde no lo hab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o este avance sólo beneficia a los segmentos más ricos; hay que hacer más; Telefónica CTC ha aportado esquemas comerciales nuevos (N&amp;W) para bajar las barreras de entrada y lo seguirá haciendo (BA full variable por ej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1" marL="711360" indent="-36684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2" marL="990720" indent="-2779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3" marL="1257480" indent="-2653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4" marL="1511280" indent="-25236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5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6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edit the title text format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" name=""/>
          <p:cNvSpPr/>
          <p:nvPr/>
        </p:nvSpPr>
        <p:spPr>
          <a:xfrm>
            <a:off x="50040" y="311040"/>
            <a:ext cx="1255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ACELERAR PAR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SER MÁS LÍDERE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" name="Telefonica_Verde-100" descr=""/>
          <p:cNvPicPr/>
          <p:nvPr/>
        </p:nvPicPr>
        <p:blipFill>
          <a:blip r:embed="rId2"/>
          <a:stretch/>
        </p:blipFill>
        <p:spPr>
          <a:xfrm>
            <a:off x="152280" y="6157800"/>
            <a:ext cx="10670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2" descr=""/>
          <p:cNvPicPr/>
          <p:nvPr/>
        </p:nvPicPr>
        <p:blipFill>
          <a:blip r:embed="rId1"/>
          <a:stretch/>
        </p:blipFill>
        <p:spPr>
          <a:xfrm>
            <a:off x="2743200" y="260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E3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E4" descr=""/>
          <p:cNvPicPr/>
          <p:nvPr/>
        </p:nvPicPr>
        <p:blipFill>
          <a:blip r:embed="rId3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L1" descr=""/>
          <p:cNvPicPr/>
          <p:nvPr/>
        </p:nvPicPr>
        <p:blipFill>
          <a:blip r:embed="rId4"/>
          <a:stretch/>
        </p:blipFill>
        <p:spPr>
          <a:xfrm>
            <a:off x="403848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L2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71600" y="5213520"/>
            <a:ext cx="58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Junio 2006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E1" descr=""/>
          <p:cNvPicPr/>
          <p:nvPr/>
        </p:nvPicPr>
        <p:blipFill>
          <a:blip r:embed="rId6"/>
          <a:stretch/>
        </p:blipFill>
        <p:spPr>
          <a:xfrm>
            <a:off x="1447920" y="2590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1081080"/>
            <a:ext cx="7099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TheSansCorrespondence"/>
              </a:rPr>
              <a:t>Entorno Industria Telco 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425920" y="2587680"/>
            <a:ext cx="24670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guerra de precios post-deregulación ha sido usada como ejemplo de malas práctica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563868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1415880" y="979560"/>
          <a:ext cx="7631280" cy="46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979560"/>
                    <a:ext cx="763128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487520" y="5827680"/>
            <a:ext cx="755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99"/>
                </a:solidFill>
                <a:latin typeface="Trebuchet MS"/>
              </a:rPr>
              <a:t>Fuente: SUBTEL sobre la base de información proporcionada por las empresas de telecomunicaciones</a:t>
            </a:r>
            <a:r>
              <a:rPr b="0" lang="es-E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incorporación de CPP fue fundamental en el despegue de la Telefonía Móvi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6040" y="176040"/>
            <a:ext cx="879012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mercado móvil y de telefonía fija generan más del 76% de la facturación total de la industria en Chile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58" name=""/>
          <p:cNvSpPr/>
          <p:nvPr/>
        </p:nvSpPr>
        <p:spPr>
          <a:xfrm>
            <a:off x="1446120" y="456876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196440"/>
            <a:ext cx="8859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Lar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distancia*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6120" y="392904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V pa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194688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6120" y="251064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fija loca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855680" y="4321080"/>
            <a:ext cx="249480" cy="2116440"/>
          </a:xfrm>
          <a:custGeom>
            <a:avLst/>
            <a:gdLst>
              <a:gd name="textAreaLeft" fmla="*/ 0 w 249480"/>
              <a:gd name="textAreaRight" fmla="*/ 249840 w 249480"/>
              <a:gd name="textAreaTop" fmla="*/ 0 h 2116440"/>
              <a:gd name="textAreaBottom" fmla="*/ 2116440 h 211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0200" y="5745240"/>
            <a:ext cx="4002120" cy="579240"/>
          </a:xfrm>
          <a:prstGeom prst="roundRect">
            <a:avLst>
              <a:gd name="adj" fmla="val 7366"/>
            </a:avLst>
          </a:prstGeom>
          <a:noFill/>
          <a:ln w="9360">
            <a:solidFill>
              <a:srgbClr val="0033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5820840"/>
            <a:ext cx="381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Móviles y Banda Ancha son las únicas líneas de negocio con buen crecimient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730520"/>
            <a:ext cx="1417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1186560"/>
            <a:ext cx="14382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Facturació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 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8160" y="1838160"/>
            <a:ext cx="194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354400" y="1789200"/>
          <a:ext cx="21412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4400" y="1789200"/>
                    <a:ext cx="21412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110280" y="173052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8200" y="1186560"/>
            <a:ext cx="15876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ARPU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8200" y="1838160"/>
            <a:ext cx="158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81320" y="1730520"/>
            <a:ext cx="163368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91040" y="1186560"/>
            <a:ext cx="19429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Servicios promedi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1040" y="1838160"/>
            <a:ext cx="1942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59360" y="1787400"/>
          <a:ext cx="2798640" cy="323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9360" y="1787400"/>
                    <a:ext cx="2798640" cy="32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865680" y="1630440"/>
            <a:ext cx="18252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Symbol"/>
                <a:ea typeface="Symbol"/>
              </a:rPr>
              <a:t>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1630440"/>
            <a:ext cx="18108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1736640"/>
            <a:ext cx="12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93000" y="1236960"/>
            <a:ext cx="120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Crecimiento (‘04-’05**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93000" y="1844640"/>
            <a:ext cx="12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889760" y="1836360"/>
            <a:ext cx="3240" cy="296532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889760" y="2119320"/>
            <a:ext cx="863640" cy="1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8960" y="26337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2.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9760" y="4603680"/>
            <a:ext cx="53676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39200" y="44928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8.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9760" y="4024440"/>
            <a:ext cx="23184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53360" y="38829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3.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646760" y="337032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8960" y="33195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775640" y="2698560"/>
            <a:ext cx="123840" cy="12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75760" y="18684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1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72200" y="1817640"/>
          <a:ext cx="2862360" cy="320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1817640"/>
                    <a:ext cx="28623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7920" y="1325520"/>
            <a:ext cx="3537000" cy="2179800"/>
            <a:chOff x="1447920" y="1325520"/>
            <a:chExt cx="3537000" cy="2179800"/>
          </a:xfrm>
        </p:grpSpPr>
        <p:sp>
          <p:nvSpPr>
            <p:cNvPr id="98" name=""/>
            <p:cNvSpPr/>
            <p:nvPr/>
          </p:nvSpPr>
          <p:spPr>
            <a:xfrm>
              <a:off x="1447920" y="1325520"/>
              <a:ext cx="3537000" cy="217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97840" y="1504440"/>
              <a:ext cx="2959560" cy="163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7840" y="1504440"/>
              <a:ext cx="1440" cy="163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69760" y="314388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69760" y="232956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69760" y="150444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97840" y="3143880"/>
              <a:ext cx="2959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797840" y="3143520"/>
              <a:ext cx="144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27852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75776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6360" y="1847520"/>
              <a:ext cx="35640" cy="435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2080" y="2371680"/>
              <a:ext cx="3564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1600" y="240624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4200" y="245736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2960" y="2646720"/>
              <a:ext cx="3600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5880" y="2707200"/>
              <a:ext cx="36000" cy="417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3640" y="274032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8680" y="2818440"/>
              <a:ext cx="3564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7480" y="2740320"/>
              <a:ext cx="292680" cy="435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5"/>
                  </a:moveTo>
                  <a:lnTo>
                    <a:pt x="3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50520" y="2681640"/>
              <a:ext cx="307800" cy="5868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0" y="7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8680" y="2621520"/>
              <a:ext cx="314280" cy="59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2960" y="2561040"/>
              <a:ext cx="292680" cy="6012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66000" y="2482920"/>
              <a:ext cx="307800" cy="781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9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4160" y="2389320"/>
              <a:ext cx="314280" cy="932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8440" y="2295000"/>
              <a:ext cx="286200" cy="9432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0" y="11"/>
                  </a:move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21000" y="158292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1399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0360" y="155700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9E-05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1520" y="176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04600" y="1736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0600" y="176184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365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5800" y="3076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35040" y="2260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14367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819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15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20960" y="32389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62320" y="2751120"/>
            <a:ext cx="4255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440" y="275580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880" y="2701800"/>
            <a:ext cx="3571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48680" y="250812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6640" y="1731960"/>
            <a:ext cx="301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80600" y="175248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73520" y="2495520"/>
            <a:ext cx="459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68440" y="24480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7800" y="2448000"/>
            <a:ext cx="4971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39520" y="22654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44960" y="2846520"/>
            <a:ext cx="285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5480" y="2832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20680" y="265896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54560" y="2351160"/>
            <a:ext cx="3204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3160" y="218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76960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Móviles y Banda Ancha tienen penetraciones muy por sobre lo proyectado a partir del ingreso paí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0" name=""/>
          <p:cNvSpPr/>
          <p:nvPr/>
        </p:nvSpPr>
        <p:spPr>
          <a:xfrm>
            <a:off x="360036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86080" y="1066680"/>
            <a:ext cx="133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Móvil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454720" y="1387440"/>
            <a:ext cx="3525840" cy="2193840"/>
            <a:chOff x="5454720" y="1387440"/>
            <a:chExt cx="3525840" cy="2193840"/>
          </a:xfrm>
        </p:grpSpPr>
        <p:sp>
          <p:nvSpPr>
            <p:cNvPr id="153" name=""/>
            <p:cNvSpPr/>
            <p:nvPr/>
          </p:nvSpPr>
          <p:spPr>
            <a:xfrm>
              <a:off x="5454720" y="1387440"/>
              <a:ext cx="3525840" cy="21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6720" y="1558440"/>
              <a:ext cx="2964960" cy="16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720" y="1558440"/>
              <a:ext cx="1440" cy="166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67920" y="32274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67920" y="23940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67920" y="15584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6720" y="3227400"/>
              <a:ext cx="2964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796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54048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28280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019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76204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2000" y="1654560"/>
              <a:ext cx="36720" cy="4140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31200" y="2032560"/>
              <a:ext cx="367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2471040"/>
              <a:ext cx="3636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3040" y="252216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7320" y="2548080"/>
              <a:ext cx="349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74920" y="271188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3440" y="275508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7680" y="298656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0000" y="2866320"/>
              <a:ext cx="254520" cy="6948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8"/>
                  </a:moveTo>
                  <a:lnTo>
                    <a:pt x="2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4880" y="2779560"/>
              <a:ext cx="276840" cy="8640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10"/>
                  </a:move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2080" y="2677680"/>
              <a:ext cx="254520" cy="101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2"/>
                  </a:moveTo>
                  <a:lnTo>
                    <a:pt x="2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960" y="2538720"/>
              <a:ext cx="276840" cy="1389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16"/>
                  </a:move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63800" y="2376720"/>
              <a:ext cx="261360" cy="16200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9"/>
                  </a:moveTo>
                  <a:lnTo>
                    <a:pt x="2" y="18"/>
                  </a:lnTo>
                  <a:lnTo>
                    <a:pt x="4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5160" y="2169720"/>
              <a:ext cx="270000" cy="2066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4"/>
                  </a:move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95520" y="1919880"/>
              <a:ext cx="261360" cy="2498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9"/>
                  </a:moveTo>
                  <a:lnTo>
                    <a:pt x="2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1400" y="155844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0353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39320" y="153396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4880" y="173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7600" y="171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5400" y="173916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654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4680" y="31582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3920" y="2324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920" y="14904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3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74760" y="332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2384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688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29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2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45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6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789600" y="1994040"/>
            <a:ext cx="389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67080" y="191772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73640" y="3030480"/>
            <a:ext cx="3272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8080" y="30304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46880" y="1600200"/>
            <a:ext cx="282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68280" y="158760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7880" y="2581200"/>
            <a:ext cx="426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96120" y="23004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6600" y="2682720"/>
            <a:ext cx="4618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6640" y="264636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7360" y="2535120"/>
            <a:ext cx="263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71800" y="2355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0040" y="2851200"/>
            <a:ext cx="4237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7240" y="2819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66040" y="2444760"/>
            <a:ext cx="296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57080" y="23493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51400" y="1066680"/>
            <a:ext cx="13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Usuarios 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388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1008000"/>
            <a:ext cx="37303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73640" y="1000080"/>
            <a:ext cx="3746520" cy="27018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McK Footnote"/>
          <p:cNvSpPr/>
          <p:nvPr/>
        </p:nvSpPr>
        <p:spPr>
          <a:xfrm>
            <a:off x="1440000" y="6663960"/>
            <a:ext cx="6926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85720" indent="-585720">
              <a:lnSpc>
                <a:spcPct val="95000"/>
              </a:lnSpc>
              <a:tabLst>
                <a:tab algn="l" pos="0"/>
                <a:tab algn="r" pos="49212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Datos: Dic 2004 / Fuente: ITU, World Bank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57280" y="4133880"/>
            <a:ext cx="3575160" cy="2379600"/>
            <a:chOff x="1457280" y="4133880"/>
            <a:chExt cx="3575160" cy="2379600"/>
          </a:xfrm>
        </p:grpSpPr>
        <p:sp>
          <p:nvSpPr>
            <p:cNvPr id="215" name=""/>
            <p:cNvSpPr/>
            <p:nvPr/>
          </p:nvSpPr>
          <p:spPr>
            <a:xfrm>
              <a:off x="1457280" y="4133880"/>
              <a:ext cx="3575160" cy="23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0880" y="4321440"/>
              <a:ext cx="2987640" cy="17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0880" y="4321440"/>
              <a:ext cx="1080" cy="178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91000" y="610776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1000" y="521460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1000" y="432144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0880" y="6107760"/>
              <a:ext cx="29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82088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1516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0944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1160" y="50274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880" y="508356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90160" y="5121720"/>
              <a:ext cx="35640" cy="471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81920" y="4698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14640" y="52056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4240" y="5507280"/>
              <a:ext cx="36720" cy="453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25200" y="5751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9480" y="576936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61800" y="5676480"/>
              <a:ext cx="280800" cy="745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7" y="7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42960" y="5591160"/>
              <a:ext cx="275040" cy="8532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9"/>
                  </a:move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18000" y="5469120"/>
              <a:ext cx="303840" cy="12168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13"/>
                  </a:moveTo>
                  <a:lnTo>
                    <a:pt x="3" y="12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21840" y="5338080"/>
              <a:ext cx="275040" cy="1306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14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96880" y="5168880"/>
              <a:ext cx="296280" cy="1688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8"/>
                  </a:moveTo>
                  <a:lnTo>
                    <a:pt x="3" y="17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3" y="8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3520" y="4970520"/>
              <a:ext cx="280800" cy="1983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21"/>
                  </a:moveTo>
                  <a:lnTo>
                    <a:pt x="3" y="20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6" y="13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4680" y="4735800"/>
              <a:ext cx="281880" cy="23436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5"/>
                  </a:moveTo>
                  <a:lnTo>
                    <a:pt x="3" y="23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3560" y="4273920"/>
              <a:ext cx="60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y = 0,0551e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9760" y="424656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1000" y="4472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5880" y="4443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40800" y="4472280"/>
              <a:ext cx="48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= 0,6416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3800" y="603468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3040" y="51400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53040" y="42465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172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384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5080" y="6211440"/>
              <a:ext cx="35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621240" y="4491000"/>
            <a:ext cx="461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4600" y="451008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31840" y="5707080"/>
            <a:ext cx="390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5680" y="584676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54640" y="5072040"/>
            <a:ext cx="3301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91520" y="520524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17960" y="4821120"/>
            <a:ext cx="501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71680" y="4916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5335560"/>
            <a:ext cx="541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4760" y="53006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8880" y="5653080"/>
            <a:ext cx="311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7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65320" y="5032440"/>
            <a:ext cx="497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71400" y="5051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9920" y="4821120"/>
            <a:ext cx="3492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18480" y="48798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6324480"/>
            <a:ext cx="151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3835440"/>
            <a:ext cx="133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Fija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3809880"/>
            <a:ext cx="372240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75440" y="3809880"/>
            <a:ext cx="37447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92920" y="529740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3240" y="6040440"/>
            <a:ext cx="5731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75440" y="5791320"/>
            <a:ext cx="573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70440" y="4327560"/>
            <a:ext cx="1800" cy="178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70440" y="58374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70440" y="55656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70440" y="52894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70440" y="50133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0440" y="47433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0440" y="44672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70440" y="6095880"/>
            <a:ext cx="2965680" cy="1800"/>
          </a:xfrm>
          <a:prstGeom prst="line">
            <a:avLst/>
          </a:prstGeom>
          <a:ln cap="rnd"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827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889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85040" y="559764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96240" y="4583160"/>
            <a:ext cx="41400" cy="363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573552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37480" y="5326200"/>
            <a:ext cx="4140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0320" y="5986440"/>
            <a:ext cx="4104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1720" y="5376960"/>
            <a:ext cx="396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75480" y="5709960"/>
            <a:ext cx="245880" cy="166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21360" y="5544720"/>
            <a:ext cx="252720" cy="1652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174080" y="5381640"/>
            <a:ext cx="245880" cy="1634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19960" y="5213160"/>
            <a:ext cx="252360" cy="16812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672320" y="5049360"/>
            <a:ext cx="247680" cy="16380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3200" y="4410000"/>
            <a:ext cx="104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y = 0.00005x - 0.1822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30520" y="45529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11880" y="4532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52560" y="4552920"/>
            <a:ext cx="48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= 0.4435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7720" y="605628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54720" y="578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54720" y="551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54720" y="52340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3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54720" y="49561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54720" y="468648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54720" y="44100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63184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8736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14800" y="6200640"/>
            <a:ext cx="31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1720" y="5257800"/>
            <a:ext cx="232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88680" y="524340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5972040"/>
            <a:ext cx="43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85120" y="5562720"/>
            <a:ext cx="32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México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88560" y="571500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720" y="453852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3832200"/>
            <a:ext cx="113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Televisió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4920" y="6319800"/>
            <a:ext cx="128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23280" y="3859200"/>
            <a:ext cx="140652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AR" sz="1400" spc="-1" strike="noStrike">
                <a:solidFill>
                  <a:srgbClr val="003399"/>
                </a:solidFill>
                <a:latin typeface="TheSansCorrespondence"/>
              </a:rPr>
              <a:t>2003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n el país continúa el desplazamiento  de la voz hacia la telefonía móvil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717640" y="3129120"/>
          <a:ext cx="35560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7640" y="3129120"/>
                    <a:ext cx="3556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1425600" y="1508040"/>
            <a:ext cx="896760" cy="1279080"/>
            <a:chOff x="1425600" y="1508040"/>
            <a:chExt cx="896760" cy="1279080"/>
          </a:xfrm>
        </p:grpSpPr>
        <p:sp>
          <p:nvSpPr>
            <p:cNvPr id="328" name=""/>
            <p:cNvSpPr/>
            <p:nvPr/>
          </p:nvSpPr>
          <p:spPr>
            <a:xfrm>
              <a:off x="1425600" y="1508040"/>
              <a:ext cx="896760" cy="127908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1578600"/>
              <a:ext cx="780120" cy="110088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365120" y="1943280"/>
            <a:ext cx="139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717640" y="1566720"/>
          <a:ext cx="3302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7640" y="1566720"/>
                    <a:ext cx="3302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rot="5400000">
            <a:off x="6213240" y="221580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27040" y="2992320"/>
            <a:ext cx="858960" cy="1336320"/>
            <a:chOff x="1427040" y="2992320"/>
            <a:chExt cx="858960" cy="1336320"/>
          </a:xfrm>
        </p:grpSpPr>
        <p:sp>
          <p:nvSpPr>
            <p:cNvPr id="335" name=""/>
            <p:cNvSpPr/>
            <p:nvPr/>
          </p:nvSpPr>
          <p:spPr>
            <a:xfrm>
              <a:off x="1427040" y="2992320"/>
              <a:ext cx="858960" cy="133632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3066120"/>
              <a:ext cx="747000" cy="115020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97160" y="3422520"/>
            <a:ext cx="888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Móvil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75200" y="198900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03280" y="2370240"/>
            <a:ext cx="64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60720" y="35146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3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73400" y="3268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6,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73400" y="1676520"/>
            <a:ext cx="58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78080" y="3860640"/>
            <a:ext cx="62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ff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2760" y="4037040"/>
            <a:ext cx="60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n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77000" y="366228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33520" y="4819680"/>
            <a:ext cx="858960" cy="1310760"/>
            <a:chOff x="1433520" y="4819680"/>
            <a:chExt cx="858960" cy="1310760"/>
          </a:xfrm>
        </p:grpSpPr>
        <p:sp>
          <p:nvSpPr>
            <p:cNvPr id="347" name=""/>
            <p:cNvSpPr/>
            <p:nvPr/>
          </p:nvSpPr>
          <p:spPr>
            <a:xfrm>
              <a:off x="1433520" y="4819680"/>
              <a:ext cx="858960" cy="131076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9080" y="4892040"/>
              <a:ext cx="747000" cy="112824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11200" y="4951440"/>
            <a:ext cx="87480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Total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Voz por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Red de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32040" y="4843440"/>
          <a:ext cx="357984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2040" y="4843440"/>
                    <a:ext cx="357984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2293920" y="5613480"/>
            <a:ext cx="3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8800" y="5064120"/>
            <a:ext cx="4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1731960"/>
            <a:ext cx="22100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32120" indent="-1321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Reducción de tráfico origen fijo, acelerado por agresividad móvil por proyectos convergencias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75840" y="990720"/>
            <a:ext cx="228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Tráfico según red de 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miles de millones de minuto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33960" y="313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7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95560" y="14842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9,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06800" y="16192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3720" y="1666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5504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217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963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8204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5520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4888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12880" y="392256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5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42960" y="395928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4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71880" y="4764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25960" y="47275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7960" y="47354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6148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6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6456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1640" y="5410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8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52240" y="50594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1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42960" y="50976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28720" y="50720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3063960"/>
            <a:ext cx="21034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Crecimiento de tráfico móvil por incremento de abonados y llamadas entre móvile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6213240" y="36763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213240" y="52765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4965840"/>
            <a:ext cx="189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El tráfico total de voz no se ha incrementad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9464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4872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0460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87960" y="175572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00920" y="477828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00920" y="307656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54840" y="1190520"/>
            <a:ext cx="51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CAGR </a:t>
            </a:r>
            <a:br>
              <a:rPr sz="1200"/>
            </a:b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0360" y="1619280"/>
            <a:ext cx="603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784680" y="2519280"/>
            <a:ext cx="139680" cy="177840"/>
            <a:chOff x="3784680" y="2519280"/>
            <a:chExt cx="139680" cy="177840"/>
          </a:xfrm>
        </p:grpSpPr>
        <p:sp>
          <p:nvSpPr>
            <p:cNvPr id="390" name=""/>
            <p:cNvSpPr/>
            <p:nvPr/>
          </p:nvSpPr>
          <p:spPr>
            <a:xfrm flipH="1">
              <a:off x="378468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86100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22840" y="4068720"/>
            <a:ext cx="139680" cy="177840"/>
            <a:chOff x="3822840" y="4068720"/>
            <a:chExt cx="139680" cy="177840"/>
          </a:xfrm>
        </p:grpSpPr>
        <p:sp>
          <p:nvSpPr>
            <p:cNvPr id="393" name=""/>
            <p:cNvSpPr/>
            <p:nvPr/>
          </p:nvSpPr>
          <p:spPr>
            <a:xfrm flipH="1">
              <a:off x="382284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89916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96000" y="4068720"/>
            <a:ext cx="139680" cy="177840"/>
            <a:chOff x="4896000" y="4068720"/>
            <a:chExt cx="139680" cy="177840"/>
          </a:xfrm>
        </p:grpSpPr>
        <p:sp>
          <p:nvSpPr>
            <p:cNvPr id="396" name=""/>
            <p:cNvSpPr/>
            <p:nvPr/>
          </p:nvSpPr>
          <p:spPr>
            <a:xfrm flipH="1">
              <a:off x="489600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97232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822840" y="5783400"/>
            <a:ext cx="139680" cy="177840"/>
            <a:chOff x="3822840" y="5783400"/>
            <a:chExt cx="139680" cy="177840"/>
          </a:xfrm>
        </p:grpSpPr>
        <p:sp>
          <p:nvSpPr>
            <p:cNvPr id="399" name=""/>
            <p:cNvSpPr/>
            <p:nvPr/>
          </p:nvSpPr>
          <p:spPr>
            <a:xfrm flipH="1">
              <a:off x="382284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89916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883040" y="5757840"/>
            <a:ext cx="139680" cy="177840"/>
            <a:chOff x="4883040" y="5757840"/>
            <a:chExt cx="139680" cy="177840"/>
          </a:xfrm>
        </p:grpSpPr>
        <p:sp>
          <p:nvSpPr>
            <p:cNvPr id="402" name=""/>
            <p:cNvSpPr/>
            <p:nvPr/>
          </p:nvSpPr>
          <p:spPr>
            <a:xfrm flipH="1">
              <a:off x="488304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95936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2141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539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6824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7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McK Footnote"/>
          <p:cNvSpPr/>
          <p:nvPr/>
        </p:nvSpPr>
        <p:spPr>
          <a:xfrm>
            <a:off x="1106640" y="6563160"/>
            <a:ext cx="6661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Fuente: Estimaciones de TCTC adaptadas de cifras de Subtel, Tráfico de interconexiones de TCTC y estimaciones de otras rede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(1) Estimaciones de TCTC, pendientes de validación con Movistar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826160" y="2500200"/>
            <a:ext cx="139680" cy="177840"/>
            <a:chOff x="4826160" y="2500200"/>
            <a:chExt cx="139680" cy="177840"/>
          </a:xfrm>
        </p:grpSpPr>
        <p:sp>
          <p:nvSpPr>
            <p:cNvPr id="409" name=""/>
            <p:cNvSpPr/>
            <p:nvPr/>
          </p:nvSpPr>
          <p:spPr>
            <a:xfrm flipH="1">
              <a:off x="482616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90248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62160" y="1098720"/>
            <a:ext cx="205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24440" y="1227240"/>
            <a:ext cx="1581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Acceso a Internet en el hogar</a:t>
            </a:r>
            <a:r>
              <a:rPr b="0" lang="es-ES_tradnl" sz="1300" spc="-1" strike="noStrike" baseline="30000">
                <a:solidFill>
                  <a:srgbClr val="003399"/>
                </a:solidFill>
                <a:latin typeface="TheSansCorrespondence"/>
              </a:rPr>
              <a:t>2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35480" y="1236600"/>
            <a:ext cx="765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 Fija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63720" y="2612880"/>
            <a:ext cx="709560" cy="69084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63720" y="3344760"/>
            <a:ext cx="709560" cy="693720"/>
          </a:xfrm>
          <a:custGeom>
            <a:avLst/>
            <a:gdLst>
              <a:gd name="textAreaLeft" fmla="*/ 0 w 709560"/>
              <a:gd name="textAreaRight" fmla="*/ 709920 w 7095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3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63720" y="4079880"/>
            <a:ext cx="709560" cy="668160"/>
          </a:xfrm>
          <a:custGeom>
            <a:avLst/>
            <a:gdLst>
              <a:gd name="textAreaLeft" fmla="*/ 0 w 709560"/>
              <a:gd name="textAreaRight" fmla="*/ 709920 w 70956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D y E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24080" y="1123920"/>
            <a:ext cx="939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Ingresos hogar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1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US$ m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55760" y="1766880"/>
            <a:ext cx="1208160" cy="46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60640" y="1301760"/>
            <a:ext cx="10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Hogar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Miles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4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29080" y="34909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86240" y="35305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9800" y="349092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45280" y="35496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426096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71840" y="430056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3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3440" y="4797360"/>
            <a:ext cx="709560" cy="536760"/>
          </a:xfrm>
          <a:custGeom>
            <a:avLst/>
            <a:gdLst>
              <a:gd name="textAreaLeft" fmla="*/ 0 w 709560"/>
              <a:gd name="textAreaRight" fmla="*/ 709920 w 7095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TOTAL</a:t>
            </a:r>
            <a:r>
              <a:rPr b="1" lang="es-ES_tradnl" sz="1200" spc="-1" strike="noStrike" baseline="30000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02440" y="49276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.34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908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808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5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1980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1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69280" y="1274760"/>
            <a:ext cx="447480" cy="282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99560" y="1235160"/>
            <a:ext cx="105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% penetración hogar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98760" y="1228680"/>
            <a:ext cx="84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Móvil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5624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19800" y="27385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69040" y="279252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4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9100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29080" y="281628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91000" y="348624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29080" y="352584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91000" y="425592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29080" y="43099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48160" y="485136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62480" y="48942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8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19800" y="422100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64000" y="42750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40680" y="2111400"/>
            <a:ext cx="1898640" cy="2209680"/>
          </a:xfrm>
          <a:custGeom>
            <a:avLst/>
            <a:gdLst>
              <a:gd name="textAreaLeft" fmla="*/ 92520 w 1898640"/>
              <a:gd name="textAreaRight" fmla="*/ 1806120 w 1898640"/>
              <a:gd name="textAreaTop" fmla="*/ 92520 h 2209680"/>
              <a:gd name="textAreaBottom" fmla="*/ 2117160 h 2209680"/>
            </a:gdLst>
            <a:ahLst/>
            <a:rect l="textAreaLeft" t="textAreaTop" r="textAreaRight" b="textAreaBottom"/>
            <a:pathLst>
              <a:path w="21600" h="25138">
                <a:moveTo>
                  <a:pt x="3600" y="0"/>
                </a:moveTo>
                <a:arcTo wR="3600" hR="3600" stAng="16200000" swAng="-5400000"/>
                <a:lnTo>
                  <a:pt x="0" y="21538"/>
                </a:lnTo>
                <a:arcTo wR="3600" hR="3600" stAng="10800000" swAng="-5400000"/>
                <a:lnTo>
                  <a:pt x="18000" y="251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6"/>
                </a:solidFill>
                <a:latin typeface="TheSansCorrespondence"/>
              </a:rPr>
              <a:t>En los sectores económicos de bajos recursos (GSE D y E, 54% de los hogares)  la telefonía fija ha penetrado débilmente y todavía en menor medida Internet</a:t>
            </a: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6221520" y="3469320"/>
            <a:ext cx="2146320" cy="1666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4492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8300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83280" y="1782720"/>
            <a:ext cx="10476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McK Footnote"/>
          <p:cNvSpPr/>
          <p:nvPr/>
        </p:nvSpPr>
        <p:spPr>
          <a:xfrm>
            <a:off x="1592280" y="6036840"/>
            <a:ext cx="708516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1) Ingresos promedio por GSE según empresa ICCOM  Marzo 2005 expresados dólares de dic. 2005 tc Ch$/US$ 512,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2) Incluyen conexiones de Banda Ancha y Banda Estrecha. No incluyen accesos a través de infocentros y cibercafé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3) Focalizado en algunos sectores geográficos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4) Incluye el total de hogares urbanos y rurales a nivel Paí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5) La encuesta considera hasta el GSE D y se incorpora el GSE E para efectos de considerar el total de hogares urbano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6) Muestra la penetración total Hogares (urbanos+rural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407280" y="1197000"/>
            <a:ext cx="765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Cías Fija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9756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35720" y="347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35720" y="420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64160" y="484020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67640" y="338616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86720" y="26654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51120" y="1879560"/>
            <a:ext cx="709560" cy="69048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ABC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3640" y="202896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07200" y="2004840"/>
            <a:ext cx="58068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56080" y="20588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6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78400" y="2028960"/>
            <a:ext cx="58068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78320" y="208296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14680" y="2771640"/>
            <a:ext cx="58104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2760" y="28256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02080" y="203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0160" y="209232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9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2320" y="21589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31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2320" y="28195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5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0244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10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02440" y="428004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36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19200" y="5657760"/>
            <a:ext cx="74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99"/>
                </a:solidFill>
                <a:latin typeface="TheSansCorrespondence"/>
              </a:rPr>
              <a:t>Fuente: Encuesta Nuevas Tecnologías de la Consultora CIMA (encargada en Chile de la encuesta NNTT Monitor) realizada en octubre 2005, sólo considera hogares urbanos (apróx. 88% del total de hogares),mostrando el máximo de penetración actual en cada servicio.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79840" y="958680"/>
            <a:ext cx="89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Grupo Socioeconómico (GSE)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4464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33920" y="21589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.59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033920" y="28195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09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3392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00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53800" y="428004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7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Sin embargo la penetración de servicios de Telco ha sido muy desigua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2060640" y="2276640"/>
          <a:ext cx="38671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276640"/>
                    <a:ext cx="38671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2290680" y="1062360"/>
            <a:ext cx="420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ercad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inutos de Voz </a:t>
            </a: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es de millones de minuto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09760" y="233352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0240" y="2371680"/>
            <a:ext cx="51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89320" y="2371680"/>
            <a:ext cx="4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46840" y="2333520"/>
            <a:ext cx="58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3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45360" y="490392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45360" y="424656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45360" y="394812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85720" y="132840"/>
            <a:ext cx="75214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e88"/>
                </a:solidFill>
                <a:latin typeface="TheSansCorrespondence"/>
              </a:rPr>
              <a:t>Se espera que esta tendencia continúe en el tiempo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3441600"/>
            <a:ext cx="128520" cy="138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3627360"/>
            <a:ext cx="128520" cy="138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3790800"/>
            <a:ext cx="128520" cy="138240"/>
          </a:xfrm>
          <a:prstGeom prst="rect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965400"/>
            <a:ext cx="128520" cy="138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04880" y="3400200"/>
            <a:ext cx="771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-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08720" y="1096920"/>
            <a:ext cx="1131120" cy="228600"/>
            <a:chOff x="7308720" y="1096920"/>
            <a:chExt cx="1131120" cy="228600"/>
          </a:xfrm>
        </p:grpSpPr>
        <p:sp>
          <p:nvSpPr>
            <p:cNvPr id="500" name=""/>
            <p:cNvSpPr/>
            <p:nvPr/>
          </p:nvSpPr>
          <p:spPr>
            <a:xfrm>
              <a:off x="7308720" y="1109520"/>
              <a:ext cx="282600" cy="157320"/>
            </a:xfrm>
            <a:prstGeom prst="ellipse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78800" y="109692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3399"/>
                  </a:solidFill>
                  <a:latin typeface="TheSansCorrespondence"/>
                </a:rPr>
                <a:t>CAGR. %</a:t>
              </a:r>
              <a:endParaRPr b="0" lang="en-US" sz="15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rot="5400000">
            <a:off x="6359760" y="3721680"/>
            <a:ext cx="1725840" cy="15876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5400" bIns="540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72440" y="2946600"/>
            <a:ext cx="169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-189000">
              <a:lnSpc>
                <a:spcPct val="100000"/>
              </a:lnSpc>
              <a:spcBef>
                <a:spcPts val="751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  <a:ea typeface="Times New Roman"/>
              </a:rPr>
              <a:t>No hay evidencia que permita revertir la tendencia que caída de la voz fija,..aún con rentas planas (caso USA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8356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35680" y="5746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5360" y="313524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72880" y="6434280"/>
            <a:ext cx="312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Voz Fija: Modelos predictivos de Bayes.</a:t>
            </a:r>
            <a:br>
              <a:rPr sz="800"/>
            </a:b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Móviles: En base a estructura de parques y MOU de mercado 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05640" y="1703520"/>
            <a:ext cx="57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59400" y="1703520"/>
            <a:ext cx="6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5-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61080" y="492912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86280" y="424656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6280" y="394812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86280" y="313524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2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08760" y="4229280"/>
            <a:ext cx="165240" cy="901440"/>
          </a:xfrm>
          <a:custGeom>
            <a:avLst/>
            <a:gdLst>
              <a:gd name="textAreaLeft" fmla="*/ 0 w 165240"/>
              <a:gd name="textAreaRight" fmla="*/ 59760 w 16524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57880" y="4573440"/>
            <a:ext cx="50040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45360" y="231624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86280" y="231624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714680" y="733320"/>
          <a:ext cx="3689280" cy="27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733320"/>
                    <a:ext cx="368928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863720" y="3795840"/>
          <a:ext cx="419436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3720" y="3795840"/>
                    <a:ext cx="419436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447920" y="92160"/>
            <a:ext cx="75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A nivel mundial la tendencia es la misma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8200" y="6405480"/>
            <a:ext cx="284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 Ovum “Voice: A visión of the future, marzo 2006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05000" y="3495600"/>
            <a:ext cx="1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3720" y="501480"/>
            <a:ext cx="37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Móvil % del total  trafico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30840" y="4398840"/>
            <a:ext cx="2256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 nivel mundial se proyectan al 2010 caídas de -%5 anual del tráfico de voz conmutada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30840" y="1454040"/>
            <a:ext cx="195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l 2008 se espera que la telefonía móvil capture entre 10 y 30 pp del tráfico de voz respecto a 2005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86480" y="3406680"/>
            <a:ext cx="136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8"/>
                </a:solidFill>
                <a:latin typeface="TheSansCorrespondence"/>
              </a:rPr>
              <a:t>Fuente: MSDW, oct. 200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24880" y="3651120"/>
            <a:ext cx="30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Tráfico mundial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630840" y="5610240"/>
            <a:ext cx="226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3399"/>
                </a:solidFill>
                <a:latin typeface="TheSansCorrespondence"/>
              </a:rPr>
              <a:t>Nota: Se estima que al 2006 el tráfico de voz de empresas en casi todos los paises ya migro a redes privados e IP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5680440" y="200124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5680440" y="511272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494000" y="6370560"/>
            <a:ext cx="59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Fuente: Informe Estadístico N°10 de Subtel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(*) : Mar-06, fuente IDC Chile (www.idc.com)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22520" y="1386000"/>
            <a:ext cx="1025280" cy="40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494000" y="1084320"/>
          <a:ext cx="724356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1084320"/>
                    <a:ext cx="724356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8432640" y="51624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95760" y="2814480"/>
            <a:ext cx="2013120" cy="1150920"/>
          </a:xfrm>
          <a:custGeom>
            <a:avLst/>
            <a:gdLst/>
            <a:ahLst/>
            <a:rect l="l" t="t" r="r" b="b"/>
            <a:pathLst>
              <a:path w="989" h="519">
                <a:moveTo>
                  <a:pt x="0" y="519"/>
                </a:moveTo>
                <a:lnTo>
                  <a:pt x="0" y="0"/>
                </a:lnTo>
                <a:lnTo>
                  <a:pt x="989" y="0"/>
                </a:lnTo>
                <a:lnTo>
                  <a:pt x="989" y="270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1080" y="2077920"/>
            <a:ext cx="963720" cy="1300320"/>
          </a:xfrm>
          <a:custGeom>
            <a:avLst/>
            <a:gdLst/>
            <a:ahLst/>
            <a:rect l="l" t="t" r="r" b="b"/>
            <a:pathLst>
              <a:path w="481" h="586">
                <a:moveTo>
                  <a:pt x="0" y="586"/>
                </a:moveTo>
                <a:lnTo>
                  <a:pt x="0" y="0"/>
                </a:lnTo>
                <a:lnTo>
                  <a:pt x="481" y="0"/>
                </a:lnTo>
                <a:lnTo>
                  <a:pt x="479" y="148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89560" y="2637000"/>
            <a:ext cx="596880" cy="3394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36,1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70600" y="1903320"/>
            <a:ext cx="59868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48,4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7840" y="3452760"/>
            <a:ext cx="2028600" cy="1079640"/>
          </a:xfrm>
          <a:custGeom>
            <a:avLst/>
            <a:gdLst/>
            <a:ahLst/>
            <a:rect l="l" t="t" r="r" b="b"/>
            <a:pathLst>
              <a:path w="1379" h="573">
                <a:moveTo>
                  <a:pt x="1" y="573"/>
                </a:moveTo>
                <a:lnTo>
                  <a:pt x="0" y="0"/>
                </a:lnTo>
                <a:lnTo>
                  <a:pt x="1377" y="0"/>
                </a:lnTo>
                <a:lnTo>
                  <a:pt x="1379" y="265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6480" y="3317760"/>
            <a:ext cx="596880" cy="3398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86,8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72320" y="1654200"/>
            <a:ext cx="525600" cy="763560"/>
          </a:xfrm>
          <a:custGeom>
            <a:avLst/>
            <a:gdLst/>
            <a:ahLst/>
            <a:rect l="l" t="t" r="r" b="b"/>
            <a:pathLst>
              <a:path w="274" h="344">
                <a:moveTo>
                  <a:pt x="0" y="344"/>
                </a:moveTo>
                <a:lnTo>
                  <a:pt x="1" y="0"/>
                </a:lnTo>
                <a:lnTo>
                  <a:pt x="273" y="0"/>
                </a:lnTo>
                <a:lnTo>
                  <a:pt x="274" y="53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35960" y="1370160"/>
            <a:ext cx="59832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12,6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33520" y="50760"/>
            <a:ext cx="7710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El crecimiento de Banda Ancha en Chile ha sido sorpresente desde sus inicios.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749600" y="1147680"/>
          <a:ext cx="701352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147680"/>
                    <a:ext cx="7013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1749600" y="3859200"/>
          <a:ext cx="6921360" cy="31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3859200"/>
                    <a:ext cx="692136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1841400" y="9907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63760" y="76320"/>
            <a:ext cx="7680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futuro de la larga distancia tiene un mal pronós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41400" y="990720"/>
            <a:ext cx="7074000" cy="259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41400" y="13716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41400" y="37069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Inter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41400" y="3706920"/>
            <a:ext cx="7074000" cy="27702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41400" y="41148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26:23Z</dcterms:created>
  <dc:creator>Juan Manuel Sepúlveda</dc:creator>
  <dc:description/>
  <dc:language>en-US</dc:language>
  <cp:lastModifiedBy>Telefónica CTC Chile</cp:lastModifiedBy>
  <dcterms:modified xsi:type="dcterms:W3CDTF">2006-06-28T14:46:22Z</dcterms:modified>
  <cp:revision>388</cp:revision>
  <dc:subject/>
  <dc:title>Presentación Plantilla Telefónica</dc:title>
</cp:coreProperties>
</file>