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wmf" ContentType="image/x-wmf"/>
  <Override PartName="/ppt/media/image10.wmf" ContentType="image/x-wmf"/>
  <Override PartName="/ppt/media/image4.jpeg" ContentType="image/jpeg"/>
  <Override PartName="/ppt/media/image7.jpeg" ContentType="image/jpeg"/>
  <Override PartName="/ppt/media/image12.wmf" ContentType="image/x-wmf"/>
  <Override PartName="/ppt/media/image6.jpeg" ContentType="image/jpeg"/>
  <Override PartName="/ppt/media/image9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media/image14.wmf" ContentType="image/x-wmf"/>
  <Override PartName="/ppt/media/image23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99"/>
                </a:solidFill>
                <a:latin typeface="TheSansCorrespondence"/>
              </a:rPr>
              <a:t>Click to move the slide</a:t>
            </a: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E6D2-D1D4-4673-A4CB-5782D375CED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4E21-8ABC-4FDF-B09B-F799E55A5DF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55600" y="69696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36720" y="4397040"/>
            <a:ext cx="499752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19C4-57B5-45D0-8EF6-5462608C800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55600" y="69696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36720" y="4397040"/>
            <a:ext cx="499752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7EB6-9F9A-4FA5-B190-2564ACCAEF6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55600" y="69696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38160" y="4395960"/>
            <a:ext cx="4997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58CA-82AA-4A73-8404-AC6C769B797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57400" y="69696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36720" y="4397040"/>
            <a:ext cx="499752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 MANERA DE CONTEXTO DE LA DISCUSIÓN ES BUENO MIRAR DONDE ESTAMOS Y QUE NOS FALTA POR HACER, ESO AYUDARÁ A EVALUAR SI LAS PROPUESTAS DE REGLAMENTO AYUDAN O NO A MEJORAR EL DESEMPEÑO DEL SECT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 banda ancha ha funcionado por la baja carga regulatoria y por la inversión de privados (Telefónica CTC y VTR, no Entel que como siempre aboga por ventajas regulatorias para usar lo que otros invierten)... Hasta ahora...hay preocupantes señales de querer intervenir regulándo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elefónica CTC voluntariamente definió un modelo abierto el 2000; hoy el TDLC lo copia y obliga a VTR a abrir su red a otros ISP (hasta ahora era cerrad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país se ha beneficiado, los clientes también y las empresas han creado un negocio donde no lo habí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o este avance sólo beneficia a los segmentos más ricos; hay que hacer más; Telefónica CTC ha aportado esquemas comerciales nuevos (N&amp;W) para bajar las barreras de entrada y lo seguirá haciendo (BA full variable por ej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2996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6680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1240" y="114300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89640" y="114300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2996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1240" y="372996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89640" y="372996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60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6680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2996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solidFill>
            <a:srgbClr val="0009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75248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heSansCorrespondence"/>
              </a:rPr>
              <a:t>Click to edit the outline text format</a:t>
            </a: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  <a:p>
            <a:pPr lvl="1" marL="711360" indent="-366840">
              <a:spcBef>
                <a:spcPts val="1375"/>
              </a:spcBef>
              <a:buClr>
                <a:srgbClr val="d0f500"/>
              </a:buClr>
              <a:buSzPct val="80000"/>
              <a:buFont typeface="TheSansCorrespondence"/>
              <a:buChar char="—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heSansCorrespondence"/>
              </a:rPr>
              <a:t>Second Outline Level</a:t>
            </a: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  <a:p>
            <a:pPr lvl="2" marL="990720" indent="-277920">
              <a:spcBef>
                <a:spcPts val="1375"/>
              </a:spcBef>
              <a:buClr>
                <a:srgbClr val="d0f500"/>
              </a:buClr>
              <a:buSzPct val="80000"/>
              <a:buFont typeface="TheSansCorrespondence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heSansCorrespondence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  <a:p>
            <a:pPr lvl="3" marL="1257480" indent="-265320">
              <a:spcBef>
                <a:spcPts val="1375"/>
              </a:spcBef>
              <a:buClr>
                <a:srgbClr val="d0f500"/>
              </a:buClr>
              <a:buSzPct val="80000"/>
              <a:buFont typeface="TheSansCorrespondence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heSansCorrespondence"/>
              </a:rPr>
              <a:t>Fourth Outline Level</a:t>
            </a: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  <a:p>
            <a:pPr lvl="4" marL="1511280" indent="-252360">
              <a:spcBef>
                <a:spcPts val="1375"/>
              </a:spcBef>
              <a:buClr>
                <a:srgbClr val="d0f500"/>
              </a:buClr>
              <a:buSzPct val="80000"/>
              <a:buFont typeface="TheSansCorrespondence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heSansCorrespondence"/>
              </a:rPr>
              <a:t>Fifth Outline Level</a:t>
            </a: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  <a:p>
            <a:pPr lvl="5" marL="1511280" indent="-252360">
              <a:spcBef>
                <a:spcPts val="1375"/>
              </a:spcBef>
              <a:buClr>
                <a:srgbClr val="003399"/>
              </a:buClr>
              <a:buSzPct val="80000"/>
              <a:buFont typeface="TheSansCorrespondence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heSansCorrespondence"/>
              </a:rPr>
              <a:t>Sixth Outline Level</a:t>
            </a: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  <a:p>
            <a:pPr lvl="6" marL="1511280" indent="-252360">
              <a:spcBef>
                <a:spcPts val="1375"/>
              </a:spcBef>
              <a:buClr>
                <a:srgbClr val="003399"/>
              </a:buClr>
              <a:buSzPct val="80000"/>
              <a:buFont typeface="TheSansCorrespondence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heSansCorrespondence"/>
              </a:rPr>
              <a:t>Seventh Outline Level</a:t>
            </a: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99"/>
                </a:solidFill>
                <a:latin typeface="TheSansCorrespondence"/>
              </a:rPr>
              <a:t>Click to edit the title text format</a:t>
            </a: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3" name=""/>
          <p:cNvSpPr/>
          <p:nvPr/>
        </p:nvSpPr>
        <p:spPr>
          <a:xfrm>
            <a:off x="50040" y="311040"/>
            <a:ext cx="1255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heSansCorrespondence"/>
              </a:rPr>
              <a:t>ACELERAR PAR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heSansCorrespondence"/>
              </a:rPr>
              <a:t>SER MÁS LÍDERES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" name="Telefonica_Verde-100" descr=""/>
          <p:cNvPicPr/>
          <p:nvPr/>
        </p:nvPicPr>
        <p:blipFill>
          <a:blip r:embed="rId2"/>
          <a:stretch/>
        </p:blipFill>
        <p:spPr>
          <a:xfrm>
            <a:off x="152280" y="6157800"/>
            <a:ext cx="1067040" cy="3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E2" descr=""/>
          <p:cNvPicPr/>
          <p:nvPr/>
        </p:nvPicPr>
        <p:blipFill>
          <a:blip r:embed="rId1"/>
          <a:stretch/>
        </p:blipFill>
        <p:spPr>
          <a:xfrm>
            <a:off x="2743200" y="260028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49" name="E3" descr=""/>
          <p:cNvPicPr/>
          <p:nvPr/>
        </p:nvPicPr>
        <p:blipFill>
          <a:blip r:embed="rId2"/>
          <a:stretch/>
        </p:blipFill>
        <p:spPr>
          <a:xfrm>
            <a:off x="2743200" y="3886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E4" descr=""/>
          <p:cNvPicPr/>
          <p:nvPr/>
        </p:nvPicPr>
        <p:blipFill>
          <a:blip r:embed="rId3"/>
          <a:stretch/>
        </p:blipFill>
        <p:spPr>
          <a:xfrm>
            <a:off x="4038480" y="3886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L1" descr=""/>
          <p:cNvPicPr/>
          <p:nvPr/>
        </p:nvPicPr>
        <p:blipFill>
          <a:blip r:embed="rId4"/>
          <a:stretch/>
        </p:blipFill>
        <p:spPr>
          <a:xfrm>
            <a:off x="4038480" y="2590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L2" descr=""/>
          <p:cNvPicPr/>
          <p:nvPr/>
        </p:nvPicPr>
        <p:blipFill>
          <a:blip r:embed="rId5"/>
          <a:stretch/>
        </p:blipFill>
        <p:spPr>
          <a:xfrm>
            <a:off x="1447920" y="38862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371600" y="5213520"/>
            <a:ext cx="581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99"/>
                </a:solidFill>
                <a:latin typeface="TheSansCorrespondence"/>
              </a:rPr>
              <a:t>Junio 2006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4" name="E1" descr=""/>
          <p:cNvPicPr/>
          <p:nvPr/>
        </p:nvPicPr>
        <p:blipFill>
          <a:blip r:embed="rId6"/>
          <a:stretch/>
        </p:blipFill>
        <p:spPr>
          <a:xfrm>
            <a:off x="1447920" y="2590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71600" y="1081080"/>
            <a:ext cx="7099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3399"/>
                </a:solidFill>
                <a:latin typeface="TheSansCorrespondence"/>
              </a:rPr>
              <a:t>Entorno Industria Telco </a:t>
            </a:r>
            <a:endParaRPr b="0" lang="en-US" sz="35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5425920" y="2587680"/>
            <a:ext cx="2467080" cy="24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heSansCorrespondence"/>
              </a:rPr>
              <a:t>La guerra de precios post-deregulación ha sido usada como ejemplo de malas prácticas.</a:t>
            </a:r>
            <a:endParaRPr b="1" lang="en-US" sz="2400" spc="-1" strike="noStrike">
              <a:solidFill>
                <a:srgbClr val="003399"/>
              </a:solidFill>
              <a:latin typeface="TheSansCorrespondence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2286000" y="914400"/>
            <a:ext cx="5638680" cy="550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2" name=""/>
          <p:cNvGraphicFramePr/>
          <p:nvPr/>
        </p:nvGraphicFramePr>
        <p:xfrm>
          <a:off x="1415880" y="979560"/>
          <a:ext cx="7631280" cy="4630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5880" y="979560"/>
                    <a:ext cx="763128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"/>
          <p:cNvSpPr/>
          <p:nvPr/>
        </p:nvSpPr>
        <p:spPr>
          <a:xfrm>
            <a:off x="1487520" y="5827680"/>
            <a:ext cx="7559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3399"/>
                </a:solidFill>
                <a:latin typeface="Trebuchet MS"/>
              </a:rPr>
              <a:t>Fuente: SUBTEL sobre la base de información proporcionada por las empresas de telecomunicaciones</a:t>
            </a:r>
            <a:r>
              <a:rPr b="0" lang="es-ES" sz="1200" spc="-1" strike="noStrike">
                <a:solidFill>
                  <a:srgbClr val="003399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heSansCorrespondence"/>
              </a:rPr>
              <a:t>La incorporación de CPP fue fundamental en el despegue de la Telefonía Móvil.</a:t>
            </a:r>
            <a:endParaRPr b="1" lang="en-US" sz="24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76040" y="176040"/>
            <a:ext cx="8790120" cy="650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heSansCorrespondence"/>
              </a:rPr>
              <a:t>El mercado móvil y de telefonía fija generan más del 76% de la facturación total de la industria en Chile.</a:t>
            </a:r>
            <a:endParaRPr b="1" lang="en-US" sz="24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58" name=""/>
          <p:cNvSpPr/>
          <p:nvPr/>
        </p:nvSpPr>
        <p:spPr>
          <a:xfrm>
            <a:off x="1446120" y="4568760"/>
            <a:ext cx="76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Internet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95280" y="3196440"/>
            <a:ext cx="88596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Larga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distancia*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46120" y="3929040"/>
            <a:ext cx="76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TV paga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46120" y="1946880"/>
            <a:ext cx="76356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Telefonía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móvi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46120" y="2510640"/>
            <a:ext cx="76356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Telefonía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fija loca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4855680" y="4321080"/>
            <a:ext cx="249480" cy="2116440"/>
          </a:xfrm>
          <a:custGeom>
            <a:avLst/>
            <a:gdLst>
              <a:gd name="textAreaLeft" fmla="*/ 0 w 249480"/>
              <a:gd name="textAreaRight" fmla="*/ 249840 w 249480"/>
              <a:gd name="textAreaTop" fmla="*/ 0 h 2116440"/>
              <a:gd name="textAreaBottom" fmla="*/ 2116440 h 211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0"/>
                </a:lnTo>
                <a:lnTo>
                  <a:pt x="21600" y="10800"/>
                </a:lnTo>
                <a:lnTo>
                  <a:pt x="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0f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0200" y="5745240"/>
            <a:ext cx="4002120" cy="579240"/>
          </a:xfrm>
          <a:prstGeom prst="roundRect">
            <a:avLst>
              <a:gd name="adj" fmla="val 7366"/>
            </a:avLst>
          </a:prstGeom>
          <a:noFill/>
          <a:ln w="9360">
            <a:solidFill>
              <a:srgbClr val="003399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43160" y="5820840"/>
            <a:ext cx="3810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400" spc="-1" strike="noStrike">
                <a:solidFill>
                  <a:srgbClr val="003399"/>
                </a:solidFill>
                <a:latin typeface="TheSansCorrespondence"/>
              </a:rPr>
              <a:t>Móviles y Banda Ancha son las únicas líneas de negocio con buen crecimiento.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1730520"/>
            <a:ext cx="1417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71680" y="1186560"/>
            <a:ext cx="143820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heSansCorrespondence"/>
              </a:rPr>
              <a:t>Facturación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99"/>
                </a:solidFill>
                <a:latin typeface="TheSansCorrespondence"/>
              </a:rPr>
              <a:t>(millones US$)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38160" y="1838160"/>
            <a:ext cx="1941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354400" y="1789200"/>
          <a:ext cx="2141280" cy="32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4400" y="1789200"/>
                    <a:ext cx="2141280" cy="32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6110280" y="1730520"/>
            <a:ext cx="159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8200" y="1186560"/>
            <a:ext cx="158760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heSansCorrespondence"/>
              </a:rPr>
              <a:t>ARPU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99"/>
                </a:solidFill>
                <a:latin typeface="TheSansCorrespondence"/>
              </a:rPr>
              <a:t>(US$)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8200" y="1838160"/>
            <a:ext cx="158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81320" y="1730520"/>
            <a:ext cx="163368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91040" y="1186560"/>
            <a:ext cx="194292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heSansCorrespondence"/>
              </a:rPr>
              <a:t>Servicios promedio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99"/>
                </a:solidFill>
                <a:latin typeface="TheSansCorrespondence"/>
              </a:rPr>
              <a:t>(millones)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91040" y="1838160"/>
            <a:ext cx="194292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059360" y="1787400"/>
          <a:ext cx="2798640" cy="323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59360" y="1787400"/>
                    <a:ext cx="2798640" cy="32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3865680" y="1630440"/>
            <a:ext cx="182520" cy="180720"/>
          </a:xfrm>
          <a:prstGeom prst="ellipse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Symbol"/>
                <a:ea typeface="Symbol"/>
              </a:rPr>
              <a:t>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857920" y="1630440"/>
            <a:ext cx="181080" cy="180720"/>
          </a:xfrm>
          <a:prstGeom prst="ellipse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pt-BR" sz="1400" spc="-1" strike="noStrike">
                <a:solidFill>
                  <a:srgbClr val="003399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848720" y="1736640"/>
            <a:ext cx="120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893000" y="1236960"/>
            <a:ext cx="1200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heSansCorrespondence"/>
              </a:rPr>
              <a:t>Crecimiento (‘04-’05**)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893000" y="1844640"/>
            <a:ext cx="120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889760" y="1836360"/>
            <a:ext cx="3240" cy="296532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889760" y="2119320"/>
            <a:ext cx="863640" cy="1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38960" y="2633760"/>
            <a:ext cx="66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-2.6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889760" y="4603680"/>
            <a:ext cx="53676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539200" y="4492800"/>
            <a:ext cx="66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8.2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889760" y="4024440"/>
            <a:ext cx="23184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53360" y="3882960"/>
            <a:ext cx="66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3.7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646760" y="3370320"/>
            <a:ext cx="22860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38960" y="3319560"/>
            <a:ext cx="66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-5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7775640" y="2698560"/>
            <a:ext cx="123840" cy="126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75760" y="1868400"/>
            <a:ext cx="66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18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172200" y="1817640"/>
          <a:ext cx="2862360" cy="320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1817640"/>
                    <a:ext cx="286236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1447920" y="1325520"/>
            <a:ext cx="3537000" cy="2179800"/>
            <a:chOff x="1447920" y="1325520"/>
            <a:chExt cx="3537000" cy="2179800"/>
          </a:xfrm>
        </p:grpSpPr>
        <p:sp>
          <p:nvSpPr>
            <p:cNvPr id="98" name=""/>
            <p:cNvSpPr/>
            <p:nvPr/>
          </p:nvSpPr>
          <p:spPr>
            <a:xfrm>
              <a:off x="1447920" y="1325520"/>
              <a:ext cx="3537000" cy="217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97840" y="1504440"/>
              <a:ext cx="2959560" cy="163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97840" y="1504440"/>
              <a:ext cx="1440" cy="163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69760" y="3143880"/>
              <a:ext cx="28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69760" y="2329560"/>
              <a:ext cx="28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69760" y="1504440"/>
              <a:ext cx="28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97840" y="3143880"/>
              <a:ext cx="2959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797840" y="3143520"/>
              <a:ext cx="1440" cy="34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3278520" y="3143520"/>
              <a:ext cx="1080" cy="34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4757760" y="3143520"/>
              <a:ext cx="1080" cy="34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96360" y="1847520"/>
              <a:ext cx="35640" cy="43560"/>
            </a:xfrm>
            <a:prstGeom prst="ellipse">
              <a:avLst/>
            </a:prstGeom>
            <a:solidFill>
              <a:srgbClr val="ff000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22080" y="2371680"/>
              <a:ext cx="35640" cy="4320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51600" y="2406240"/>
              <a:ext cx="37080" cy="4356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24200" y="2457360"/>
              <a:ext cx="37080" cy="4356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72960" y="2646720"/>
              <a:ext cx="36000" cy="4212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35880" y="2707200"/>
              <a:ext cx="36000" cy="4176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63640" y="2740320"/>
              <a:ext cx="37080" cy="4356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58680" y="2818440"/>
              <a:ext cx="35640" cy="4212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57480" y="2740320"/>
              <a:ext cx="292680" cy="43560"/>
            </a:xfrm>
            <a:custGeom>
              <a:avLst/>
              <a:gdLst/>
              <a:ahLst/>
              <a:rect l="l" t="t" r="r" b="b"/>
              <a:pathLst>
                <a:path w="40" h="5">
                  <a:moveTo>
                    <a:pt x="0" y="5"/>
                  </a:moveTo>
                  <a:lnTo>
                    <a:pt x="3" y="5"/>
                  </a:lnTo>
                  <a:lnTo>
                    <a:pt x="5" y="4"/>
                  </a:lnTo>
                  <a:lnTo>
                    <a:pt x="8" y="4"/>
                  </a:lnTo>
                  <a:lnTo>
                    <a:pt x="11" y="4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40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50520" y="2681640"/>
              <a:ext cx="307800" cy="58680"/>
            </a:xfrm>
            <a:custGeom>
              <a:avLst/>
              <a:gdLst/>
              <a:ahLst/>
              <a:rect l="l" t="t" r="r" b="b"/>
              <a:pathLst>
                <a:path w="42" h="7">
                  <a:moveTo>
                    <a:pt x="0" y="7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2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58680" y="2621520"/>
              <a:ext cx="314280" cy="597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0" y="7"/>
                  </a:moveTo>
                  <a:lnTo>
                    <a:pt x="3" y="7"/>
                  </a:lnTo>
                  <a:lnTo>
                    <a:pt x="6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7" y="3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3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72960" y="2561040"/>
              <a:ext cx="292680" cy="60120"/>
            </a:xfrm>
            <a:custGeom>
              <a:avLst/>
              <a:gdLst/>
              <a:ahLst/>
              <a:rect l="l" t="t" r="r" b="b"/>
              <a:pathLst>
                <a:path w="40" h="7">
                  <a:moveTo>
                    <a:pt x="0" y="7"/>
                  </a:moveTo>
                  <a:lnTo>
                    <a:pt x="2" y="7"/>
                  </a:lnTo>
                  <a:lnTo>
                    <a:pt x="5" y="6"/>
                  </a:lnTo>
                  <a:lnTo>
                    <a:pt x="8" y="6"/>
                  </a:lnTo>
                  <a:lnTo>
                    <a:pt x="10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40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66000" y="2482920"/>
              <a:ext cx="307800" cy="7812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0" y="9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8" y="7"/>
                  </a:lnTo>
                  <a:lnTo>
                    <a:pt x="10" y="7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1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74160" y="2389320"/>
              <a:ext cx="314280" cy="93240"/>
            </a:xfrm>
            <a:custGeom>
              <a:avLst/>
              <a:gdLst/>
              <a:ahLst/>
              <a:rect l="l" t="t" r="r" b="b"/>
              <a:pathLst>
                <a:path w="43" h="11">
                  <a:moveTo>
                    <a:pt x="0" y="11"/>
                  </a:moveTo>
                  <a:lnTo>
                    <a:pt x="3" y="10"/>
                  </a:lnTo>
                  <a:lnTo>
                    <a:pt x="5" y="9"/>
                  </a:lnTo>
                  <a:lnTo>
                    <a:pt x="8" y="9"/>
                  </a:lnTo>
                  <a:lnTo>
                    <a:pt x="11" y="8"/>
                  </a:lnTo>
                  <a:lnTo>
                    <a:pt x="13" y="8"/>
                  </a:lnTo>
                  <a:lnTo>
                    <a:pt x="16" y="7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4" y="5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2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0" y="1"/>
                  </a:lnTo>
                  <a:lnTo>
                    <a:pt x="43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88440" y="2295000"/>
              <a:ext cx="286200" cy="94320"/>
            </a:xfrm>
            <a:custGeom>
              <a:avLst/>
              <a:gdLst/>
              <a:ahLst/>
              <a:rect l="l" t="t" r="r" b="b"/>
              <a:pathLst>
                <a:path w="39" h="11">
                  <a:moveTo>
                    <a:pt x="0" y="11"/>
                  </a:moveTo>
                  <a:lnTo>
                    <a:pt x="2" y="11"/>
                  </a:lnTo>
                  <a:lnTo>
                    <a:pt x="5" y="10"/>
                  </a:lnTo>
                  <a:lnTo>
                    <a:pt x="7" y="9"/>
                  </a:lnTo>
                  <a:lnTo>
                    <a:pt x="10" y="9"/>
                  </a:lnTo>
                  <a:lnTo>
                    <a:pt x="13" y="8"/>
                  </a:lnTo>
                  <a:lnTo>
                    <a:pt x="15" y="7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3" y="5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1" y="3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21000" y="1582920"/>
              <a:ext cx="537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y = 0,1399e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70360" y="1557000"/>
              <a:ext cx="323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9E-05x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31520" y="17618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04600" y="17362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40600" y="1761840"/>
              <a:ext cx="428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= 0,3658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85800" y="307620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0%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35040" y="226008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40%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35040" y="143676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80%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81920" y="32389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1.000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61520" y="32389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8.000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20960" y="323892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15.000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162320" y="2751120"/>
            <a:ext cx="42552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01440" y="2755800"/>
            <a:ext cx="47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Uruguay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2880" y="2701800"/>
            <a:ext cx="35712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48680" y="2508120"/>
            <a:ext cx="37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Bolivi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46640" y="1731960"/>
            <a:ext cx="30168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080600" y="1752480"/>
            <a:ext cx="28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Chile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73520" y="2495520"/>
            <a:ext cx="4590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68440" y="2448000"/>
            <a:ext cx="54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Argentin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47800" y="2448000"/>
            <a:ext cx="49716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39520" y="226548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Venezuel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44960" y="2846520"/>
            <a:ext cx="285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5480" y="283212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Perú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20680" y="2658960"/>
            <a:ext cx="532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Colombi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54560" y="2351160"/>
            <a:ext cx="32040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23160" y="21891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Brasil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920" y="76320"/>
            <a:ext cx="769608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heSansCorrespondence"/>
              </a:rPr>
              <a:t>Móviles y Banda Ancha tienen penetraciones muy por sobre lo proyectado a partir del ingreso país.</a:t>
            </a:r>
            <a:endParaRPr b="1" lang="en-US" sz="24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150" name=""/>
          <p:cNvSpPr/>
          <p:nvPr/>
        </p:nvSpPr>
        <p:spPr>
          <a:xfrm>
            <a:off x="3600360" y="3475080"/>
            <a:ext cx="1513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PBI (PPP) / persona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86080" y="1066680"/>
            <a:ext cx="1330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Penetración de Líneas Móviles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454720" y="1387440"/>
            <a:ext cx="3525840" cy="2193840"/>
            <a:chOff x="5454720" y="1387440"/>
            <a:chExt cx="3525840" cy="2193840"/>
          </a:xfrm>
        </p:grpSpPr>
        <p:sp>
          <p:nvSpPr>
            <p:cNvPr id="153" name=""/>
            <p:cNvSpPr/>
            <p:nvPr/>
          </p:nvSpPr>
          <p:spPr>
            <a:xfrm>
              <a:off x="5454720" y="1387440"/>
              <a:ext cx="3525840" cy="21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96720" y="1558440"/>
              <a:ext cx="2964960" cy="166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96720" y="1558440"/>
              <a:ext cx="1440" cy="166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67920" y="322740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67920" y="239400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67920" y="155844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96720" y="3227400"/>
              <a:ext cx="2964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5796720" y="32274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6540480" y="3227400"/>
              <a:ext cx="108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282800" y="32274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8019720" y="32274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8762040" y="3227400"/>
              <a:ext cx="108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02000" y="1654560"/>
              <a:ext cx="36720" cy="41400"/>
            </a:xfrm>
            <a:prstGeom prst="ellipse">
              <a:avLst/>
            </a:prstGeom>
            <a:solidFill>
              <a:srgbClr val="ff000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31200" y="2032560"/>
              <a:ext cx="36720" cy="4284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136000" y="2471040"/>
              <a:ext cx="36360" cy="4320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313040" y="2522160"/>
              <a:ext cx="36360" cy="4284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17320" y="2548080"/>
              <a:ext cx="34920" cy="4284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74920" y="2711880"/>
              <a:ext cx="36720" cy="4320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93440" y="2755080"/>
              <a:ext cx="36360" cy="4284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277680" y="2986560"/>
              <a:ext cx="36720" cy="4320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00000" y="2866320"/>
              <a:ext cx="254520" cy="69480"/>
            </a:xfrm>
            <a:custGeom>
              <a:avLst/>
              <a:gdLst/>
              <a:ahLst/>
              <a:rect l="l" t="t" r="r" b="b"/>
              <a:pathLst>
                <a:path w="35" h="8">
                  <a:moveTo>
                    <a:pt x="0" y="8"/>
                  </a:moveTo>
                  <a:lnTo>
                    <a:pt x="2" y="7"/>
                  </a:lnTo>
                  <a:lnTo>
                    <a:pt x="4" y="7"/>
                  </a:lnTo>
                  <a:lnTo>
                    <a:pt x="6" y="6"/>
                  </a:lnTo>
                  <a:lnTo>
                    <a:pt x="9" y="6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5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554880" y="2779560"/>
              <a:ext cx="276840" cy="8640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10"/>
                  </a:moveTo>
                  <a:lnTo>
                    <a:pt x="2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3" y="1"/>
                  </a:lnTo>
                  <a:lnTo>
                    <a:pt x="36" y="0"/>
                  </a:lnTo>
                  <a:lnTo>
                    <a:pt x="38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32080" y="2677680"/>
              <a:ext cx="254520" cy="101880"/>
            </a:xfrm>
            <a:custGeom>
              <a:avLst/>
              <a:gdLst/>
              <a:ahLst/>
              <a:rect l="l" t="t" r="r" b="b"/>
              <a:pathLst>
                <a:path w="35" h="12">
                  <a:moveTo>
                    <a:pt x="0" y="12"/>
                  </a:moveTo>
                  <a:lnTo>
                    <a:pt x="2" y="11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5" y="7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7" y="3"/>
                  </a:lnTo>
                  <a:lnTo>
                    <a:pt x="29" y="2"/>
                  </a:lnTo>
                  <a:lnTo>
                    <a:pt x="31" y="1"/>
                  </a:lnTo>
                  <a:lnTo>
                    <a:pt x="33" y="0"/>
                  </a:lnTo>
                  <a:lnTo>
                    <a:pt x="35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86960" y="2538720"/>
              <a:ext cx="276840" cy="13896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0" y="16"/>
                  </a:moveTo>
                  <a:lnTo>
                    <a:pt x="3" y="15"/>
                  </a:lnTo>
                  <a:lnTo>
                    <a:pt x="5" y="14"/>
                  </a:lnTo>
                  <a:lnTo>
                    <a:pt x="7" y="13"/>
                  </a:lnTo>
                  <a:lnTo>
                    <a:pt x="9" y="12"/>
                  </a:lnTo>
                  <a:lnTo>
                    <a:pt x="11" y="11"/>
                  </a:lnTo>
                  <a:lnTo>
                    <a:pt x="14" y="10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3" y="7"/>
                  </a:lnTo>
                  <a:lnTo>
                    <a:pt x="25" y="6"/>
                  </a:lnTo>
                  <a:lnTo>
                    <a:pt x="27" y="5"/>
                  </a:lnTo>
                  <a:lnTo>
                    <a:pt x="29" y="4"/>
                  </a:lnTo>
                  <a:lnTo>
                    <a:pt x="31" y="3"/>
                  </a:lnTo>
                  <a:lnTo>
                    <a:pt x="34" y="2"/>
                  </a:lnTo>
                  <a:lnTo>
                    <a:pt x="36" y="1"/>
                  </a:lnTo>
                  <a:lnTo>
                    <a:pt x="38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63800" y="2376720"/>
              <a:ext cx="261360" cy="16200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0" y="19"/>
                  </a:moveTo>
                  <a:lnTo>
                    <a:pt x="2" y="18"/>
                  </a:lnTo>
                  <a:lnTo>
                    <a:pt x="4" y="17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1" y="13"/>
                  </a:lnTo>
                  <a:lnTo>
                    <a:pt x="13" y="12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20" y="9"/>
                  </a:lnTo>
                  <a:lnTo>
                    <a:pt x="22" y="7"/>
                  </a:lnTo>
                  <a:lnTo>
                    <a:pt x="24" y="6"/>
                  </a:lnTo>
                  <a:lnTo>
                    <a:pt x="27" y="5"/>
                  </a:lnTo>
                  <a:lnTo>
                    <a:pt x="29" y="4"/>
                  </a:lnTo>
                  <a:lnTo>
                    <a:pt x="31" y="3"/>
                  </a:lnTo>
                  <a:lnTo>
                    <a:pt x="33" y="1"/>
                  </a:lnTo>
                  <a:lnTo>
                    <a:pt x="36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25160" y="2169720"/>
              <a:ext cx="270000" cy="206640"/>
            </a:xfrm>
            <a:custGeom>
              <a:avLst/>
              <a:gdLst/>
              <a:ahLst/>
              <a:rect l="l" t="t" r="r" b="b"/>
              <a:pathLst>
                <a:path w="37" h="24">
                  <a:moveTo>
                    <a:pt x="0" y="24"/>
                  </a:moveTo>
                  <a:lnTo>
                    <a:pt x="2" y="23"/>
                  </a:lnTo>
                  <a:lnTo>
                    <a:pt x="4" y="21"/>
                  </a:lnTo>
                  <a:lnTo>
                    <a:pt x="6" y="20"/>
                  </a:lnTo>
                  <a:lnTo>
                    <a:pt x="8" y="19"/>
                  </a:lnTo>
                  <a:lnTo>
                    <a:pt x="11" y="17"/>
                  </a:lnTo>
                  <a:lnTo>
                    <a:pt x="13" y="16"/>
                  </a:lnTo>
                  <a:lnTo>
                    <a:pt x="15" y="15"/>
                  </a:lnTo>
                  <a:lnTo>
                    <a:pt x="17" y="13"/>
                  </a:lnTo>
                  <a:lnTo>
                    <a:pt x="19" y="12"/>
                  </a:lnTo>
                  <a:lnTo>
                    <a:pt x="22" y="10"/>
                  </a:lnTo>
                  <a:lnTo>
                    <a:pt x="24" y="9"/>
                  </a:lnTo>
                  <a:lnTo>
                    <a:pt x="26" y="7"/>
                  </a:lnTo>
                  <a:lnTo>
                    <a:pt x="28" y="6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1"/>
                  </a:lnTo>
                  <a:lnTo>
                    <a:pt x="37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895520" y="1919880"/>
              <a:ext cx="261360" cy="24984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0" y="29"/>
                  </a:moveTo>
                  <a:lnTo>
                    <a:pt x="2" y="27"/>
                  </a:lnTo>
                  <a:lnTo>
                    <a:pt x="5" y="25"/>
                  </a:lnTo>
                  <a:lnTo>
                    <a:pt x="7" y="24"/>
                  </a:lnTo>
                  <a:lnTo>
                    <a:pt x="9" y="22"/>
                  </a:lnTo>
                  <a:lnTo>
                    <a:pt x="11" y="20"/>
                  </a:lnTo>
                  <a:lnTo>
                    <a:pt x="13" y="19"/>
                  </a:lnTo>
                  <a:lnTo>
                    <a:pt x="16" y="17"/>
                  </a:lnTo>
                  <a:lnTo>
                    <a:pt x="18" y="15"/>
                  </a:lnTo>
                  <a:lnTo>
                    <a:pt x="20" y="13"/>
                  </a:lnTo>
                  <a:lnTo>
                    <a:pt x="22" y="12"/>
                  </a:lnTo>
                  <a:lnTo>
                    <a:pt x="25" y="10"/>
                  </a:lnTo>
                  <a:lnTo>
                    <a:pt x="27" y="8"/>
                  </a:lnTo>
                  <a:lnTo>
                    <a:pt x="29" y="6"/>
                  </a:lnTo>
                  <a:lnTo>
                    <a:pt x="31" y="4"/>
                  </a:lnTo>
                  <a:lnTo>
                    <a:pt x="33" y="2"/>
                  </a:lnTo>
                  <a:lnTo>
                    <a:pt x="36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91400" y="1558440"/>
              <a:ext cx="537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y = 0,0353e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39320" y="1533960"/>
              <a:ext cx="363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0,0001x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14880" y="17391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87600" y="1714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25400" y="1739160"/>
              <a:ext cx="428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= 0,6548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4680" y="315828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0%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33920" y="232416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15%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33920" y="149040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30%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74760" y="332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23840" y="33217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4.000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66880" y="33217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8.000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882920" y="332172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12.000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624520" y="332172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16.000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789600" y="1994040"/>
            <a:ext cx="3891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67080" y="1917720"/>
            <a:ext cx="47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Uruguay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73640" y="3030480"/>
            <a:ext cx="3272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68080" y="3030480"/>
            <a:ext cx="37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Bolivi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46880" y="1600200"/>
            <a:ext cx="282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68280" y="1587600"/>
            <a:ext cx="28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Chile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97880" y="2581200"/>
            <a:ext cx="4269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196120" y="2300400"/>
            <a:ext cx="54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Argentin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916600" y="2682720"/>
            <a:ext cx="4618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36640" y="264636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Venezuel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67360" y="2535120"/>
            <a:ext cx="2635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71800" y="235584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Perú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20040" y="2851200"/>
            <a:ext cx="42372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167240" y="2819520"/>
            <a:ext cx="532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Colombi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66040" y="2444760"/>
            <a:ext cx="2966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57080" y="23493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Brasil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51400" y="1066680"/>
            <a:ext cx="13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Penetración de Usuarios Internet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73880" y="3475080"/>
            <a:ext cx="1513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PBI (PPP) / persona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40000" y="1008000"/>
            <a:ext cx="3730320" cy="270216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73640" y="1000080"/>
            <a:ext cx="3746520" cy="270180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McK Footnote"/>
          <p:cNvSpPr/>
          <p:nvPr/>
        </p:nvSpPr>
        <p:spPr>
          <a:xfrm>
            <a:off x="1440000" y="6663960"/>
            <a:ext cx="69260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585720" indent="-585720">
              <a:lnSpc>
                <a:spcPct val="95000"/>
              </a:lnSpc>
              <a:tabLst>
                <a:tab algn="l" pos="0"/>
                <a:tab algn="r" pos="49212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1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3399"/>
                </a:solidFill>
                <a:latin typeface="Arial"/>
              </a:rPr>
              <a:t>Datos: Dic 2004 / Fuente: ITU, World Bank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457280" y="4133880"/>
            <a:ext cx="3575160" cy="2379600"/>
            <a:chOff x="1457280" y="4133880"/>
            <a:chExt cx="3575160" cy="2379600"/>
          </a:xfrm>
        </p:grpSpPr>
        <p:sp>
          <p:nvSpPr>
            <p:cNvPr id="215" name=""/>
            <p:cNvSpPr/>
            <p:nvPr/>
          </p:nvSpPr>
          <p:spPr>
            <a:xfrm>
              <a:off x="1457280" y="4133880"/>
              <a:ext cx="3575160" cy="237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20880" y="4321440"/>
              <a:ext cx="2987640" cy="178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20880" y="4321440"/>
              <a:ext cx="1080" cy="178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91000" y="6107760"/>
              <a:ext cx="29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91000" y="5214600"/>
              <a:ext cx="29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91000" y="4321440"/>
              <a:ext cx="29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20880" y="6107760"/>
              <a:ext cx="2987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1820880" y="6107400"/>
              <a:ext cx="108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3215160" y="6107400"/>
              <a:ext cx="108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4609440" y="6107400"/>
              <a:ext cx="108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51160" y="5027400"/>
              <a:ext cx="37080" cy="4680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33880" y="5083560"/>
              <a:ext cx="37080" cy="4680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90160" y="5121720"/>
              <a:ext cx="35640" cy="47160"/>
            </a:xfrm>
            <a:prstGeom prst="ellipse">
              <a:avLst/>
            </a:prstGeom>
            <a:solidFill>
              <a:srgbClr val="ff000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81920" y="4698000"/>
              <a:ext cx="36720" cy="4716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14640" y="5205600"/>
              <a:ext cx="37080" cy="4680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84240" y="5507280"/>
              <a:ext cx="36720" cy="4536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25200" y="5751000"/>
              <a:ext cx="36720" cy="4716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39480" y="5769360"/>
              <a:ext cx="36720" cy="4716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61800" y="5676480"/>
              <a:ext cx="280800" cy="74520"/>
            </a:xfrm>
            <a:custGeom>
              <a:avLst/>
              <a:gdLst/>
              <a:ahLst/>
              <a:rect l="l" t="t" r="r" b="b"/>
              <a:pathLst>
                <a:path w="38" h="8">
                  <a:moveTo>
                    <a:pt x="0" y="8"/>
                  </a:moveTo>
                  <a:lnTo>
                    <a:pt x="2" y="8"/>
                  </a:lnTo>
                  <a:lnTo>
                    <a:pt x="5" y="7"/>
                  </a:lnTo>
                  <a:lnTo>
                    <a:pt x="7" y="7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42960" y="5591160"/>
              <a:ext cx="275040" cy="85320"/>
            </a:xfrm>
            <a:custGeom>
              <a:avLst/>
              <a:gdLst/>
              <a:ahLst/>
              <a:rect l="l" t="t" r="r" b="b"/>
              <a:pathLst>
                <a:path w="37" h="9">
                  <a:moveTo>
                    <a:pt x="0" y="9"/>
                  </a:moveTo>
                  <a:lnTo>
                    <a:pt x="2" y="9"/>
                  </a:lnTo>
                  <a:lnTo>
                    <a:pt x="5" y="8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18000" y="5469120"/>
              <a:ext cx="303840" cy="121680"/>
            </a:xfrm>
            <a:custGeom>
              <a:avLst/>
              <a:gdLst/>
              <a:ahLst/>
              <a:rect l="l" t="t" r="r" b="b"/>
              <a:pathLst>
                <a:path w="41" h="13">
                  <a:moveTo>
                    <a:pt x="0" y="13"/>
                  </a:moveTo>
                  <a:lnTo>
                    <a:pt x="3" y="12"/>
                  </a:lnTo>
                  <a:lnTo>
                    <a:pt x="5" y="11"/>
                  </a:lnTo>
                  <a:lnTo>
                    <a:pt x="8" y="11"/>
                  </a:lnTo>
                  <a:lnTo>
                    <a:pt x="10" y="10"/>
                  </a:lnTo>
                  <a:lnTo>
                    <a:pt x="13" y="9"/>
                  </a:lnTo>
                  <a:lnTo>
                    <a:pt x="15" y="8"/>
                  </a:lnTo>
                  <a:lnTo>
                    <a:pt x="18" y="8"/>
                  </a:lnTo>
                  <a:lnTo>
                    <a:pt x="20" y="7"/>
                  </a:lnTo>
                  <a:lnTo>
                    <a:pt x="23" y="6"/>
                  </a:lnTo>
                  <a:lnTo>
                    <a:pt x="25" y="5"/>
                  </a:lnTo>
                  <a:lnTo>
                    <a:pt x="28" y="5"/>
                  </a:lnTo>
                  <a:lnTo>
                    <a:pt x="30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41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021840" y="5338080"/>
              <a:ext cx="275040" cy="13068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0" y="14"/>
                  </a:moveTo>
                  <a:lnTo>
                    <a:pt x="2" y="14"/>
                  </a:lnTo>
                  <a:lnTo>
                    <a:pt x="5" y="13"/>
                  </a:lnTo>
                  <a:lnTo>
                    <a:pt x="7" y="12"/>
                  </a:lnTo>
                  <a:lnTo>
                    <a:pt x="10" y="11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7"/>
                  </a:lnTo>
                  <a:lnTo>
                    <a:pt x="22" y="6"/>
                  </a:lnTo>
                  <a:lnTo>
                    <a:pt x="25" y="5"/>
                  </a:lnTo>
                  <a:lnTo>
                    <a:pt x="27" y="4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7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96880" y="5168880"/>
              <a:ext cx="296280" cy="168840"/>
            </a:xfrm>
            <a:custGeom>
              <a:avLst/>
              <a:gdLst/>
              <a:ahLst/>
              <a:rect l="l" t="t" r="r" b="b"/>
              <a:pathLst>
                <a:path w="40" h="18">
                  <a:moveTo>
                    <a:pt x="0" y="18"/>
                  </a:moveTo>
                  <a:lnTo>
                    <a:pt x="3" y="17"/>
                  </a:lnTo>
                  <a:lnTo>
                    <a:pt x="5" y="16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3" y="13"/>
                  </a:lnTo>
                  <a:lnTo>
                    <a:pt x="15" y="12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3" y="8"/>
                  </a:lnTo>
                  <a:lnTo>
                    <a:pt x="25" y="7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4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93520" y="4970520"/>
              <a:ext cx="280800" cy="19836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0" y="21"/>
                  </a:moveTo>
                  <a:lnTo>
                    <a:pt x="3" y="20"/>
                  </a:lnTo>
                  <a:lnTo>
                    <a:pt x="6" y="18"/>
                  </a:lnTo>
                  <a:lnTo>
                    <a:pt x="8" y="17"/>
                  </a:lnTo>
                  <a:lnTo>
                    <a:pt x="11" y="16"/>
                  </a:lnTo>
                  <a:lnTo>
                    <a:pt x="13" y="14"/>
                  </a:lnTo>
                  <a:lnTo>
                    <a:pt x="16" y="13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3" y="9"/>
                  </a:lnTo>
                  <a:lnTo>
                    <a:pt x="26" y="7"/>
                  </a:lnTo>
                  <a:lnTo>
                    <a:pt x="28" y="6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6" y="1"/>
                  </a:lnTo>
                  <a:lnTo>
                    <a:pt x="38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74680" y="4735800"/>
              <a:ext cx="281880" cy="234360"/>
            </a:xfrm>
            <a:custGeom>
              <a:avLst/>
              <a:gdLst/>
              <a:ahLst/>
              <a:rect l="l" t="t" r="r" b="b"/>
              <a:pathLst>
                <a:path w="38" h="25">
                  <a:moveTo>
                    <a:pt x="0" y="25"/>
                  </a:moveTo>
                  <a:lnTo>
                    <a:pt x="3" y="23"/>
                  </a:lnTo>
                  <a:lnTo>
                    <a:pt x="5" y="22"/>
                  </a:lnTo>
                  <a:lnTo>
                    <a:pt x="8" y="20"/>
                  </a:lnTo>
                  <a:lnTo>
                    <a:pt x="10" y="19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8" y="14"/>
                  </a:lnTo>
                  <a:lnTo>
                    <a:pt x="20" y="12"/>
                  </a:lnTo>
                  <a:lnTo>
                    <a:pt x="23" y="10"/>
                  </a:lnTo>
                  <a:lnTo>
                    <a:pt x="25" y="9"/>
                  </a:lnTo>
                  <a:lnTo>
                    <a:pt x="28" y="7"/>
                  </a:lnTo>
                  <a:lnTo>
                    <a:pt x="30" y="5"/>
                  </a:lnTo>
                  <a:lnTo>
                    <a:pt x="33" y="3"/>
                  </a:lnTo>
                  <a:lnTo>
                    <a:pt x="35" y="1"/>
                  </a:lnTo>
                  <a:lnTo>
                    <a:pt x="38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03560" y="4273920"/>
              <a:ext cx="605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y = 0,0551e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59760" y="4246560"/>
              <a:ext cx="41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0,0001x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31000" y="44722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05880" y="4443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440800" y="4472280"/>
              <a:ext cx="483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= 0,6416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603800" y="6034680"/>
              <a:ext cx="16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0%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553040" y="514008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20%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553040" y="424656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40%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701720" y="621144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1.000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93840" y="621144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8.000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65080" y="6211440"/>
              <a:ext cx="35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15.000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621240" y="4491000"/>
            <a:ext cx="46188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04600" y="4510080"/>
            <a:ext cx="47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Uruguay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31840" y="5707080"/>
            <a:ext cx="3906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975680" y="5846760"/>
            <a:ext cx="37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Bolivi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54640" y="5072040"/>
            <a:ext cx="3301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91520" y="5205240"/>
            <a:ext cx="28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Chile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917960" y="4821120"/>
            <a:ext cx="5018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71680" y="4916520"/>
            <a:ext cx="54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Argentin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03520" y="5335560"/>
            <a:ext cx="5414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64760" y="53006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Venezuel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98880" y="5653080"/>
            <a:ext cx="3110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747520" y="580248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Perú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65320" y="5032440"/>
            <a:ext cx="49716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71400" y="5051520"/>
            <a:ext cx="532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Colombi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09920" y="4821120"/>
            <a:ext cx="34920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318480" y="48798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Brasil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6324480"/>
            <a:ext cx="151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PBI (PPP) / persona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508040" y="3835440"/>
            <a:ext cx="1330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Penetración de Líneas Fijas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47920" y="3809880"/>
            <a:ext cx="3722400" cy="270216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75440" y="3809880"/>
            <a:ext cx="3744720" cy="270216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648560" y="5286240"/>
            <a:ext cx="49356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92920" y="5297400"/>
            <a:ext cx="57312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753240" y="6040440"/>
            <a:ext cx="5731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296120" y="5603760"/>
            <a:ext cx="57312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075440" y="5791320"/>
            <a:ext cx="57312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750080" y="4532400"/>
            <a:ext cx="65412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70440" y="4327560"/>
            <a:ext cx="1800" cy="178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70440" y="583740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70440" y="556560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70440" y="528948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70440" y="501336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70440" y="474336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70440" y="446724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70440" y="6095880"/>
            <a:ext cx="2965680" cy="1800"/>
          </a:xfrm>
          <a:prstGeom prst="line">
            <a:avLst/>
          </a:prstGeom>
          <a:ln cap="rnd" w="1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6827760" y="6081840"/>
            <a:ext cx="1800" cy="31680"/>
          </a:xfrm>
          <a:prstGeom prst="line">
            <a:avLst/>
          </a:prstGeom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889760" y="6081840"/>
            <a:ext cx="1800" cy="31680"/>
          </a:xfrm>
          <a:prstGeom prst="line">
            <a:avLst/>
          </a:prstGeom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85040" y="5597640"/>
            <a:ext cx="41400" cy="349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896240" y="4583160"/>
            <a:ext cx="41400" cy="3636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167600" y="5735520"/>
            <a:ext cx="41400" cy="349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737480" y="5326200"/>
            <a:ext cx="41400" cy="3492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80320" y="5986440"/>
            <a:ext cx="41040" cy="349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651720" y="5376960"/>
            <a:ext cx="39600" cy="349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6675480" y="5709960"/>
            <a:ext cx="245880" cy="166680"/>
          </a:xfrm>
          <a:prstGeom prst="line">
            <a:avLst/>
          </a:prstGeom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921360" y="5544720"/>
            <a:ext cx="252720" cy="165240"/>
          </a:xfrm>
          <a:prstGeom prst="line">
            <a:avLst/>
          </a:prstGeom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7174080" y="5381640"/>
            <a:ext cx="245880" cy="163440"/>
          </a:xfrm>
          <a:prstGeom prst="line">
            <a:avLst/>
          </a:prstGeom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7419960" y="5213160"/>
            <a:ext cx="252360" cy="168120"/>
          </a:xfrm>
          <a:prstGeom prst="line">
            <a:avLst/>
          </a:prstGeom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7672320" y="5049360"/>
            <a:ext cx="247680" cy="163800"/>
          </a:xfrm>
          <a:prstGeom prst="line">
            <a:avLst/>
          </a:prstGeom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983200" y="4410000"/>
            <a:ext cx="1047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y = 0.00005x - 0.18223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230520" y="455292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311880" y="45324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52560" y="4552920"/>
            <a:ext cx="48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= 0.44353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517720" y="605628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0%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454720" y="578016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10%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454720" y="551016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20%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454720" y="523404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30%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454720" y="495612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40%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54720" y="468648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50%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454720" y="441000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60%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631840" y="620064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1,000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687360" y="620064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6,000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714800" y="6200640"/>
            <a:ext cx="311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11,000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48560" y="5286240"/>
            <a:ext cx="49356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821720" y="5257800"/>
            <a:ext cx="232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Chile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88680" y="5243400"/>
            <a:ext cx="482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Venezuela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943680" y="5972040"/>
            <a:ext cx="430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Colombia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296120" y="5603760"/>
            <a:ext cx="57312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485120" y="5562720"/>
            <a:ext cx="32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México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288560" y="5715000"/>
            <a:ext cx="256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Brasil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750080" y="4532400"/>
            <a:ext cx="65412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001720" y="4538520"/>
            <a:ext cx="436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Argentina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34120" y="3832200"/>
            <a:ext cx="113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Penetración de Televisión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684920" y="6319800"/>
            <a:ext cx="1284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PBI (PPP) / persona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523280" y="3859200"/>
            <a:ext cx="1406520" cy="2127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AR" sz="1400" spc="-1" strike="noStrike">
                <a:solidFill>
                  <a:srgbClr val="003399"/>
                </a:solidFill>
                <a:latin typeface="TheSansCorrespondence"/>
              </a:rPr>
              <a:t>2003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25600" y="101520"/>
            <a:ext cx="750240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heSansCorrespondence"/>
              </a:rPr>
              <a:t>En el país continúa el desplazamiento  de la voz hacia la telefonía móvil</a:t>
            </a:r>
            <a:endParaRPr b="1" lang="en-US" sz="2400" spc="-1" strike="noStrike">
              <a:solidFill>
                <a:srgbClr val="003399"/>
              </a:solidFill>
              <a:latin typeface="TheSansCorrespondence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2717640" y="3129120"/>
          <a:ext cx="355608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7640" y="3129120"/>
                    <a:ext cx="355608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7" name=""/>
          <p:cNvGrpSpPr/>
          <p:nvPr/>
        </p:nvGrpSpPr>
        <p:grpSpPr>
          <a:xfrm>
            <a:off x="1425600" y="1508040"/>
            <a:ext cx="896760" cy="1279080"/>
            <a:chOff x="1425600" y="1508040"/>
            <a:chExt cx="896760" cy="1279080"/>
          </a:xfrm>
        </p:grpSpPr>
        <p:sp>
          <p:nvSpPr>
            <p:cNvPr id="328" name=""/>
            <p:cNvSpPr/>
            <p:nvPr/>
          </p:nvSpPr>
          <p:spPr>
            <a:xfrm>
              <a:off x="1425600" y="1508040"/>
              <a:ext cx="896760" cy="1279080"/>
            </a:xfrm>
            <a:custGeom>
              <a:avLst/>
              <a:gdLst/>
              <a:ahLst/>
              <a:rect l="l" t="t" r="r" b="b"/>
              <a:pathLst>
                <a:path w="1068" h="594">
                  <a:moveTo>
                    <a:pt x="0" y="0"/>
                  </a:moveTo>
                  <a:lnTo>
                    <a:pt x="961" y="0"/>
                  </a:lnTo>
                  <a:lnTo>
                    <a:pt x="1068" y="298"/>
                  </a:lnTo>
                  <a:lnTo>
                    <a:pt x="961" y="594"/>
                  </a:lnTo>
                  <a:lnTo>
                    <a:pt x="0" y="594"/>
                  </a:lnTo>
                  <a:lnTo>
                    <a:pt x="0" y="2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0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9680" rIns="49680" tIns="0" bIns="0" anchor="ctr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452240" y="1578600"/>
              <a:ext cx="780120" cy="1100880"/>
            </a:xfrm>
            <a:prstGeom prst="rect">
              <a:avLst/>
            </a:prstGeom>
            <a:solidFill>
              <a:srgbClr val="d0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040" rIns="5004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buClr>
                  <a:srgbClr val="d0f500"/>
                </a:buClr>
                <a:buSzPct val="80000"/>
                <a:buFont typeface="Wingdings" charset="2"/>
                <a:buChar char=""/>
                <a:tabLst>
                  <a:tab algn="l" pos="1003320"/>
                  <a:tab algn="l" pos="2006640"/>
                  <a:tab algn="l" pos="3009960"/>
                  <a:tab algn="l" pos="4013280"/>
                  <a:tab algn="l" pos="5016600"/>
                  <a:tab algn="l" pos="6019920"/>
                  <a:tab algn="l" pos="7023240"/>
                  <a:tab algn="l" pos="8026560"/>
                  <a:tab algn="l" pos="9029880"/>
                  <a:tab algn="l" pos="1003284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1365120" y="1943280"/>
            <a:ext cx="1397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95040">
              <a:lnSpc>
                <a:spcPct val="9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Origen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190440" indent="-95040">
              <a:lnSpc>
                <a:spcPct val="9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fijo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2717640" y="1566720"/>
          <a:ext cx="330228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7640" y="1566720"/>
                    <a:ext cx="3302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 rot="5400000">
            <a:off x="6213240" y="2215800"/>
            <a:ext cx="1071720" cy="128880"/>
          </a:xfrm>
          <a:prstGeom prst="triangle">
            <a:avLst>
              <a:gd name="adj" fmla="val 50000"/>
            </a:avLst>
          </a:prstGeom>
          <a:solidFill>
            <a:srgbClr val="d0f500"/>
          </a:solidFill>
          <a:ln w="0">
            <a:noFill/>
          </a:ln>
          <a:effectLst>
            <a:outerShdw dist="17819" dir="2700000" blurRad="0" rotWithShape="0">
              <a:srgbClr val="7c9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 anchorCtr="1" rot="10800000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427040" y="2992320"/>
            <a:ext cx="858960" cy="1336320"/>
            <a:chOff x="1427040" y="2992320"/>
            <a:chExt cx="858960" cy="1336320"/>
          </a:xfrm>
        </p:grpSpPr>
        <p:sp>
          <p:nvSpPr>
            <p:cNvPr id="335" name=""/>
            <p:cNvSpPr/>
            <p:nvPr/>
          </p:nvSpPr>
          <p:spPr>
            <a:xfrm>
              <a:off x="1427040" y="2992320"/>
              <a:ext cx="858960" cy="1336320"/>
            </a:xfrm>
            <a:custGeom>
              <a:avLst/>
              <a:gdLst/>
              <a:ahLst/>
              <a:rect l="l" t="t" r="r" b="b"/>
              <a:pathLst>
                <a:path w="1068" h="594">
                  <a:moveTo>
                    <a:pt x="0" y="0"/>
                  </a:moveTo>
                  <a:lnTo>
                    <a:pt x="961" y="0"/>
                  </a:lnTo>
                  <a:lnTo>
                    <a:pt x="1068" y="298"/>
                  </a:lnTo>
                  <a:lnTo>
                    <a:pt x="961" y="594"/>
                  </a:lnTo>
                  <a:lnTo>
                    <a:pt x="0" y="594"/>
                  </a:lnTo>
                  <a:lnTo>
                    <a:pt x="0" y="2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0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9680" rIns="49680" tIns="0" bIns="0" anchor="ctr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52600" y="3066120"/>
              <a:ext cx="747000" cy="1150200"/>
            </a:xfrm>
            <a:prstGeom prst="rect">
              <a:avLst/>
            </a:prstGeom>
            <a:solidFill>
              <a:srgbClr val="d0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040" rIns="5004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d0f500"/>
                </a:buClr>
                <a:buSzPct val="80000"/>
                <a:buFont typeface="Wingdings" charset="2"/>
                <a:buChar char=""/>
                <a:tabLst>
                  <a:tab algn="l" pos="1003320"/>
                  <a:tab algn="l" pos="2006640"/>
                  <a:tab algn="l" pos="3009960"/>
                  <a:tab algn="l" pos="4013280"/>
                  <a:tab algn="l" pos="5016600"/>
                  <a:tab algn="l" pos="6019920"/>
                  <a:tab algn="l" pos="7023240"/>
                  <a:tab algn="l" pos="8026560"/>
                  <a:tab algn="l" pos="9029880"/>
                  <a:tab algn="l" pos="1003284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1397160" y="3422520"/>
            <a:ext cx="888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95040">
              <a:lnSpc>
                <a:spcPct val="9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Origen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190440" indent="-95040">
              <a:lnSpc>
                <a:spcPct val="9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Móvil</a:t>
            </a:r>
            <a:r>
              <a:rPr b="1" lang="es-ES_tradnl" sz="1200" spc="-1" strike="noStrike" baseline="30000">
                <a:solidFill>
                  <a:srgbClr val="000099"/>
                </a:solidFill>
                <a:latin typeface="TheSansCorrespondence"/>
              </a:rPr>
              <a:t>1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275200" y="1989000"/>
            <a:ext cx="780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3399"/>
                </a:solidFill>
                <a:latin typeface="TheSansCorrespondence"/>
              </a:rPr>
              <a:t>Fijo Móvi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303280" y="2370240"/>
            <a:ext cx="643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3399"/>
                </a:solidFill>
                <a:latin typeface="TheSansCorrespondence"/>
              </a:rPr>
              <a:t>Fijo Fijo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060720" y="3514680"/>
            <a:ext cx="56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3,4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073400" y="326880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6,9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273400" y="1676520"/>
            <a:ext cx="58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3399"/>
                </a:solidFill>
                <a:latin typeface="TheSansCorrespondence"/>
              </a:rPr>
              <a:t>Fijo LD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278080" y="3860640"/>
            <a:ext cx="620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3399"/>
                </a:solidFill>
                <a:latin typeface="TheSansCorrespondence"/>
              </a:rPr>
              <a:t>Off Net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282760" y="4037040"/>
            <a:ext cx="60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3399"/>
                </a:solidFill>
                <a:latin typeface="TheSansCorrespondence"/>
              </a:rPr>
              <a:t>On Net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277000" y="3662280"/>
            <a:ext cx="780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3399"/>
                </a:solidFill>
                <a:latin typeface="TheSansCorrespondence"/>
              </a:rPr>
              <a:t>Móvil Fijo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1433520" y="4819680"/>
            <a:ext cx="858960" cy="1310760"/>
            <a:chOff x="1433520" y="4819680"/>
            <a:chExt cx="858960" cy="1310760"/>
          </a:xfrm>
        </p:grpSpPr>
        <p:sp>
          <p:nvSpPr>
            <p:cNvPr id="347" name=""/>
            <p:cNvSpPr/>
            <p:nvPr/>
          </p:nvSpPr>
          <p:spPr>
            <a:xfrm>
              <a:off x="1433520" y="4819680"/>
              <a:ext cx="858960" cy="1310760"/>
            </a:xfrm>
            <a:custGeom>
              <a:avLst/>
              <a:gdLst/>
              <a:ahLst/>
              <a:rect l="l" t="t" r="r" b="b"/>
              <a:pathLst>
                <a:path w="1068" h="594">
                  <a:moveTo>
                    <a:pt x="0" y="0"/>
                  </a:moveTo>
                  <a:lnTo>
                    <a:pt x="961" y="0"/>
                  </a:lnTo>
                  <a:lnTo>
                    <a:pt x="1068" y="298"/>
                  </a:lnTo>
                  <a:lnTo>
                    <a:pt x="961" y="594"/>
                  </a:lnTo>
                  <a:lnTo>
                    <a:pt x="0" y="594"/>
                  </a:lnTo>
                  <a:lnTo>
                    <a:pt x="0" y="2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0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9680" rIns="49680" tIns="0" bIns="0" anchor="ctr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459080" y="4892040"/>
              <a:ext cx="747000" cy="1128240"/>
            </a:xfrm>
            <a:prstGeom prst="rect">
              <a:avLst/>
            </a:prstGeom>
            <a:solidFill>
              <a:srgbClr val="d0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040" rIns="5004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d0f500"/>
                </a:buClr>
                <a:buSzPct val="80000"/>
                <a:buFont typeface="Wingdings" charset="2"/>
                <a:buChar char=""/>
                <a:tabLst>
                  <a:tab algn="l" pos="1003320"/>
                  <a:tab algn="l" pos="2006640"/>
                  <a:tab algn="l" pos="3009960"/>
                  <a:tab algn="l" pos="4013280"/>
                  <a:tab algn="l" pos="5016600"/>
                  <a:tab algn="l" pos="6019920"/>
                  <a:tab algn="l" pos="7023240"/>
                  <a:tab algn="l" pos="8026560"/>
                  <a:tab algn="l" pos="9029880"/>
                  <a:tab algn="l" pos="1003284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411200" y="4951440"/>
            <a:ext cx="874800" cy="9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95040">
              <a:lnSpc>
                <a:spcPct val="9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Total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190440" indent="-95040">
              <a:lnSpc>
                <a:spcPct val="9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Voz por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190440" indent="-95040">
              <a:lnSpc>
                <a:spcPct val="9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Red de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190440" indent="-95040">
              <a:lnSpc>
                <a:spcPct val="9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Origen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2732040" y="4843440"/>
          <a:ext cx="3579840" cy="108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32040" y="4843440"/>
                    <a:ext cx="3579840" cy="10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"/>
          <p:cNvSpPr/>
          <p:nvPr/>
        </p:nvSpPr>
        <p:spPr>
          <a:xfrm>
            <a:off x="2293920" y="5613480"/>
            <a:ext cx="39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3399"/>
                </a:solidFill>
                <a:latin typeface="TheSansCorrespondence"/>
              </a:rPr>
              <a:t>Fijo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278800" y="5064120"/>
            <a:ext cx="48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3399"/>
                </a:solidFill>
                <a:latin typeface="TheSansCorrespondence"/>
              </a:rPr>
              <a:t>Móvi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010280" y="1731960"/>
            <a:ext cx="22100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132120" indent="-132120">
              <a:lnSpc>
                <a:spcPct val="95000"/>
              </a:lnSpc>
              <a:spcBef>
                <a:spcPts val="788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6"/>
                </a:solidFill>
                <a:latin typeface="TheSansCorrespondence"/>
              </a:rPr>
              <a:t>Reducción de tráfico origen fijo, acelerado por agresividad móvil por proyectos convergencias.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275840" y="990720"/>
            <a:ext cx="228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6"/>
                </a:solidFill>
                <a:latin typeface="TheSansCorrespondence"/>
              </a:rPr>
              <a:t>Tráfico según red de origen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6"/>
                </a:solidFill>
                <a:latin typeface="TheSansCorrespondence"/>
              </a:rPr>
              <a:t>miles de millones de minutos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133960" y="313524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7,4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995560" y="1484280"/>
            <a:ext cx="56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19,1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006800" y="161928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15,8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103720" y="166680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15,0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155040" y="270036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2001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221720" y="270036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2004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296320" y="270036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200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182040" y="596592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2001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255200" y="596592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2004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348880" y="596592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200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312880" y="392256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heSansCorrespondence"/>
              </a:rPr>
              <a:t>52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242960" y="395928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heSansCorrespondence"/>
              </a:rPr>
              <a:t>48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71880" y="476424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22,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125960" y="472752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22,7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187960" y="473544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22,4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61480" y="54864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67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264560" y="54864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70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221640" y="54100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85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252240" y="505944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heSansCorrespondence"/>
              </a:rPr>
              <a:t>15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242960" y="509760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heSansCorrespondence"/>
              </a:rPr>
              <a:t>30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328720" y="507204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heSansCorrespondence"/>
              </a:rPr>
              <a:t>33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010280" y="3063960"/>
            <a:ext cx="210348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55520" indent="-155520">
              <a:lnSpc>
                <a:spcPct val="95000"/>
              </a:lnSpc>
              <a:spcBef>
                <a:spcPts val="788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6"/>
                </a:solidFill>
                <a:latin typeface="TheSansCorrespondence"/>
              </a:rPr>
              <a:t>Crecimiento de tráfico móvil por incremento de abonados y llamadas entre móviles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rot="5400000">
            <a:off x="6213240" y="3676320"/>
            <a:ext cx="1071720" cy="128880"/>
          </a:xfrm>
          <a:prstGeom prst="triangle">
            <a:avLst>
              <a:gd name="adj" fmla="val 50000"/>
            </a:avLst>
          </a:prstGeom>
          <a:solidFill>
            <a:srgbClr val="d0f500"/>
          </a:solidFill>
          <a:ln w="0">
            <a:noFill/>
          </a:ln>
          <a:effectLst>
            <a:outerShdw dist="17819" dir="2700000" blurRad="0" rotWithShape="0">
              <a:srgbClr val="7c9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 anchorCtr="1" rot="10800000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rot="5400000">
            <a:off x="6213240" y="5276520"/>
            <a:ext cx="1071720" cy="128880"/>
          </a:xfrm>
          <a:prstGeom prst="triangle">
            <a:avLst>
              <a:gd name="adj" fmla="val 50000"/>
            </a:avLst>
          </a:prstGeom>
          <a:solidFill>
            <a:srgbClr val="d0f500"/>
          </a:solidFill>
          <a:ln w="0">
            <a:noFill/>
          </a:ln>
          <a:effectLst>
            <a:outerShdw dist="17819" dir="2700000" blurRad="0" rotWithShape="0">
              <a:srgbClr val="7c9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 anchorCtr="1" rot="10800000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010280" y="4965840"/>
            <a:ext cx="189072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55520" indent="-155520">
              <a:lnSpc>
                <a:spcPct val="95000"/>
              </a:lnSpc>
              <a:spcBef>
                <a:spcPts val="788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6"/>
                </a:solidFill>
                <a:latin typeface="TheSansCorrespondence"/>
              </a:rPr>
              <a:t>El tráfico total de voz no se ha incrementado.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194640" y="42400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2001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248720" y="42400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2004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304600" y="42400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200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087960" y="1755720"/>
            <a:ext cx="419040" cy="25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  </a:t>
            </a: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-6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100920" y="4778280"/>
            <a:ext cx="419040" cy="25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 </a:t>
            </a: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0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00920" y="3076560"/>
            <a:ext cx="419040" cy="25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22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054840" y="1190520"/>
            <a:ext cx="512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CAGR </a:t>
            </a:r>
            <a:br>
              <a:rPr sz="1200"/>
            </a:b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01-0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940360" y="1619280"/>
            <a:ext cx="603360" cy="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3784680" y="2519280"/>
            <a:ext cx="139680" cy="177840"/>
            <a:chOff x="3784680" y="2519280"/>
            <a:chExt cx="139680" cy="177840"/>
          </a:xfrm>
        </p:grpSpPr>
        <p:sp>
          <p:nvSpPr>
            <p:cNvPr id="390" name=""/>
            <p:cNvSpPr/>
            <p:nvPr/>
          </p:nvSpPr>
          <p:spPr>
            <a:xfrm flipH="1">
              <a:off x="3784680" y="251928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3861000" y="251928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822840" y="4068720"/>
            <a:ext cx="139680" cy="177840"/>
            <a:chOff x="3822840" y="4068720"/>
            <a:chExt cx="139680" cy="177840"/>
          </a:xfrm>
        </p:grpSpPr>
        <p:sp>
          <p:nvSpPr>
            <p:cNvPr id="393" name=""/>
            <p:cNvSpPr/>
            <p:nvPr/>
          </p:nvSpPr>
          <p:spPr>
            <a:xfrm flipH="1">
              <a:off x="3822840" y="406872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3899160" y="406872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4896000" y="4068720"/>
            <a:ext cx="139680" cy="177840"/>
            <a:chOff x="4896000" y="4068720"/>
            <a:chExt cx="139680" cy="177840"/>
          </a:xfrm>
        </p:grpSpPr>
        <p:sp>
          <p:nvSpPr>
            <p:cNvPr id="396" name=""/>
            <p:cNvSpPr/>
            <p:nvPr/>
          </p:nvSpPr>
          <p:spPr>
            <a:xfrm flipH="1">
              <a:off x="4896000" y="406872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4972320" y="406872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3822840" y="5783400"/>
            <a:ext cx="139680" cy="177840"/>
            <a:chOff x="3822840" y="5783400"/>
            <a:chExt cx="139680" cy="177840"/>
          </a:xfrm>
        </p:grpSpPr>
        <p:sp>
          <p:nvSpPr>
            <p:cNvPr id="399" name=""/>
            <p:cNvSpPr/>
            <p:nvPr/>
          </p:nvSpPr>
          <p:spPr>
            <a:xfrm flipH="1">
              <a:off x="3822840" y="578340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3899160" y="578340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4883040" y="5757840"/>
            <a:ext cx="139680" cy="177840"/>
            <a:chOff x="4883040" y="5757840"/>
            <a:chExt cx="139680" cy="177840"/>
          </a:xfrm>
        </p:grpSpPr>
        <p:sp>
          <p:nvSpPr>
            <p:cNvPr id="402" name=""/>
            <p:cNvSpPr/>
            <p:nvPr/>
          </p:nvSpPr>
          <p:spPr>
            <a:xfrm flipH="1">
              <a:off x="4883040" y="575784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4959360" y="575784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4214160" y="224640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heSansCorrespondence"/>
              </a:rPr>
              <a:t>78</a:t>
            </a:r>
            <a:r>
              <a:rPr b="0" lang="es-ES" sz="1200" spc="-1" strike="noStrike">
                <a:solidFill>
                  <a:srgbClr val="ffffff"/>
                </a:solidFill>
                <a:latin typeface="TheSansCorrespondence"/>
              </a:rPr>
              <a:t>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153960" y="224640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heSansCorrespondence"/>
              </a:rPr>
              <a:t>78</a:t>
            </a:r>
            <a:r>
              <a:rPr b="0" lang="es-ES" sz="1200" spc="-1" strike="noStrike">
                <a:solidFill>
                  <a:srgbClr val="ffffff"/>
                </a:solidFill>
                <a:latin typeface="TheSansCorrespondence"/>
              </a:rPr>
              <a:t>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268240" y="224640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heSansCorrespondence"/>
              </a:rPr>
              <a:t>77</a:t>
            </a:r>
            <a:r>
              <a:rPr b="0" lang="es-ES" sz="1200" spc="-1" strike="noStrike">
                <a:solidFill>
                  <a:srgbClr val="ffffff"/>
                </a:solidFill>
                <a:latin typeface="TheSansCorrespondence"/>
              </a:rPr>
              <a:t>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7" name="McK Footnote"/>
          <p:cNvSpPr/>
          <p:nvPr/>
        </p:nvSpPr>
        <p:spPr>
          <a:xfrm>
            <a:off x="1106640" y="6563160"/>
            <a:ext cx="66610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571680" indent="-196920">
              <a:lnSpc>
                <a:spcPct val="95000"/>
              </a:lnSpc>
              <a:tabLst>
                <a:tab algn="l" pos="0"/>
                <a:tab algn="r" pos="5446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800" spc="-1" strike="noStrike">
                <a:solidFill>
                  <a:srgbClr val="000096"/>
                </a:solidFill>
                <a:latin typeface="TheSansCorrespondence"/>
              </a:rPr>
              <a:t>Fuente: Estimaciones de TCTC adaptadas de cifras de Subtel, Tráfico de interconexiones de TCTC y estimaciones de otras redes.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 marL="571680" indent="-196920">
              <a:lnSpc>
                <a:spcPct val="95000"/>
              </a:lnSpc>
              <a:tabLst>
                <a:tab algn="l" pos="0"/>
                <a:tab algn="r" pos="5446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800" spc="-1" strike="noStrike">
                <a:solidFill>
                  <a:srgbClr val="000096"/>
                </a:solidFill>
                <a:latin typeface="TheSansCorrespondence"/>
              </a:rPr>
              <a:t>(1) Estimaciones de TCTC, pendientes de validación con Movistar.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4826160" y="2500200"/>
            <a:ext cx="139680" cy="177840"/>
            <a:chOff x="4826160" y="2500200"/>
            <a:chExt cx="139680" cy="177840"/>
          </a:xfrm>
        </p:grpSpPr>
        <p:sp>
          <p:nvSpPr>
            <p:cNvPr id="409" name=""/>
            <p:cNvSpPr/>
            <p:nvPr/>
          </p:nvSpPr>
          <p:spPr>
            <a:xfrm flipH="1">
              <a:off x="4826160" y="250020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4902480" y="250020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062160" y="1098720"/>
            <a:ext cx="2059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924440" y="1227240"/>
            <a:ext cx="1581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3399"/>
                </a:solidFill>
                <a:latin typeface="TheSansCorrespondence"/>
              </a:rPr>
              <a:t>Acceso a Internet en el hogar</a:t>
            </a:r>
            <a:r>
              <a:rPr b="0" lang="es-ES_tradnl" sz="1300" spc="-1" strike="noStrike" baseline="30000">
                <a:solidFill>
                  <a:srgbClr val="003399"/>
                </a:solidFill>
                <a:latin typeface="TheSansCorrespondence"/>
              </a:rPr>
              <a:t>2</a:t>
            </a:r>
            <a:endParaRPr b="0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335480" y="1236600"/>
            <a:ext cx="7650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3399"/>
                </a:solidFill>
                <a:latin typeface="TheSansCorrespondence"/>
              </a:rPr>
              <a:t>Línea  Fija</a:t>
            </a:r>
            <a:endParaRPr b="0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763720" y="2612880"/>
            <a:ext cx="709560" cy="690840"/>
          </a:xfrm>
          <a:custGeom>
            <a:avLst/>
            <a:gdLst>
              <a:gd name="textAreaLeft" fmla="*/ 0 w 709560"/>
              <a:gd name="textAreaRight" fmla="*/ 709920 w 709560"/>
              <a:gd name="textAreaTop" fmla="*/ 0 h 690840"/>
              <a:gd name="textAreaBottom" fmla="*/ 691200 h 69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0" y="0"/>
                </a:lnTo>
                <a:lnTo>
                  <a:pt x="21600" y="10800"/>
                </a:lnTo>
                <a:lnTo>
                  <a:pt x="190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C2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763720" y="3344760"/>
            <a:ext cx="709560" cy="693720"/>
          </a:xfrm>
          <a:custGeom>
            <a:avLst/>
            <a:gdLst>
              <a:gd name="textAreaLeft" fmla="*/ 0 w 709560"/>
              <a:gd name="textAreaRight" fmla="*/ 709920 w 709560"/>
              <a:gd name="textAreaTop" fmla="*/ 0 h 693720"/>
              <a:gd name="textAreaBottom" fmla="*/ 694080 h 69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0" y="0"/>
                </a:lnTo>
                <a:lnTo>
                  <a:pt x="21600" y="10800"/>
                </a:lnTo>
                <a:lnTo>
                  <a:pt x="190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C3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763720" y="4079880"/>
            <a:ext cx="709560" cy="668160"/>
          </a:xfrm>
          <a:custGeom>
            <a:avLst/>
            <a:gdLst>
              <a:gd name="textAreaLeft" fmla="*/ 0 w 709560"/>
              <a:gd name="textAreaRight" fmla="*/ 709920 w 709560"/>
              <a:gd name="textAreaTop" fmla="*/ 0 h 668160"/>
              <a:gd name="textAreaBottom" fmla="*/ 668520 h 66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0" y="0"/>
                </a:lnTo>
                <a:lnTo>
                  <a:pt x="21600" y="10800"/>
                </a:lnTo>
                <a:lnTo>
                  <a:pt x="190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D y E</a:t>
            </a:r>
            <a:r>
              <a:rPr b="1" lang="es-ES_tradnl" sz="1200" spc="-1" strike="noStrike" baseline="30000">
                <a:solidFill>
                  <a:srgbClr val="000099"/>
                </a:solidFill>
                <a:latin typeface="TheSansCorrespondence"/>
              </a:rPr>
              <a:t>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324080" y="1123920"/>
            <a:ext cx="9396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96"/>
                </a:solidFill>
                <a:latin typeface="TheSansCorrespondence"/>
              </a:rPr>
              <a:t>Ingresos hogar</a:t>
            </a:r>
            <a:r>
              <a:rPr b="0" lang="es-ES_tradnl" sz="1300" spc="-1" strike="noStrike" baseline="30000">
                <a:solidFill>
                  <a:srgbClr val="000096"/>
                </a:solidFill>
                <a:latin typeface="TheSansCorrespondence"/>
              </a:rPr>
              <a:t>1</a:t>
            </a:r>
            <a:endParaRPr b="0" lang="en-US" sz="13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96"/>
                </a:solidFill>
                <a:latin typeface="TheSansCorrespondence"/>
              </a:rPr>
              <a:t>US$ mes</a:t>
            </a:r>
            <a:endParaRPr b="0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355760" y="1766880"/>
            <a:ext cx="1208160" cy="46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060640" y="1301760"/>
            <a:ext cx="102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96"/>
                </a:solidFill>
                <a:latin typeface="TheSansCorrespondence"/>
              </a:rPr>
              <a:t>Hogares</a:t>
            </a:r>
            <a:endParaRPr b="0" lang="en-US" sz="13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96"/>
                </a:solidFill>
                <a:latin typeface="TheSansCorrespondence"/>
              </a:rPr>
              <a:t>Miles</a:t>
            </a:r>
            <a:r>
              <a:rPr b="0" lang="es-ES_tradnl" sz="1300" spc="-1" strike="noStrike" baseline="30000">
                <a:solidFill>
                  <a:srgbClr val="000096"/>
                </a:solidFill>
                <a:latin typeface="TheSansCorrespondence"/>
              </a:rPr>
              <a:t>4</a:t>
            </a:r>
            <a:endParaRPr b="0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429080" y="3490920"/>
            <a:ext cx="581040" cy="38412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386240" y="3530520"/>
            <a:ext cx="7779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73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419800" y="3490920"/>
            <a:ext cx="581040" cy="384120"/>
          </a:xfrm>
          <a:prstGeom prst="ellipse">
            <a:avLst/>
          </a:pr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45280" y="3549600"/>
            <a:ext cx="7776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21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429080" y="4260960"/>
            <a:ext cx="581040" cy="384120"/>
          </a:xfrm>
          <a:prstGeom prst="ellipse">
            <a:avLst/>
          </a:pr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371840" y="4300560"/>
            <a:ext cx="777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38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773440" y="4797360"/>
            <a:ext cx="709560" cy="536760"/>
          </a:xfrm>
          <a:custGeom>
            <a:avLst/>
            <a:gdLst>
              <a:gd name="textAreaLeft" fmla="*/ 0 w 709560"/>
              <a:gd name="textAreaRight" fmla="*/ 709920 w 70956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0" y="0"/>
                </a:lnTo>
                <a:lnTo>
                  <a:pt x="21600" y="10800"/>
                </a:lnTo>
                <a:lnTo>
                  <a:pt x="190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96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heSansCorrespondence"/>
              </a:rPr>
              <a:t>TOTAL</a:t>
            </a:r>
            <a:r>
              <a:rPr b="1" lang="es-ES_tradnl" sz="1200" spc="-1" strike="noStrike" baseline="30000">
                <a:solidFill>
                  <a:srgbClr val="ffffff"/>
                </a:solidFill>
                <a:latin typeface="TheSansCorrespondence"/>
              </a:rPr>
              <a:t>6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702440" y="4927680"/>
            <a:ext cx="1445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t">
            <a:spAutoFit/>
          </a:bodyPr>
          <a:p>
            <a:pPr marL="438120" indent="-43812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heSansCorrespondence"/>
              </a:rPr>
              <a:t>4.341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29080" y="4861080"/>
            <a:ext cx="581040" cy="38412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348080" y="4906800"/>
            <a:ext cx="7779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heSansCorrespondence"/>
              </a:rPr>
              <a:t>56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419800" y="4861080"/>
            <a:ext cx="581040" cy="38412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364000" y="4906800"/>
            <a:ext cx="7779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heSansCorrespondence"/>
              </a:rPr>
              <a:t>17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469280" y="1274760"/>
            <a:ext cx="447480" cy="28260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999560" y="1235160"/>
            <a:ext cx="1058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heSansCorrespondence"/>
              </a:rPr>
              <a:t>% penetración hogares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398760" y="1228680"/>
            <a:ext cx="8478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3399"/>
                </a:solidFill>
                <a:latin typeface="TheSansCorrespondence"/>
              </a:rPr>
              <a:t>Línea Móvil</a:t>
            </a:r>
            <a:endParaRPr b="0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456240" y="2762280"/>
            <a:ext cx="581040" cy="38412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heSansCorrespondence"/>
              </a:rPr>
              <a:t>6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419800" y="2738520"/>
            <a:ext cx="581040" cy="38412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369040" y="2792520"/>
            <a:ext cx="777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46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591000" y="2762280"/>
            <a:ext cx="581040" cy="38412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529080" y="2816280"/>
            <a:ext cx="777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95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591000" y="3486240"/>
            <a:ext cx="581040" cy="38412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529080" y="3525840"/>
            <a:ext cx="777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90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591000" y="4255920"/>
            <a:ext cx="581040" cy="384480"/>
          </a:xfrm>
          <a:prstGeom prst="ellipse">
            <a:avLst/>
          </a:pr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529080" y="4309920"/>
            <a:ext cx="7779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70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548160" y="4851360"/>
            <a:ext cx="581040" cy="38412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462480" y="4894200"/>
            <a:ext cx="7776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heSansCorrespondence"/>
              </a:rPr>
              <a:t>80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419800" y="4221000"/>
            <a:ext cx="581040" cy="384480"/>
          </a:xfrm>
          <a:prstGeom prst="ellipse">
            <a:avLst/>
          </a:pr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364000" y="4275000"/>
            <a:ext cx="7779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5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240680" y="2111400"/>
            <a:ext cx="1898640" cy="2209680"/>
          </a:xfrm>
          <a:custGeom>
            <a:avLst/>
            <a:gdLst>
              <a:gd name="textAreaLeft" fmla="*/ 92520 w 1898640"/>
              <a:gd name="textAreaRight" fmla="*/ 1806120 w 1898640"/>
              <a:gd name="textAreaTop" fmla="*/ 92520 h 2209680"/>
              <a:gd name="textAreaBottom" fmla="*/ 2117160 h 2209680"/>
            </a:gdLst>
            <a:ahLst/>
            <a:rect l="textAreaLeft" t="textAreaTop" r="textAreaRight" b="textAreaBottom"/>
            <a:pathLst>
              <a:path w="21600" h="25138">
                <a:moveTo>
                  <a:pt x="3600" y="0"/>
                </a:moveTo>
                <a:arcTo wR="3600" hR="3600" stAng="16200000" swAng="-5400000"/>
                <a:lnTo>
                  <a:pt x="0" y="21538"/>
                </a:lnTo>
                <a:arcTo wR="3600" hR="3600" stAng="10800000" swAng="-5400000"/>
                <a:lnTo>
                  <a:pt x="18000" y="251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6"/>
                </a:solidFill>
                <a:latin typeface="TheSansCorrespondence"/>
              </a:rPr>
              <a:t>En los sectores económicos de bajos recursos (GSE D y E, 54% de los hogares)  la telefonía fija ha penetrado débilmente y todavía en menor medida Internet</a:t>
            </a:r>
            <a:r>
              <a:rPr b="1" lang="es-ES_tradnl" sz="1400" spc="-1" strike="noStrike">
                <a:solidFill>
                  <a:srgbClr val="000096"/>
                </a:solidFill>
                <a:latin typeface="TheSansCorrespondence"/>
              </a:rPr>
              <a:t>.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5400000">
            <a:off x="6221520" y="3469320"/>
            <a:ext cx="2146320" cy="166680"/>
          </a:xfrm>
          <a:prstGeom prst="triangle">
            <a:avLst>
              <a:gd name="adj" fmla="val 50000"/>
            </a:avLst>
          </a:prstGeom>
          <a:solidFill>
            <a:srgbClr val="d0f500"/>
          </a:solidFill>
          <a:ln w="0">
            <a:noFill/>
          </a:ln>
          <a:effectLst>
            <a:outerShdw dist="17819" dir="2700000" blurRad="0" rotWithShape="0">
              <a:srgbClr val="7c9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44920" y="1782720"/>
            <a:ext cx="685800" cy="0"/>
          </a:xfrm>
          <a:prstGeom prst="line">
            <a:avLst/>
          </a:prstGeom>
          <a:ln w="1908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t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383000" y="1782720"/>
            <a:ext cx="685800" cy="0"/>
          </a:xfrm>
          <a:prstGeom prst="line">
            <a:avLst/>
          </a:prstGeom>
          <a:ln w="1908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t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183280" y="1782720"/>
            <a:ext cx="1047600" cy="0"/>
          </a:xfrm>
          <a:prstGeom prst="line">
            <a:avLst/>
          </a:prstGeom>
          <a:ln w="1908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t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3" name="McK Footnote"/>
          <p:cNvSpPr/>
          <p:nvPr/>
        </p:nvSpPr>
        <p:spPr>
          <a:xfrm>
            <a:off x="1592280" y="6036840"/>
            <a:ext cx="7085160" cy="7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s-ES_tradnl" sz="800" spc="-1" strike="noStrike">
                <a:solidFill>
                  <a:srgbClr val="000099"/>
                </a:solidFill>
                <a:latin typeface="TheSansCorrespondence"/>
              </a:rPr>
              <a:t>(1) Ingresos promedio por GSE según empresa ICCOM  Marzo 2005 expresados dólares de dic. 2005 tc Ch$/US$ 512,5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s-ES_tradnl" sz="800" spc="-1" strike="noStrike">
                <a:solidFill>
                  <a:srgbClr val="000099"/>
                </a:solidFill>
                <a:latin typeface="TheSansCorrespondence"/>
              </a:rPr>
              <a:t>(2) Incluyen conexiones de Banda Ancha y Banda Estrecha. No incluyen accesos a través de infocentros y cibercafés.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s-ES_tradnl" sz="800" spc="-1" strike="noStrike">
                <a:solidFill>
                  <a:srgbClr val="000099"/>
                </a:solidFill>
                <a:latin typeface="TheSansCorrespondence"/>
              </a:rPr>
              <a:t>(3) Focalizado en algunos sectores geográficos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s-ES_tradnl" sz="800" spc="-1" strike="noStrike">
                <a:solidFill>
                  <a:srgbClr val="000099"/>
                </a:solidFill>
                <a:latin typeface="TheSansCorrespondence"/>
              </a:rPr>
              <a:t>(4) Incluye el total de hogares urbanos y rurales a nivel País.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s-ES_tradnl" sz="800" spc="-1" strike="noStrike">
                <a:solidFill>
                  <a:srgbClr val="000099"/>
                </a:solidFill>
                <a:latin typeface="TheSansCorrespondence"/>
              </a:rPr>
              <a:t>(5) La encuesta considera hasta el GSE D y se incorpora el GSE E para efectos de considerar el total de hogares urbanos.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s-ES_tradnl" sz="800" spc="-1" strike="noStrike">
                <a:solidFill>
                  <a:srgbClr val="000099"/>
                </a:solidFill>
                <a:latin typeface="TheSansCorrespondence"/>
              </a:rPr>
              <a:t>(6) Muestra la penetración total Hogares (urbanos+rural)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407280" y="1197000"/>
            <a:ext cx="7650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3399"/>
                </a:solidFill>
                <a:latin typeface="TheSansCorrespondence"/>
              </a:rPr>
              <a:t>Cías Fijas</a:t>
            </a:r>
            <a:endParaRPr b="0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397560" y="1782720"/>
            <a:ext cx="685800" cy="0"/>
          </a:xfrm>
          <a:prstGeom prst="line">
            <a:avLst/>
          </a:prstGeom>
          <a:ln w="1908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t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435720" y="3478320"/>
            <a:ext cx="581040" cy="38412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heSansCorrespondence"/>
              </a:rPr>
              <a:t>2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35720" y="4202280"/>
            <a:ext cx="581040" cy="38412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heSansCorrespondence"/>
              </a:rPr>
              <a:t>1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464160" y="4840200"/>
            <a:ext cx="581040" cy="38412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heSansCorrespondence"/>
              </a:rPr>
              <a:t>6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767640" y="3386160"/>
            <a:ext cx="48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82"/>
                </a:solidFill>
                <a:latin typeface="Arial"/>
              </a:rPr>
              <a:t>(3)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786720" y="2665440"/>
            <a:ext cx="48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82"/>
                </a:solidFill>
                <a:latin typeface="Arial"/>
              </a:rPr>
              <a:t>(3)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751120" y="1879560"/>
            <a:ext cx="709560" cy="690480"/>
          </a:xfrm>
          <a:custGeom>
            <a:avLst/>
            <a:gdLst>
              <a:gd name="textAreaLeft" fmla="*/ 0 w 709560"/>
              <a:gd name="textAreaRight" fmla="*/ 709920 w 709560"/>
              <a:gd name="textAreaTop" fmla="*/ 0 h 690480"/>
              <a:gd name="textAreaBottom" fmla="*/ 690840 h 69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0" y="0"/>
                </a:lnTo>
                <a:lnTo>
                  <a:pt x="21600" y="10800"/>
                </a:lnTo>
                <a:lnTo>
                  <a:pt x="190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ABC1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443640" y="2028960"/>
            <a:ext cx="581040" cy="38412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heSansCorrespondence"/>
              </a:rPr>
              <a:t>6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407200" y="2004840"/>
            <a:ext cx="580680" cy="38448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356080" y="2058840"/>
            <a:ext cx="7779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68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578400" y="2028960"/>
            <a:ext cx="580680" cy="38412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478320" y="2082960"/>
            <a:ext cx="777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98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414680" y="2771640"/>
            <a:ext cx="581040" cy="38448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52760" y="2825640"/>
            <a:ext cx="7779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84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402080" y="2038320"/>
            <a:ext cx="581040" cy="38412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340160" y="2092320"/>
            <a:ext cx="777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89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22320" y="2158920"/>
            <a:ext cx="1316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t">
            <a:spAutoFit/>
          </a:bodyPr>
          <a:p>
            <a:pPr marL="438120" indent="-43812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heSansCorrespondence"/>
              </a:rPr>
              <a:t>310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822320" y="2819520"/>
            <a:ext cx="1316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t">
            <a:spAutoFit/>
          </a:bodyPr>
          <a:p>
            <a:pPr marL="438120" indent="-43812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heSansCorrespondence"/>
              </a:rPr>
              <a:t>558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702440" y="3556080"/>
            <a:ext cx="1445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t">
            <a:spAutoFit/>
          </a:bodyPr>
          <a:p>
            <a:pPr marL="438120" indent="-43812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heSansCorrespondence"/>
              </a:rPr>
              <a:t>1.108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702440" y="4280040"/>
            <a:ext cx="1445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t">
            <a:spAutoFit/>
          </a:bodyPr>
          <a:p>
            <a:pPr marL="438120" indent="-43812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heSansCorrespondence"/>
              </a:rPr>
              <a:t>2.36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519200" y="5657760"/>
            <a:ext cx="74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99"/>
                </a:solidFill>
                <a:latin typeface="TheSansCorrespondence"/>
              </a:rPr>
              <a:t>Fuente: Encuesta Nuevas Tecnologías de la Consultora CIMA (encargada en Chile de la encuesta NNTT Monitor) realizada en octubre 2005, sólo considera hogares urbanos (apróx. 88% del total de hogares),mostrando el máximo de penetración actual en cada servicio.</a:t>
            </a:r>
            <a:endParaRPr b="0" lang="en-US" sz="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679840" y="958680"/>
            <a:ext cx="893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96"/>
                </a:solidFill>
                <a:latin typeface="TheSansCorrespondence"/>
              </a:rPr>
              <a:t>Grupo Socioeconómico (GSE)</a:t>
            </a:r>
            <a:endParaRPr b="0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744640" y="1782720"/>
            <a:ext cx="685800" cy="0"/>
          </a:xfrm>
          <a:prstGeom prst="line">
            <a:avLst/>
          </a:prstGeom>
          <a:ln w="1908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t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033920" y="2158920"/>
            <a:ext cx="1445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t">
            <a:spAutoFit/>
          </a:bodyPr>
          <a:p>
            <a:pPr marL="438120" indent="-43812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heSansCorrespondence"/>
              </a:rPr>
              <a:t>5.592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033920" y="2819520"/>
            <a:ext cx="1445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t">
            <a:spAutoFit/>
          </a:bodyPr>
          <a:p>
            <a:pPr marL="438120" indent="-43812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heSansCorrespondence"/>
              </a:rPr>
              <a:t>2.094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033920" y="3556080"/>
            <a:ext cx="1445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t">
            <a:spAutoFit/>
          </a:bodyPr>
          <a:p>
            <a:pPr marL="438120" indent="-43812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heSansCorrespondence"/>
              </a:rPr>
              <a:t>1.009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153800" y="4280040"/>
            <a:ext cx="1316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t">
            <a:spAutoFit/>
          </a:bodyPr>
          <a:p>
            <a:pPr marL="438120" indent="-43812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heSansCorrespondence"/>
              </a:rPr>
              <a:t>472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25600" y="101520"/>
            <a:ext cx="750240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heSansCorrespondence"/>
              </a:rPr>
              <a:t>Sin embargo la penetración de servicios de Telco ha sido muy desigual.</a:t>
            </a:r>
            <a:endParaRPr b="1" lang="en-US" sz="24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3" name=""/>
          <p:cNvGraphicFramePr/>
          <p:nvPr/>
        </p:nvGraphicFramePr>
        <p:xfrm>
          <a:off x="2060640" y="2276640"/>
          <a:ext cx="3867120" cy="35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0640" y="2276640"/>
                    <a:ext cx="3867120" cy="35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5" name=""/>
          <p:cNvSpPr/>
          <p:nvPr/>
        </p:nvSpPr>
        <p:spPr>
          <a:xfrm>
            <a:off x="2290680" y="1062360"/>
            <a:ext cx="42055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heSansCorrespondence"/>
              </a:rPr>
              <a:t>Mercado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heSansCorrespondence"/>
              </a:rPr>
              <a:t>Minutos de Voz </a:t>
            </a:r>
            <a:r>
              <a:rPr b="0" lang="es-ES_tradnl" sz="1400" spc="-1" strike="noStrike">
                <a:solidFill>
                  <a:srgbClr val="003399"/>
                </a:solidFill>
                <a:latin typeface="TheSansCorrespondence"/>
              </a:rPr>
              <a:t>(miles de millones de minutos)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309760" y="2333520"/>
            <a:ext cx="5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22,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270240" y="2371680"/>
            <a:ext cx="514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22,7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189320" y="2371680"/>
            <a:ext cx="4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22,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046840" y="2333520"/>
            <a:ext cx="580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23,0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345360" y="4903920"/>
            <a:ext cx="500040" cy="274680"/>
          </a:xfrm>
          <a:prstGeom prst="ellipse">
            <a:avLst/>
          </a:prstGeom>
          <a:solidFill>
            <a:srgbClr val="d0f5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-4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345360" y="4246560"/>
            <a:ext cx="500040" cy="274680"/>
          </a:xfrm>
          <a:prstGeom prst="ellipse">
            <a:avLst/>
          </a:prstGeom>
          <a:solidFill>
            <a:srgbClr val="d0f5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-5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345360" y="3948120"/>
            <a:ext cx="500040" cy="274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0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85720" y="132840"/>
            <a:ext cx="752148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e88"/>
                </a:solidFill>
                <a:latin typeface="TheSansCorrespondence"/>
              </a:rPr>
              <a:t>Se espera que esta tendencia continúe en el tiempo.</a:t>
            </a:r>
            <a:endParaRPr b="1" lang="en-US" sz="24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494" name=""/>
          <p:cNvSpPr/>
          <p:nvPr/>
        </p:nvSpPr>
        <p:spPr>
          <a:xfrm>
            <a:off x="1371600" y="3441600"/>
            <a:ext cx="128520" cy="138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371600" y="3627360"/>
            <a:ext cx="128520" cy="138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371600" y="3790800"/>
            <a:ext cx="128520" cy="138240"/>
          </a:xfrm>
          <a:prstGeom prst="rect">
            <a:avLst/>
          </a:pr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371600" y="3965400"/>
            <a:ext cx="128520" cy="1382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604880" y="3400200"/>
            <a:ext cx="7714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Móvi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Fijo Móvi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LD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Fijo-Fijo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7308720" y="1096920"/>
            <a:ext cx="1131120" cy="228600"/>
            <a:chOff x="7308720" y="1096920"/>
            <a:chExt cx="1131120" cy="228600"/>
          </a:xfrm>
        </p:grpSpPr>
        <p:sp>
          <p:nvSpPr>
            <p:cNvPr id="500" name=""/>
            <p:cNvSpPr/>
            <p:nvPr/>
          </p:nvSpPr>
          <p:spPr>
            <a:xfrm>
              <a:off x="7308720" y="1109520"/>
              <a:ext cx="282600" cy="157320"/>
            </a:xfrm>
            <a:prstGeom prst="ellipse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678800" y="1096920"/>
              <a:ext cx="761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3399"/>
                  </a:solidFill>
                  <a:latin typeface="TheSansCorrespondence"/>
                </a:rPr>
                <a:t>CAGR. %</a:t>
              </a:r>
              <a:endParaRPr b="0" lang="en-US" sz="15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 rot="5400000">
            <a:off x="6359760" y="3721680"/>
            <a:ext cx="1725840" cy="158760"/>
          </a:xfrm>
          <a:prstGeom prst="triangle">
            <a:avLst>
              <a:gd name="adj" fmla="val 50000"/>
            </a:avLst>
          </a:pr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5400" bIns="5400" anchor="t" anchorCtr="1" vert="eaVert" rot="10800000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372440" y="2946600"/>
            <a:ext cx="169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190440" indent="-189000">
              <a:lnSpc>
                <a:spcPct val="100000"/>
              </a:lnSpc>
              <a:spcBef>
                <a:spcPts val="751"/>
              </a:spcBef>
              <a:buClr>
                <a:srgbClr val="d0f500"/>
              </a:buClr>
              <a:buSzPct val="80000"/>
              <a:buFont typeface="TheSansCorrespondence"/>
              <a:buChar char="—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heSansCorrespondence"/>
                <a:ea typeface="Times New Roman"/>
              </a:rPr>
              <a:t>No hay evidencia que permita revertir la tendencia que caída de la voz fija,..aún con rentas planas (caso USA)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426400" y="57466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e88"/>
                </a:solidFill>
                <a:latin typeface="TheSansCorrespondence"/>
              </a:rPr>
              <a:t>2001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326400" y="57466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e88"/>
                </a:solidFill>
                <a:latin typeface="TheSansCorrespondence"/>
              </a:rPr>
              <a:t>2004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183560" y="57466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e88"/>
                </a:solidFill>
                <a:latin typeface="TheSansCorrespondence"/>
              </a:rPr>
              <a:t>200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035680" y="5746680"/>
            <a:ext cx="43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e88"/>
                </a:solidFill>
                <a:latin typeface="TheSansCorrespondence"/>
              </a:rPr>
              <a:t>2009E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345360" y="3135240"/>
            <a:ext cx="500040" cy="274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+8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172880" y="6434280"/>
            <a:ext cx="312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3399"/>
                </a:solidFill>
                <a:latin typeface="TheSansCorrespondence"/>
              </a:rPr>
              <a:t>Fuente: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3399"/>
                </a:solidFill>
                <a:latin typeface="TheSansCorrespondence"/>
              </a:rPr>
              <a:t>Voz Fija: Modelos predictivos de Bayes.</a:t>
            </a:r>
            <a:br>
              <a:rPr sz="800"/>
            </a:br>
            <a:r>
              <a:rPr b="0" lang="es-MX" sz="800" spc="-1" strike="noStrike">
                <a:solidFill>
                  <a:srgbClr val="003399"/>
                </a:solidFill>
                <a:latin typeface="TheSansCorrespondence"/>
              </a:rPr>
              <a:t>Móviles: En base a estructura de parques y MOU de mercado 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705640" y="1703520"/>
            <a:ext cx="571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CAGR</a:t>
            </a:r>
            <a:br>
              <a:rPr sz="1200"/>
            </a:b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01-0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359400" y="1703520"/>
            <a:ext cx="600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CAGR</a:t>
            </a:r>
            <a:br>
              <a:rPr sz="1200"/>
            </a:b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05-09E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761080" y="4929120"/>
            <a:ext cx="525600" cy="236520"/>
          </a:xfrm>
          <a:prstGeom prst="ellipse">
            <a:avLst/>
          </a:prstGeom>
          <a:solidFill>
            <a:srgbClr val="d0f5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-6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786280" y="4246560"/>
            <a:ext cx="525600" cy="236520"/>
          </a:xfrm>
          <a:prstGeom prst="ellipse">
            <a:avLst/>
          </a:prstGeom>
          <a:solidFill>
            <a:srgbClr val="d0f5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-7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786280" y="3948120"/>
            <a:ext cx="525600" cy="236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+4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786280" y="3135240"/>
            <a:ext cx="525600" cy="236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+20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908760" y="4229280"/>
            <a:ext cx="165240" cy="901440"/>
          </a:xfrm>
          <a:custGeom>
            <a:avLst/>
            <a:gdLst>
              <a:gd name="textAreaLeft" fmla="*/ 0 w 165240"/>
              <a:gd name="textAreaRight" fmla="*/ 59760 w 165240"/>
              <a:gd name="textAreaTop" fmla="*/ 23400 h 901440"/>
              <a:gd name="textAreaBottom" fmla="*/ 878040 h 90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157880" y="4573440"/>
            <a:ext cx="500400" cy="274680"/>
          </a:xfrm>
          <a:prstGeom prst="ellipse">
            <a:avLst/>
          </a:prstGeom>
          <a:solidFill>
            <a:srgbClr val="d0f5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-5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345360" y="2316240"/>
            <a:ext cx="500040" cy="274680"/>
          </a:xfrm>
          <a:prstGeom prst="ellipse">
            <a:avLst/>
          </a:prstGeom>
          <a:solidFill>
            <a:srgbClr val="d0f5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1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786280" y="2316240"/>
            <a:ext cx="525600" cy="236520"/>
          </a:xfrm>
          <a:prstGeom prst="ellipse">
            <a:avLst/>
          </a:prstGeom>
          <a:solidFill>
            <a:srgbClr val="d0f5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0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0" name=""/>
          <p:cNvGraphicFramePr/>
          <p:nvPr/>
        </p:nvGraphicFramePr>
        <p:xfrm>
          <a:off x="1714680" y="733320"/>
          <a:ext cx="3689280" cy="27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4680" y="733320"/>
                    <a:ext cx="3689280" cy="27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1863720" y="3795840"/>
          <a:ext cx="4194360" cy="260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63720" y="3795840"/>
                    <a:ext cx="419436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"/>
          <p:cNvSpPr/>
          <p:nvPr/>
        </p:nvSpPr>
        <p:spPr>
          <a:xfrm>
            <a:off x="1447920" y="92160"/>
            <a:ext cx="750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e88"/>
                </a:solidFill>
                <a:latin typeface="TheSansCorrespondence"/>
              </a:rPr>
              <a:t>A nivel mundial la tendencia es la misma  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78200" y="6405480"/>
            <a:ext cx="284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3399"/>
                </a:solidFill>
                <a:latin typeface="TheSansCorrespondence"/>
              </a:rPr>
              <a:t>Fuente: Ovum “Voice: A visión of the future, marzo 2006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105000" y="3495600"/>
            <a:ext cx="171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3720" y="501480"/>
            <a:ext cx="37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99"/>
                </a:solidFill>
                <a:latin typeface="TheSansCorrespondence"/>
              </a:rPr>
              <a:t>Móvil % del total  trafico de salida de voz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630840" y="4398840"/>
            <a:ext cx="2256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99"/>
                </a:solidFill>
                <a:latin typeface="TheSansCorrespondence"/>
              </a:rPr>
              <a:t>A nivel mundial se proyectan al 2010 caídas de -%5 anual del tráfico de voz conmutada.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30840" y="1454040"/>
            <a:ext cx="1955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99"/>
                </a:solidFill>
                <a:latin typeface="TheSansCorrespondence"/>
              </a:rPr>
              <a:t>Al 2008 se espera que la telefonía móvil capture entre 10 y 30 pp del tráfico de voz respecto a 2005.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86480" y="3406680"/>
            <a:ext cx="136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8"/>
                </a:solidFill>
                <a:latin typeface="TheSansCorrespondence"/>
              </a:rPr>
              <a:t>Fuente: MSDW, oct. 2005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324880" y="3651120"/>
            <a:ext cx="302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99"/>
                </a:solidFill>
                <a:latin typeface="TheSansCorrespondence"/>
              </a:rPr>
              <a:t>Tráfico mundial de salida de voz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630840" y="5610240"/>
            <a:ext cx="2264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3399"/>
                </a:solidFill>
                <a:latin typeface="TheSansCorrespondence"/>
              </a:rPr>
              <a:t>Nota: Se estima que al 2006 el tráfico de voz de empresas en casi todos los paises ya migro a redes privados e IP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rot="5400000">
            <a:off x="5680440" y="2001240"/>
            <a:ext cx="1319400" cy="145800"/>
          </a:xfrm>
          <a:prstGeom prst="triangle">
            <a:avLst>
              <a:gd name="adj" fmla="val 50000"/>
            </a:avLst>
          </a:pr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1080" bIns="1080" anchor="t" anchorCtr="1" vert="eaVert" rot="10800000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rot="5400000">
            <a:off x="5680440" y="5112720"/>
            <a:ext cx="1319400" cy="145800"/>
          </a:xfrm>
          <a:prstGeom prst="triangle">
            <a:avLst>
              <a:gd name="adj" fmla="val 50000"/>
            </a:avLst>
          </a:pr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1080" bIns="1080" anchor="t" anchorCtr="1" vert="eaVert" rot="10800000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1494000" y="6370560"/>
            <a:ext cx="59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s-ES_tradnl" sz="900" spc="-1" strike="noStrike">
                <a:solidFill>
                  <a:srgbClr val="000e88"/>
                </a:solidFill>
                <a:latin typeface="Arial"/>
              </a:rPr>
              <a:t>Fuente: Informe Estadístico N°10 de Subtel</a:t>
            </a:r>
            <a:endParaRPr b="0" lang="en-US" sz="9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s-ES_tradnl" sz="900" spc="-1" strike="noStrike">
                <a:solidFill>
                  <a:srgbClr val="000e88"/>
                </a:solidFill>
                <a:latin typeface="Arial"/>
              </a:rPr>
              <a:t>(*) : Mar-06, fuente IDC Chile (www.idc.com)</a:t>
            </a:r>
            <a:endParaRPr b="0" lang="en-US" sz="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622520" y="1386000"/>
            <a:ext cx="1025280" cy="406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1494000" y="1084320"/>
          <a:ext cx="7243560" cy="48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0" y="1084320"/>
                    <a:ext cx="7243560" cy="48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"/>
          <p:cNvSpPr/>
          <p:nvPr/>
        </p:nvSpPr>
        <p:spPr>
          <a:xfrm>
            <a:off x="8432640" y="51624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imes New Roman"/>
              </a:rPr>
              <a:t>(*)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595760" y="2814480"/>
            <a:ext cx="2013120" cy="1150920"/>
          </a:xfrm>
          <a:custGeom>
            <a:avLst/>
            <a:gdLst/>
            <a:ahLst/>
            <a:rect l="l" t="t" r="r" b="b"/>
            <a:pathLst>
              <a:path w="989" h="519">
                <a:moveTo>
                  <a:pt x="0" y="519"/>
                </a:moveTo>
                <a:lnTo>
                  <a:pt x="0" y="0"/>
                </a:lnTo>
                <a:lnTo>
                  <a:pt x="989" y="0"/>
                </a:lnTo>
                <a:lnTo>
                  <a:pt x="989" y="270"/>
                </a:lnTo>
              </a:path>
            </a:pathLst>
          </a:custGeom>
          <a:noFill/>
          <a:ln w="1908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661080" y="2077920"/>
            <a:ext cx="963720" cy="1300320"/>
          </a:xfrm>
          <a:custGeom>
            <a:avLst/>
            <a:gdLst/>
            <a:ahLst/>
            <a:rect l="l" t="t" r="r" b="b"/>
            <a:pathLst>
              <a:path w="481" h="586">
                <a:moveTo>
                  <a:pt x="0" y="586"/>
                </a:moveTo>
                <a:lnTo>
                  <a:pt x="0" y="0"/>
                </a:lnTo>
                <a:lnTo>
                  <a:pt x="481" y="0"/>
                </a:lnTo>
                <a:lnTo>
                  <a:pt x="479" y="148"/>
                </a:lnTo>
              </a:path>
            </a:pathLst>
          </a:custGeom>
          <a:noFill/>
          <a:ln w="1908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389560" y="2637000"/>
            <a:ext cx="596880" cy="33948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Times New Roman"/>
              </a:rPr>
              <a:t>36,1%</a:t>
            </a:r>
            <a:endParaRPr b="0" lang="en-US" sz="1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870600" y="1903320"/>
            <a:ext cx="598680" cy="34128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Times New Roman"/>
              </a:rPr>
              <a:t>48,4%</a:t>
            </a:r>
            <a:endParaRPr b="0" lang="en-US" sz="1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517840" y="3452760"/>
            <a:ext cx="2028600" cy="1079640"/>
          </a:xfrm>
          <a:custGeom>
            <a:avLst/>
            <a:gdLst/>
            <a:ahLst/>
            <a:rect l="l" t="t" r="r" b="b"/>
            <a:pathLst>
              <a:path w="1379" h="573">
                <a:moveTo>
                  <a:pt x="1" y="573"/>
                </a:moveTo>
                <a:lnTo>
                  <a:pt x="0" y="0"/>
                </a:lnTo>
                <a:lnTo>
                  <a:pt x="1377" y="0"/>
                </a:lnTo>
                <a:lnTo>
                  <a:pt x="1379" y="265"/>
                </a:lnTo>
              </a:path>
            </a:pathLst>
          </a:custGeom>
          <a:noFill/>
          <a:ln w="1908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246480" y="3317760"/>
            <a:ext cx="596880" cy="33984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Times New Roman"/>
              </a:rPr>
              <a:t>86,8%</a:t>
            </a:r>
            <a:endParaRPr b="0" lang="en-US" sz="1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672320" y="1654200"/>
            <a:ext cx="525600" cy="763560"/>
          </a:xfrm>
          <a:custGeom>
            <a:avLst/>
            <a:gdLst/>
            <a:ahLst/>
            <a:rect l="l" t="t" r="r" b="b"/>
            <a:pathLst>
              <a:path w="274" h="344">
                <a:moveTo>
                  <a:pt x="0" y="344"/>
                </a:moveTo>
                <a:lnTo>
                  <a:pt x="1" y="0"/>
                </a:lnTo>
                <a:lnTo>
                  <a:pt x="273" y="0"/>
                </a:lnTo>
                <a:lnTo>
                  <a:pt x="274" y="53"/>
                </a:lnTo>
              </a:path>
            </a:pathLst>
          </a:custGeom>
          <a:noFill/>
          <a:ln w="1908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635960" y="1370160"/>
            <a:ext cx="598320" cy="34128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Times New Roman"/>
              </a:rPr>
              <a:t>12,6%</a:t>
            </a:r>
            <a:endParaRPr b="0" lang="en-US" sz="1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433520" y="50760"/>
            <a:ext cx="77104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e88"/>
                </a:solidFill>
                <a:latin typeface="TheSansCorrespondence"/>
              </a:rPr>
              <a:t>El crecimiento de Banda Ancha en Chile ha sido sorpresente desde sus inicios.  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9" name=""/>
          <p:cNvGraphicFramePr/>
          <p:nvPr/>
        </p:nvGraphicFramePr>
        <p:xfrm>
          <a:off x="1749600" y="1147680"/>
          <a:ext cx="7013520" cy="24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9600" y="1147680"/>
                    <a:ext cx="701352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1" name=""/>
          <p:cNvGraphicFramePr/>
          <p:nvPr/>
        </p:nvGraphicFramePr>
        <p:xfrm>
          <a:off x="1749600" y="3859200"/>
          <a:ext cx="6921360" cy="315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49600" y="3859200"/>
                    <a:ext cx="6921360" cy="31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"/>
          <p:cNvSpPr/>
          <p:nvPr/>
        </p:nvSpPr>
        <p:spPr>
          <a:xfrm>
            <a:off x="1841400" y="990720"/>
            <a:ext cx="707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986"/>
                </a:solidFill>
                <a:latin typeface="Arial"/>
              </a:rPr>
              <a:t>Larga distancia Naciona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463760" y="76320"/>
            <a:ext cx="76802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heSansCorrespondence"/>
              </a:rPr>
              <a:t>El futuro de la larga distancia tiene un mal pronóstic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841400" y="990720"/>
            <a:ext cx="7074000" cy="259056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841400" y="1371600"/>
            <a:ext cx="70740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841400" y="3706920"/>
            <a:ext cx="707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986"/>
                </a:solidFill>
                <a:latin typeface="Arial"/>
              </a:rPr>
              <a:t>Larga distancia Internaciona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841400" y="3706920"/>
            <a:ext cx="7074000" cy="277020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841400" y="4114800"/>
            <a:ext cx="70740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10:26:23Z</dcterms:created>
  <dc:creator>Juan Manuel Sepúlveda</dc:creator>
  <dc:description/>
  <dc:language>en-US</dc:language>
  <cp:lastModifiedBy>Telefónica CTC Chile</cp:lastModifiedBy>
  <dcterms:modified xsi:type="dcterms:W3CDTF">2006-06-28T14:46:22Z</dcterms:modified>
  <cp:revision>388</cp:revision>
  <dc:subject/>
  <dc:title>Presentación Plantilla Telefónica</dc:title>
</cp:coreProperties>
</file>