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8DB-A065-42A7-9494-936201FC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CFD-900C-467A-9CD5-B7AFEB5C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CCE-420E-4FEC-8F26-860051F7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B65-046B-4ACE-BEB5-C6EED572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8DBE-9D41-4090-A605-A58C5C88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0223-A67F-403F-AEDA-8F887D15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2DD7-68EC-4E06-B13D-D08C9128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E445-FD21-4A03-9D14-AA9CCC09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A600-0C11-41E8-9BD7-6B2E8229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02CA-C293-4B90-BE89-12C5FE2E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2438-21D6-4E4F-B245-6058467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FA7-F93B-4B01-98D6-5639CE3E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28AC-1EE1-490D-817C-20D8F0C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698E-32B8-431F-A572-FA386631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065D-3B36-4086-81CF-9CA744DD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F872-CBA1-4746-8E7E-29CBAFEF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AA6E-581F-4672-AAAC-AA0EC90A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9696-35A9-4C44-9F2E-8E269630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24334-EED3-4CEA-945A-8211398C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D163-24C5-4190-95D8-DD3E9C58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39B0-376A-42AB-9CA5-F86B771E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7CCC-BEFD-4AE6-9E28-B4EF5A04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4F8-3DDD-43F6-95B4-BAA516A9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99F8-DA60-49D2-BF4C-64DE2FBA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D56AE-7DB9-429E-A687-603D9806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8E802-AECA-4E7C-A2B3-B4E7A3EC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2A9E-A999-4CA3-8C1A-3BFFB8D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30B2-EA30-4C31-9F5C-8CC96820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6E91-FC9A-4871-B502-00F920C5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861E-63EC-4A0A-8E29-47C97F6B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A008-32BB-4A22-BC19-B2C12A4B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ACFD3-9630-4D06-94A4-8C16EE89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0D73-F0B9-4131-8138-D276527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A45-C9ED-4BF7-AF09-241C9F73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7065-64CC-40B9-A01F-9D533540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E906C-D2EE-4100-9926-AB8C3EB4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970A-D79A-452F-B7F5-803D976C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1A1F-1DA7-4FEF-8EAD-E0D7CBF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6500-21AF-4AF3-8457-F5792AE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85F1E-0753-41BC-A9F1-075B533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D190-F001-4377-B6CF-B426CE41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BECD5-5799-48F7-8C1B-A97740A6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C965F-2D23-4B7C-82A2-361052FC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FFD7-EFCC-4D32-A6FC-A3B76F56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422-2672-435B-A62C-DDF1203F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F897-3193-4A02-8A14-B5AE9A6F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CE84B-A56D-4772-B4E6-8FC8DD3E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273A5-3620-47EE-B608-7D6F72C9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9DBD-8C09-4177-BB72-70C4E7A6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A0A44-E552-4BF1-A8CB-78171FCB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AEB98-0783-42D6-811F-026C6A9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5675-D19B-41E7-9E98-84113D0E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31537-0E54-48DE-A165-E23A645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544C-1514-4FCA-A7B3-A7C0F207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4C53-457E-4614-AC00-44838D37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DAC3-6504-4E9D-AF9D-7F24C67E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0992-BA28-40C5-943C-3A80AEFF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AFC-7796-4C01-87B7-E9F3F76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A88-1AF9-42A9-AA70-C387C80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D33-4715-4F96-9B2D-E070C7A1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0452-2DA0-401C-B9D0-768B685B9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F3C1-FF7B-49F1-97A1-37CDA3A77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D465-C645-4F78-BDC9-6B9644FF2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7FFB-1B02-47D0-81C8-F5F75D07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rrando@santanderinvestment.cl" TargetMode="External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800" spc="-1" strike="noStrike">
                <a:solidFill>
                  <a:srgbClr val="000000"/>
                </a:solidFill>
                <a:latin typeface="Arial Black"/>
              </a:rPr>
              <a:t>IN42A-3</a:t>
            </a:r>
            <a:endParaRPr b="0" lang="en-US" sz="10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rancisco J. Errandone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ferrando@santanderinvestment.c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ril 2006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PN: Valor presente ne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R: Tasa interna de retorn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C: Período de recuperación de capita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CM: Rentabilidad contable medi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: Índice de rentabil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VA: Valor económico agreg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BAUE: Benefici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AUE: Costo anual uniforme equivale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ide el aporte económico de un proyecto a sus inversionistas, reflejando el aumento o disminución de la riqueza de és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tros nombres: Valor actual neto (VAN), Valor neto descontado (VND), Beneficio neto actual (BNA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600200"/>
          <a:ext cx="6095880" cy="26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6095880" cy="26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4800600"/>
            <a:ext cx="1752480" cy="838080"/>
          </a:xfrm>
          <a:prstGeom prst="rightArrow">
            <a:avLst>
              <a:gd name="adj1" fmla="val 50000"/>
              <a:gd name="adj2" fmla="val 522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419720"/>
            <a:ext cx="640080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 de los flujos de caja y de la tasa de descuento para cada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or lo tanto: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"/>
              </a:rPr>
              <a:t>VPN es el excedente que queda para el (los) inversionistas, después de haber recuperado la inversión y el costo de oportunidad de los recursos utilizados.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600200"/>
            <a:ext cx="8305920" cy="42670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Arial"/>
              </a:rPr>
              <a:t>Criterio de 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g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=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difer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PN &lt; 0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 conviene hacer 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7696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286680" cy="35906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1333440" y="5334120"/>
            <a:ext cx="6477120" cy="761760"/>
            <a:chOff x="1333440" y="5334120"/>
            <a:chExt cx="6477120" cy="761760"/>
          </a:xfrm>
        </p:grpSpPr>
        <p:sp>
          <p:nvSpPr>
            <p:cNvPr id="252" name=""/>
            <p:cNvSpPr/>
            <p:nvPr/>
          </p:nvSpPr>
          <p:spPr>
            <a:xfrm>
              <a:off x="1333440" y="5334120"/>
              <a:ext cx="6477120" cy="761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Tasa de descuento  </a:t>
              </a:r>
              <a:r>
                <a:rPr b="0" lang="es-E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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         VP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38360" y="5410080"/>
              <a:ext cx="304560" cy="609840"/>
            </a:xfrm>
            <a:prstGeom prst="upArrow">
              <a:avLst>
                <a:gd name="adj1" fmla="val 50000"/>
                <a:gd name="adj2" fmla="val 5005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6285960" y="5410080"/>
              <a:ext cx="304920" cy="6098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Características fundamentale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ácil aplicación (en la teoría…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conoce el valor temporal del din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pende únicamente del flujo de caja y el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ropiedad aditiva: VPN(A+B)=VPN(A)+VPN(B)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Permite hacer ranking de pro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Considera riesgo y tiemp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943200" cy="755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5880" y="464832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sólo con beneficios, también con costos o gasto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uando hay 2 o + alternativas de proyecto </a:t>
            </a:r>
            <a:r>
              <a:rPr b="1" lang="en-US" sz="3200" spc="-1" strike="noStrike">
                <a:solidFill>
                  <a:srgbClr val="ff3300"/>
                </a:solidFill>
                <a:latin typeface="Lucida Sans"/>
              </a:rPr>
              <a:t>mutuamente excluyente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y en las cuales sólo se conocen los gastos, también se ocupa el VP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i la tasa de descto. = 20%, dadas las alternativas de inversión A, B y C, seleccionar la más conveni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or Presente Neto (VP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rdenar ascendentemente las alternativas de invers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sacan las diferencias entre la primera alternativa y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el VPN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la primera alternativa es mejor, de lo contrario se elije la segund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mejor de las dos se compara con la siguiente …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que tomar la misma base de tiempo para todos los proyect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200" spc="-1" strike="noStrike">
                <a:solidFill>
                  <a:srgbClr val="000000"/>
                </a:solidFill>
                <a:latin typeface="Arial Black"/>
              </a:rPr>
              <a:t>Indicadores</a:t>
            </a:r>
            <a:endParaRPr b="0" lang="en-US" sz="6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rden: A – B – 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compara A con 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524720" cy="145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524720" cy="176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7315200" y="54100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4114800"/>
            <a:ext cx="2741400" cy="1905120"/>
            <a:chOff x="4572000" y="4114800"/>
            <a:chExt cx="2741400" cy="1905120"/>
          </a:xfrm>
        </p:grpSpPr>
        <p:sp>
          <p:nvSpPr>
            <p:cNvPr id="272" name=""/>
            <p:cNvSpPr/>
            <p:nvPr/>
          </p:nvSpPr>
          <p:spPr>
            <a:xfrm>
              <a:off x="4572000" y="41148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739400">
              <a:off x="6324120" y="48769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Solución del 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comparamos A con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tonces, la mejor alternativa es la 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9640" y="2548080"/>
            <a:ext cx="7524720" cy="17618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315200" y="3809880"/>
            <a:ext cx="1219320" cy="91440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0" y="2514600"/>
            <a:ext cx="2741400" cy="1905120"/>
            <a:chOff x="4572000" y="2514600"/>
            <a:chExt cx="2741400" cy="1905120"/>
          </a:xfrm>
        </p:grpSpPr>
        <p:sp>
          <p:nvSpPr>
            <p:cNvPr id="279" name=""/>
            <p:cNvSpPr/>
            <p:nvPr/>
          </p:nvSpPr>
          <p:spPr>
            <a:xfrm>
              <a:off x="4572000" y="2514600"/>
              <a:ext cx="1447920" cy="19051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39400">
              <a:off x="6324120" y="3276720"/>
              <a:ext cx="838440" cy="838080"/>
            </a:xfrm>
            <a:prstGeom prst="leftArrow">
              <a:avLst>
                <a:gd name="adj1" fmla="val 50000"/>
                <a:gd name="adj2" fmla="val 2501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Trata de medir la rentabilidad del proyecto, representando una medida de la rentabilidad media intrínsica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La TIR es la tasa que hace que el VPN=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4419720"/>
            <a:ext cx="8381880" cy="1600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la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eptan los proyectos en los que la TIR es mayor que la tasa de descu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 &gt;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nking de proyectos: TIR más alta a TIR más baja (sólo si los proyectos tienen igual riesgo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sentido sólo cuando se evalúa un proyecto puro, sin financiami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 TIR tiene múltiples problemas, aunque es más “fácil” de “entender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sa Interna de Retorno (TI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467480" cy="4270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419720" cy="495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royecto minero, que requiere inversión de 60. El primer año generará un flujo de caja de 155, en el segundo año, la mina se queda sin reservas y hay que invertir 100 más para poder volver a produci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Dos soluciones: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33% y TI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Lucida Sans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47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 Puede haber más de una TI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ando un proyecto es simple (un solo cambio de signo) habrá una TI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 hay dos o más cambios de signo, pueden existir varias tasas, en las que el VPN=0, y el indicador pierde senti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ay proyectos en los que no existe la TIR, por ejemplo si todos los flujos son positiv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oyectos con distinta vida útil. La TIR no permite comparar proyectos con distinta vida útil, aún cuando la inversión sea igual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na forma de corregir el problema es calcular la TIR ajustada, suponiendo que los flujos se reinvierten a la tasa de descuent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rma de solucionarlo: Reinvertir flujos hasta que queden con igual horizonte tempo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TIR ajustad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867640" cy="782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62120" y="4419720"/>
            <a:ext cx="8001000" cy="988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781680" y="502920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133720"/>
            <a:ext cx="13716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467480" y="2895480"/>
            <a:ext cx="76320" cy="1905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ndicadores de Evalu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os indicadores de evaluación de proyectos son índices que nos ayudan a determinar si un proyecto es o no conveniente para un inversionis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jerarquizar (ordenar) los proyectos de una cartera de invers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ermiten optimizar distintas decisiones relevantes del proyecto (ubicación, tecnología, momento óptimo para invertir o abandonar,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Las variables necesarias son: los flujos de caja del proyecto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, la tasa de descuento o costo de oportunidad del capital (r), y el horizonte de evaluación (n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Prestar o endeudar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 Costo de oportunidad varía con el tiemp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4 Proyectos mutuamente excluyentes: Independient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57200" y="1600200"/>
          <a:ext cx="8229600" cy="4267080"/>
        </p:xfrm>
        <a:graphic>
          <a:graphicData uri="http://schemas.openxmlformats.org/drawingml/2006/table">
            <a:tbl>
              <a:tblPr/>
              <a:tblGrid>
                <a:gridCol w="1143000"/>
                <a:gridCol w="3276720"/>
                <a:gridCol w="38098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124080" y="48006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B = 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27672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R A = 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1952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886200" y="4267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029200" y="35049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9072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4800600"/>
            <a:ext cx="167616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28800" y="4267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43000" y="25146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8600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6,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as de la 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4300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2819520" y="190476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905120"/>
            <a:ext cx="1809720" cy="33732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905120"/>
            <a:ext cx="5127480" cy="3409920"/>
          </a:xfrm>
          <a:prstGeom prst="rect">
            <a:avLst/>
          </a:prstGeom>
          <a:solidFill>
            <a:srgbClr val="0000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495680"/>
            <a:ext cx="16765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1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T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Muy cercana al VPN, generalmente (</a:t>
            </a: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no siempre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), se llega a conclusiones similar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Fácil de entender y comunica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No funciona con flujos de caja no convencion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uede llegar a conclusiones equivocadas al comparar proyectos independien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También conocido como Payback Ti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Algunas empresas requieren que la inversión se recupere en un período determin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l PRC se obtiene contando el número de períodos que toma igualar los flujos de caja acumulado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el PRC es menor que el máximo período definido por la empresa, entonces se acept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íodo de recuperación del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Ventaj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étodo simple y permite una aproximación de riesgo (menor PRC, menor riesgo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Desevntaja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o toma en cuenta el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rbitr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ebe ser usado sólo como indicador secundari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 puede mejorar usando flujos descontados, pero sus principales defectos permanece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8229600" cy="32338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: 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57200" y="1600200"/>
          <a:ext cx="8229600" cy="41781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219320"/>
                <a:gridCol w="1523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VPN @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3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139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5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-4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Lucida Sans"/>
                        </a:rPr>
                        <a:t>41.2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Ajusta por la incertidumbre de los flujos más lejan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do para proyectos cotidianos, muy pequeñ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$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ujos de caj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lujo de caja: Pago neto, líquido , en caja, en un determinado período, que recibe el inversionista para el cual se evalúa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n términos simples son los pagos recibidos por las ventas, menos los costos de producir el bien o el servicio (+ impuestos +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estructura de los flujos de caja se estudia en próximamente en el curs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RC descontad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ncluye el valor temporal del $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Fácil de entend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No acepta proyectos con VPN negativ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a liquidez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Puede rechazar proyectos con VPN positiv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Requiere un período arbitrario de decisió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Ignora los flujos de caja después del período definid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Sesgado en contra de proyectos de LP (Ej: I+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Cálculo complicado (Similar al VPN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Lucida Sans"/>
              </a:rPr>
              <a:t> Conviene evaluar por el VP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uociente entre utilidad contable promedio e inversión promedi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considera el valor temporal del dinero (ocupa promedi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 basa en contabilidad y no en flujo de caj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e da mucha importancia a flujos dist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Generalmente se compara con una medida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2057400" y="5181480"/>
            <a:ext cx="708660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038480"/>
            <a:ext cx="1218960" cy="9144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76520"/>
                <a:gridCol w="1066680"/>
                <a:gridCol w="1371600"/>
                <a:gridCol w="1371600"/>
                <a:gridCol w="1371600"/>
                <a:gridCol w="1371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ngre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prec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. Antes Im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Impue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tilidad Ejerc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28600" y="411480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libro promedio inversión = (500 + 0)/2 =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676520"/>
            <a:ext cx="5257800" cy="2057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tilidad Promedio = (100 + 150 + 50 -0 -50)/5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1676520"/>
            <a:ext cx="2895480" cy="4343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CM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0/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=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Rentabilidad Contable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Fácil de calcula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La información que necesita es muy fácil de conseguir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No es realmente una tasa de retorn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Ignora el valor temporal del d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Usa una tasa de comparación arbitrari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 basa en valores contables y no de mercado o flujos de caj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752480"/>
            <a:ext cx="38098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mbién conocida como IR: índice de rentabilida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ceptan proyectos con IR &gt; 1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imilar al VPN, puede llevar a error en proyectos excluyente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724280" y="2130480"/>
          <a:ext cx="403884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0480"/>
                    <a:ext cx="40388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mbos proyectos tiene buenos IR pero si son mutuamente excluyentes, debemos optar por el proyecto B que tiene mayor VAN, pero de acuerdo al IR habría que hacer el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eneficio / Cost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ución: Calcular incrementalmen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933960" cy="86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82" name=""/>
          <p:cNvSpPr/>
          <p:nvPr/>
        </p:nvSpPr>
        <p:spPr>
          <a:xfrm>
            <a:off x="457200" y="3886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 es mejor qu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IV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El IVAN es una variación del índice de rentabilidad, que mide el valor presente del proyecto por unidad de invers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809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e aceptan los proyectos con IVAN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Si se utiliza correctamente, es equivalente a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Puede conducir a errores cuando estamos frente a proyectos excluy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74200" y="290988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VA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94360" y="26668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97480" y="3276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41560" y="289548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 IR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para el mismo nivel de riesg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"/>
              </a:rPr>
              <a:t>Rentabilidad que entrega el mejor uso alternativo al capital empleado en el proyecto.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Los inversionistas son “aversos al riesgo”, por lo que buscan una compensación al asumir mayor riesg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Entonces, el costo de oportunidad relevante para una inversión, es la rentabilidad que ofrece el capital invertido en el mejor uso alternativo, </a:t>
            </a:r>
            <a:r>
              <a:rPr b="1" lang="es-ES" sz="4800" spc="-1" strike="noStrike">
                <a:solidFill>
                  <a:srgbClr val="ff3300"/>
                </a:solidFill>
                <a:latin typeface="Lucida Sans"/>
              </a:rPr>
              <a:t>para el mismo nivel de riesgo.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895480"/>
            <a:ext cx="7620120" cy="3048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o de Oportun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pósito a plazo en un banco en U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oyecto miner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enen distintos riesgos, por lo que la rentabilidad exigida para cada uno es distin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mercado indica cual es la rentabilidad exigible para cada nivel de riesg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Existe un precio del riesgo que determina el mercad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dicadores de Evaluación de Inversi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Índices que ayudan a determinar si un proyecto es o no conveniente para un inversionist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miten además el jerarquizar proyectos y optimizar decisiones del proyecto (ubicación, tecnología, momento, etc.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variables necesarios son: Flujos de caja, tasa de descuento y horizonte de evaluación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4-17T04:50:42Z</dcterms:modified>
  <cp:revision>52</cp:revision>
  <dc:subject/>
  <dc:title>Diapositiva 1</dc:title>
</cp:coreProperties>
</file>