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3F64-CB71-44C3-AA9B-9469C0B1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B274-F795-493F-89DF-F4707AFA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5F7-E04D-4FB7-99D1-4E258517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55D-EBDC-4BC7-B56A-0DA87E69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EF49-B5AA-47DA-B9F5-4BB88A46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BB07-B538-474D-8CA0-2902B930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64F8-5D93-4778-87AF-18CEAC5B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716B-3D75-44A1-A6D2-1734E559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F692-B590-42EE-9773-09F0DEB7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BD6A-81AE-4742-90C6-AE1B9FF4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30E6-4739-4D04-B934-E20EAABE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184-84B8-49A7-A2C5-036D2700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9AE4-C406-4B0C-B864-1EB32F9B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0826-CDC7-47D4-AE18-0969B8B6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48F9-329B-4A59-B0A8-763CF3D6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16D4-7219-4CC5-9AF0-1C1045B1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9D6D-3584-4718-89B0-F8EFCCAA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ECCA9-5DBF-4AA8-AEF6-505CB070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BC91D-BF55-43EF-89AD-73F6643E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ED90F-3C75-4B61-93CC-452E8A02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279BD-C9CF-4E5D-8C66-2438ED97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FC3F1-4FC3-4FDE-AEC5-8C19B691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8FFD-9B3A-4D55-A020-7B2DDAD6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6F4D8-D6F9-42E8-A9A6-B2BCB36B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418B5-AB59-47B7-85DB-37D0BAB9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11FDF-184D-4B4D-9EBB-FC5B3738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F5567-7687-4420-A768-43AA6095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861D4-DB46-4229-8DC7-2B0E391E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133D6-673F-465E-ACD0-E3D3F872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E9127-8BC7-4305-8275-A8780862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C56F4-4C29-44B6-A50F-A957F12B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27BD7-7CBC-46BB-A590-89C3F4A9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F7B70-87AF-4F1D-A74F-43F5368C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DA98-F3A4-44AC-83AD-63F431BC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519AB-6EFE-4D88-9069-2B9F8150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A7B35-4B34-4195-9B54-A0552D1E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62AC9-CCDB-4A61-BB52-AC60EDF0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7DDAF-DA23-4770-8286-FEA99E61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40E88-7B80-4F66-ACCE-AF7E998B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FCEE7-4C9A-421D-AB08-943CD4FC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7EA74-E1A7-4668-AA6E-457AE5E0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7A557-D661-4138-B066-4F0CE676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0C25C-1F7C-44F5-9655-D3755768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1C7E5-37F3-4205-B0FF-0D2720D7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2FA-46D0-42C1-8B59-819873CE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C054D-573C-4E15-B521-A9DDAB2B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4ECC8-E23A-4A54-8453-340D03C0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59D1C-472E-4128-900C-37315D90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30916-B60F-4CEB-97EC-8CB4BE1C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4DDF5-2237-4445-87AE-5F15E874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93DE9-BE28-4A32-ACA1-EA45CA95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E1C1B-F16C-48B4-A4AE-88E4D2CA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6CAC7-5425-4784-BC05-DA3BB1ED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4BCF3-1469-43A9-9530-77D80426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39D7C-DB12-4B8D-AEA3-63E5CB27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98C-0B94-43BB-AEE6-8B2C574C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B86B1-4C1C-42D2-8DE0-DADEDBCD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33B4-CA40-47EC-9E27-9F246340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5C1A-B471-4530-A7A0-E06A29D2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7D7E-88EB-42FE-82F2-94A1A3D8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A3A9-8736-4073-8352-2055F81FB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E876-DE89-4168-87CD-2F4279FD5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zo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B60F-FE56-40F5-B489-7216B2F28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5DEB-48A0-4540-95E7-42592DCC6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errando@santanderinvestment.cl" TargetMode="External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800" spc="-1" strike="noStrike">
                <a:solidFill>
                  <a:srgbClr val="000000"/>
                </a:solidFill>
                <a:latin typeface="Arial Black"/>
              </a:rPr>
              <a:t>IN42A-3</a:t>
            </a:r>
            <a:endParaRPr b="0" lang="en-US" sz="10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rancisco J. Errandone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ferrando@santanderinvestment.c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bril 2006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dicadores de Evaluación de Inversion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VPN: Valor presente ne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IR: Tasa interna de retorn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C: Período de recuperación de capita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CM: Rentabilidad contable medi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R: Índice de rentabilidad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VA: Valor económico agregad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AUE: Beneficio anual uniforme equivalente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UE: Costo anual uniforme equivalente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ide el aporte económico de un proyecto a sus inversionistas, reflejando el aumento o disminución de la riqueza de ésto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tros nombres: Valor actual neto (VAN), Valor neto descontado (VND), Beneficio neto actual (BNA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3520" y="1600200"/>
          <a:ext cx="6095880" cy="26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6095880" cy="26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3520" y="4800600"/>
            <a:ext cx="1752480" cy="838080"/>
          </a:xfrm>
          <a:prstGeom prst="rightArrow">
            <a:avLst>
              <a:gd name="adj1" fmla="val 50000"/>
              <a:gd name="adj2" fmla="val 5227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4419720"/>
            <a:ext cx="64008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 de los flujos de caja y de la tasa de descuento para cada perí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or lo tanto: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VPN es el excedente que queda para el (los) inversionistas, después de haber recuperado la inversión y el costo de oportunidad de los recursos utilizados.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1600200"/>
            <a:ext cx="8305920" cy="42670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66"/>
                </a:solidFill>
                <a:uFillTx/>
                <a:latin typeface="Arial"/>
              </a:rPr>
              <a:t>Criterio de decisió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PN &gt; 0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nviene hacer el proy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PN=0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difer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PN &lt; 0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o conviene hacer el proy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7779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286680" cy="359064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1333440" y="5334120"/>
            <a:ext cx="6477120" cy="761760"/>
            <a:chOff x="1333440" y="5334120"/>
            <a:chExt cx="6477120" cy="761760"/>
          </a:xfrm>
        </p:grpSpPr>
        <p:sp>
          <p:nvSpPr>
            <p:cNvPr id="252" name=""/>
            <p:cNvSpPr/>
            <p:nvPr/>
          </p:nvSpPr>
          <p:spPr>
            <a:xfrm>
              <a:off x="1333440" y="5334120"/>
              <a:ext cx="6477120" cy="761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Tasa de descuento  </a:t>
              </a:r>
              <a:r>
                <a:rPr b="0" lang="es-E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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         VP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38360" y="5410080"/>
              <a:ext cx="304560" cy="609840"/>
            </a:xfrm>
            <a:prstGeom prst="upArrow">
              <a:avLst>
                <a:gd name="adj1" fmla="val 50000"/>
                <a:gd name="adj2" fmla="val 5005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0800000">
              <a:off x="6285960" y="5410080"/>
              <a:ext cx="304920" cy="60984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Características fundamentales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ácil aplicación (en la teoría….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Reconoce el valor temporal del diner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Depende únicamente del flujo de caja y el costo de oportunidad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Propiedad aditiva: VPN(A+B)=VPN(A)+VPN(B)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Permite hacer ranking de proy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Considera riesgo y tiempo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238880" y="4419720"/>
            <a:ext cx="943200" cy="755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095880" y="464832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No sólo con beneficios, también con costos o gastos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uando hay 2 o + alternativas de proyecto </a:t>
            </a:r>
            <a:r>
              <a:rPr b="1" lang="en-US" sz="3200" spc="-1" strike="noStrike">
                <a:solidFill>
                  <a:srgbClr val="ff3300"/>
                </a:solidFill>
                <a:latin typeface="Lucida Sans"/>
              </a:rPr>
              <a:t>mutuamente excluyentes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y en las cuales sólo se conocen los gastos, también se ocupa el VP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EJEMPLO: </a:t>
            </a: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i la tasa de descto. = 20%, dadas las alternativas de inversión A, B y C, seleccionar la más convenient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7524720" cy="145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rdenar ascendentemente las alternativas de inversión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 sacan las diferencias entre la primera alternativa y la segund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 el VPN &lt;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la primera alternativa es mejor, de lo contrario se elije la segund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 mejor de las dos se compara con la siguiente …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ay que tomar la misma base de tiempo para todos los proyecto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200" spc="-1" strike="noStrike">
                <a:solidFill>
                  <a:srgbClr val="000000"/>
                </a:solidFill>
                <a:latin typeface="Arial Black"/>
              </a:rPr>
              <a:t>Indicadores</a:t>
            </a:r>
            <a:endParaRPr b="0" lang="en-US" sz="6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Solución del Ejempl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rden: A – B – 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 compara A con 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524720" cy="145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524720" cy="1761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0" name=""/>
          <p:cNvSpPr/>
          <p:nvPr/>
        </p:nvSpPr>
        <p:spPr>
          <a:xfrm>
            <a:off x="7315200" y="5410080"/>
            <a:ext cx="1219320" cy="914400"/>
          </a:xfrm>
          <a:prstGeom prst="ellips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572000" y="4114800"/>
            <a:ext cx="2741400" cy="1905120"/>
            <a:chOff x="4572000" y="4114800"/>
            <a:chExt cx="2741400" cy="1905120"/>
          </a:xfrm>
        </p:grpSpPr>
        <p:sp>
          <p:nvSpPr>
            <p:cNvPr id="272" name=""/>
            <p:cNvSpPr/>
            <p:nvPr/>
          </p:nvSpPr>
          <p:spPr>
            <a:xfrm>
              <a:off x="4572000" y="4114800"/>
              <a:ext cx="1447920" cy="19051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739400">
              <a:off x="6324120" y="4876920"/>
              <a:ext cx="838440" cy="838080"/>
            </a:xfrm>
            <a:prstGeom prst="leftArrow">
              <a:avLst>
                <a:gd name="adj1" fmla="val 50000"/>
                <a:gd name="adj2" fmla="val 2501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Solución del Ejempl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comparamos A con 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ntonces, la mejor alternativa es la A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809640" y="2548080"/>
            <a:ext cx="7524720" cy="17618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315200" y="3809880"/>
            <a:ext cx="1219320" cy="914400"/>
          </a:xfrm>
          <a:prstGeom prst="ellips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572000" y="2514600"/>
            <a:ext cx="2741400" cy="1905120"/>
            <a:chOff x="4572000" y="2514600"/>
            <a:chExt cx="2741400" cy="1905120"/>
          </a:xfrm>
        </p:grpSpPr>
        <p:sp>
          <p:nvSpPr>
            <p:cNvPr id="279" name=""/>
            <p:cNvSpPr/>
            <p:nvPr/>
          </p:nvSpPr>
          <p:spPr>
            <a:xfrm>
              <a:off x="4572000" y="2514600"/>
              <a:ext cx="1447920" cy="19051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739400">
              <a:off x="6324120" y="3276720"/>
              <a:ext cx="838440" cy="838080"/>
            </a:xfrm>
            <a:prstGeom prst="leftArrow">
              <a:avLst>
                <a:gd name="adj1" fmla="val 50000"/>
                <a:gd name="adj2" fmla="val 2501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sa Interna de Retorno (TI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Trata de medir la rentabilidad del proyecto, representando una medida de la rentabilidad media intrínsica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La TIR es la tasa que hace que el VPN=0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4419720"/>
            <a:ext cx="838188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la de dec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ceptan los proyectos en los que la TIR es mayor que la tasa de descu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R &gt;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sa Interna de Retorno (TI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anking de proyectos: TIR más alta a TIR más baja (sólo si los proyectos tienen igual riesgo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a TIR tiene sentido sólo cuando se evalúa un proyecto puro, sin financiamient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a TIR tiene múltiples problemas, aunque es más “fácil” de “entender”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sa Interna de Retorno (TI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7467480" cy="42703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419720" cy="495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Proyecto minero, que requiere inversión de 60. El primer año generará un flujo de caja de 155, en el segundo año, la mina se queda sin reservas y hay que invertir 100 más para poder volver a producir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5334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Dos soluciones: TIR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=33% y TIR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=25%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64771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 Puede haber más de una TI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uando un proyecto es simple (un solo cambio de signo) habrá una TIR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 hay dos o más cambios de signo, pueden existir varias tasas, en las que el VPN=0, y el indicador pierde sentid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ay proyectos en los que no existe la TIR, por ejemplo si todos los flujos son positivo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 Proyectos con distinta vida útil. La TIR no permite comparar proyectos con distinta vida útil, aún cuando la inversión sea igual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Una forma de corregir el problema es calcular la TIR ajustada, suponiendo que los flujos se reinvierten a la tasa de descuent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rma de solucionarlo: Reinvertir flujos hasta que queden con igual horizonte tempora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TIR ajustad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5867640" cy="782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762120" y="4419720"/>
            <a:ext cx="8001000" cy="988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781680" y="5029200"/>
            <a:ext cx="13716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0" y="2133720"/>
            <a:ext cx="13716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7467480" y="2895480"/>
            <a:ext cx="76320" cy="190512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Indicadores de Evaluación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Los indicadores de evaluación de proyectos son índices que nos ayudan a determinar si un proyecto es o no conveniente para un inversionist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Permiten jerarquizar (ordenar) los proyectos de una cartera de invers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Permiten optimizar distintas decisiones relevantes del proyecto (ubicación, tecnología, momento óptimo para invertir o abandonar, etc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Las variables necesarias son: los flujos de caja del proyecto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), la tasa de descuento o costo de oportunidad del capital (r), y el horizonte de evaluación (n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 Prestar o endeudars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3 Costo de oportunidad varía con el tiemp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4 Proyectos mutuamente excluyentes: Independient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57200" y="1600200"/>
          <a:ext cx="8229600" cy="4267080"/>
        </p:xfrm>
        <a:graphic>
          <a:graphicData uri="http://schemas.openxmlformats.org/drawingml/2006/table">
            <a:tbl>
              <a:tblPr/>
              <a:tblGrid>
                <a:gridCol w="1143000"/>
                <a:gridCol w="3276720"/>
                <a:gridCol w="380988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T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2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2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848360" cy="43005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124080" y="4800600"/>
            <a:ext cx="167652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R B = 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3276720"/>
            <a:ext cx="167652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R A = 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19520" y="3428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886200" y="4267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029200" y="35049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99072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90720" y="4800600"/>
            <a:ext cx="167616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1,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828800" y="42670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143000" y="251460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2286000"/>
            <a:ext cx="167652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6,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848360" cy="43005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 flipV="1">
            <a:off x="2819520" y="190476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905120"/>
            <a:ext cx="1809720" cy="337320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1905120"/>
            <a:ext cx="5127480" cy="3409920"/>
          </a:xfrm>
          <a:prstGeom prst="rect">
            <a:avLst/>
          </a:prstGeom>
          <a:solidFill>
            <a:srgbClr val="0000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495680"/>
            <a:ext cx="16765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1,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Muy cercana al VPN, generalmente (</a:t>
            </a:r>
            <a:r>
              <a:rPr b="1" lang="es-CL" sz="2800" spc="-1" strike="noStrike">
                <a:solidFill>
                  <a:srgbClr val="000000"/>
                </a:solidFill>
                <a:latin typeface="Lucida Sans"/>
              </a:rPr>
              <a:t>no siempre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), se llega a conclusiones similare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Fácil de entender y comunicar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No funciona con flujos de caja no convencional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Puede llegar a conclusiones equivocadas al comparar proyectos independien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0060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ríodo de recuperación del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También conocido como Payback Tim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Algunas empresas requieren que la inversión se recupere en un período determinad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El PRC se obtiene contando el número de períodos que toma igualar los flujos de caja acumulado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el PRC es menor que el máximo período definido por la empresa, entonces se acepta el proyec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ríodo de recuperación del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Ventaja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étodo simple y permite una aproximación de riesgo (menor PRC, menor riesgo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Desevntaja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No toma en cuenta el el valor temporal del diner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Arbitrari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Debe ser usado sólo como indicador secundari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e puede mejorar usando flujos descontados, pero sus principales defectos permanece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: PR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57200" y="1600200"/>
          <a:ext cx="8229600" cy="32338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219320"/>
                <a:gridCol w="1523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: PR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457200" y="1600200"/>
          <a:ext cx="8229600" cy="41781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219320"/>
                <a:gridCol w="1523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VPN @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38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-139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-50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-4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41.2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R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Fácil de entende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Ajusta por la incertidumbre de los flujos más lejan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sgado a liquidez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Usado para proyectos cotidianos, muy pequeñ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Ignora el valor temporal del $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Requiere un período arbitrario de decis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Ignora los flujos de caja después del período definid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sgado en contra de proyectos de LP (Ej: I+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0060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ujos de caj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lujo de caja: Pago neto, líquido , en caja, en un determinado período, que recibe el inversionista para el cual se evalúa el proyec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n términos simples son los pagos recibidos por las ventas, menos los costos de producir el bien o el servicio (+ impuestos + …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 estructura de los flujos de caja se estudia en próximamente en el curs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RC descontad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Incluye el valor temporal del $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Fácil de entender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No acepta proyectos con VPN negativo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Sesgado a liquidez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Puede rechazar proyectos con VPN positiv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Requiere un período arbitrario de decisió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Ignora los flujos de caja después del período definid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Sesgado en contra de proyectos de LP (Ej: I+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Cálculo complicado (Similar al VPN)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 Conviene evaluar por el VP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0060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uociente entre utilidad contable promedio e inversión promedi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blema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 considera el valor temporal del dinero (ocupa promedio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 basa en contabilidad y no en flujo de caj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 da mucha importancia a flujos distan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eneralmente se compara con una medida arbitrari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371600"/>
                <a:gridCol w="1371600"/>
                <a:gridCol w="1371600"/>
                <a:gridCol w="1371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prec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. Antes Im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mpue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idad Ejerc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371600"/>
                <a:gridCol w="1371600"/>
                <a:gridCol w="1371600"/>
                <a:gridCol w="1371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prec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. Antes Im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mpue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idad Ejerc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2057400" y="5181480"/>
            <a:ext cx="708660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" y="1676520"/>
            <a:ext cx="5257800" cy="2057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tilidad Promedio = (100 + 150 + 50 -0 -50)/5 =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19720" y="4038480"/>
            <a:ext cx="1218960" cy="9144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371600"/>
                <a:gridCol w="1371600"/>
                <a:gridCol w="1371600"/>
                <a:gridCol w="1371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prec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. Antes Im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mpue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idad Ejerc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228600" y="4114800"/>
            <a:ext cx="5257800" cy="2057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libro promedio inversión = (500 + 0)/2 = 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371600"/>
                <a:gridCol w="1371600"/>
                <a:gridCol w="1371600"/>
                <a:gridCol w="1371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prec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. Antes Im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mpue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idad Ejerc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"/>
          <p:cNvSpPr/>
          <p:nvPr/>
        </p:nvSpPr>
        <p:spPr>
          <a:xfrm>
            <a:off x="228600" y="4114800"/>
            <a:ext cx="5257800" cy="2057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libro promedio inversión = (500 + 0)/2 = 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1676520"/>
            <a:ext cx="5257800" cy="2057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tilidad Promedio = (100 + 150 + 50 -0 -50)/5 =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15000" y="1676520"/>
            <a:ext cx="2895480" cy="4343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RCM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50/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=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Fácil de calcul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La información que necesita es muy fácil de consegui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No es realmente una tasa de retorn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Ignora el valor temporal del diner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Usa una tasa de comparación arbitrari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 basa en valores contables y no de mercado o flujos de caj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0060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eneficio / Cos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ambién conocida como IR: índice de rentabilida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 aceptan proyectos con IR &gt; 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milar al VPN, puede llevar a error en proyectos excluyente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724280" y="2130480"/>
          <a:ext cx="4038840" cy="24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130480"/>
                    <a:ext cx="403884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eneficio / Cos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35809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mbos proyectos tiene buenos IR pero si son mutuamente excluyentes, debemos optar por el proyecto B que tiene mayor VAN, pero de acuerdo al IR habría que hacer el 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543800" cy="1371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eneficio / Cos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lución: Calcular incrementalment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6933960" cy="863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82" name=""/>
          <p:cNvSpPr/>
          <p:nvPr/>
        </p:nvSpPr>
        <p:spPr>
          <a:xfrm>
            <a:off x="457200" y="3886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 es mejor que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Rentabilidad que entrega el mejor uso alternativo al capital empleado en el proyec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os inversionistas son “aversos al riesgo”, por lo que buscan una compensación al asumir mayor riesg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Entonces, el costo de oportunidad relevante para una inversión, es la rentabilidad que ofrece el capital invertido en el mejor uso alternativo, para el mismo nivel de riesg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IV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l IVAN es una variación del índice de rentabilidad, que mide el valor presente del proyecto por unidad de inversió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380988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e aceptan los proyectos con IVAN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i se utiliza correctamente, es equivalente al 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Puede conducir a errores cuando estamos frente a proyectos excluy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374200" y="290988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VA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94360" y="26668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3124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497480" y="32767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641560" y="289548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 IR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Lucida Sans"/>
              </a:rPr>
              <a:t>Rentabilidad que entrega el mejor uso alternativo al capital empleado en el proyecto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os inversionistas son “aversos al riesgo”, por lo que buscan una compensación al asumir mayor riesg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Entonces, el costo de oportunidad relevante para una inversión, es la rentabilidad que ofrece el capital invertido en el mejor uso alternativo, para el mismo nivel de riesg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"/>
              </a:rPr>
              <a:t>Rentabilidad que entrega el mejor uso alternativo al capital empleado en el proyecto.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Los inversionistas son “aversos al riesgo”, por lo que buscan una compensación al asumir mayor riesg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Entonces, el costo de oportunidad relevante para una inversión, es la rentabilidad que ofrece el capital invertido en el mejor uso alternativo, </a:t>
            </a:r>
            <a:r>
              <a:rPr b="1" lang="es-ES" sz="4800" spc="-1" strike="noStrike">
                <a:solidFill>
                  <a:srgbClr val="ff3300"/>
                </a:solidFill>
                <a:latin typeface="Lucida Sans"/>
              </a:rPr>
              <a:t>para el mismo nivel de riesgo.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2895480"/>
            <a:ext cx="7620120" cy="30481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pósito a plazo en un banco en U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yecto miner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ienen distintos riesgos, por lo que la rentabilidad exigida para cada uno es distint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l mercado indica cual es la rentabilidad exigible para cada nivel de riesg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Existe un precio del riesgo que determina el mercad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dicadores de Evaluación de Inversion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Índices que ayudan a determinar si un proyecto es o no conveniente para un inversionist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ermiten además el jerarquizar proyectos y optimizar decisiones del proyecto (ubicación, tecnología, momento, etc.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 variables necesarios son: Flujos de caja, tasa de descuento y horizonte de evaluación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</cp:lastModifiedBy>
  <dcterms:modified xsi:type="dcterms:W3CDTF">2006-04-17T04:50:42Z</dcterms:modified>
  <cp:revision>52</cp:revision>
  <dc:subject/>
  <dc:title>Diapositiva 1</dc:title>
</cp:coreProperties>
</file>