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42D-22AB-4643-84E0-881343A7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108-9007-44F2-AE96-CCA20309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189-FB84-46A7-948C-49C5DA90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B20-EC1E-423A-BD16-BE3D8BB4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0EC9-38E8-4203-82D1-2A8B721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08F2-906C-4B95-8993-07CB74A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30F5-077E-481C-94E5-53342CE7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389-31F9-46D5-9DC6-03E80D8A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C7FD-897A-4247-9064-3B7E16A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EDC-A36F-49D9-A63C-B7FD31A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A59C-A320-465F-AC78-0DF4620B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B2F-FC0E-4FB0-BE85-C3D68865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3021-0350-4D3E-9137-72CA6A9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C777-19AD-46FB-93E5-5A8EE56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4ED5-7E72-4085-A808-C6AE2C1C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363A-1A97-49B1-9B7A-A28C3EE7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D29C-61C2-43DC-A637-BA9DA057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7000-D0F8-4C31-945C-B12DCD26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62C3-B4D7-46B7-9532-D0E3BC52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E64F-FBF2-459E-813B-83BCFC5A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8130-2BB6-406D-B931-68AFE37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3054-E5E5-4FE3-8AE6-98FA8EF5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F1E-94B3-4DB9-937B-12572A0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2E15-383E-440E-876C-BF67FEE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D0D6-B852-438B-AA4F-E7E70AC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D489-12DC-4B85-81FE-E638688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036C-7F67-49BA-876B-680B89E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044E-F4A3-4C62-BD34-44066AE0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9070-213F-419A-8DA5-2BB2EE97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E0F6-5426-49EA-8AD7-E057188A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97CF-3316-4939-97A7-02BC73A8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3C6C-3464-45A9-BBAB-02E42AC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F9A1-BA7C-4E64-B3D6-C1753ECE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CC3-D083-4897-8832-68DE2D61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EEAA5-45EC-452B-988F-86F55DB5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9175-88C1-4CC9-BCE8-9B84F64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36E9-2BA7-4315-BE00-1AB95909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0166-0617-45AA-9D29-E9A2F39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A6FC-5CB3-400D-9C77-17C2D323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247F-02D7-4FD9-A64B-CC31CBD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E6CD-8D92-476E-953D-ED2AB08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5DBD-E9D6-40DC-9311-B967F2C2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7CB7-BBDB-49CA-8ED2-42ABC75F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03BC-804F-4F4D-9FC4-7C80B0C1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B71-BADB-4103-87EF-F8F5011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3B90-EBD4-4A45-923C-1D9C82D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4388-8659-4A42-AE2A-A36C3D90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A2CA-20A3-41FC-ACE1-EBBA2E8F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29002-449E-4786-8381-B39F71F3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4174-8151-4B6F-928E-FEEAE37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FDAD-304A-4AD9-B2DF-70EEB62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8F30-AD4A-47AA-BECC-1A8717A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F9CD2-890D-470F-BD21-606D57A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75C9-0295-4D9B-8E1F-AEED3E6F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E78F-1C3E-4801-B627-66858919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8EE-0638-4A5C-9E95-4F825BF5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76ABF-853C-4A8C-A686-40A58C4F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68A-AA9F-4EC6-BE82-0423509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5ED-37D4-4557-8A9E-19E4FCB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93D-D5DB-4C26-A8B4-A480E0F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BC6-739F-4376-94EB-FD1CAFB20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81B-960F-4A0E-B62E-4F95F2773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DF9-8B2D-4A55-B1A0-C55559E5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CE9C-8C7C-4C97-86E9-F7131EF35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rrando@santanderinvestment.cl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800" spc="-1" strike="noStrike">
                <a:solidFill>
                  <a:srgbClr val="000000"/>
                </a:solidFill>
                <a:latin typeface="Arial Black"/>
              </a:rPr>
              <a:t>IN42A-3</a:t>
            </a:r>
            <a:endParaRPr b="0" lang="en-US" sz="10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rancisco J. Errandone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errando@santanderinvestment.c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l 2006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PN: Valor presente ne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R: Tasa interna de retorn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C: Período de recuperación de capita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CM: Rentabilidad contable medi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: Índice de rentabil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A: Valor económico agreg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UE: Benefici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UE: Cost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e el aporte económico de un proyecto a sus inversionistas, reflejando el aumento o disminución de la riqueza de és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tros nombres: Valor actual neto (VAN), Valor neto descontado (VND), Beneficio neto actual (BNA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600200"/>
          <a:ext cx="60958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60958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4800600"/>
            <a:ext cx="1752480" cy="838080"/>
          </a:xfrm>
          <a:prstGeom prst="right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419720"/>
            <a:ext cx="64008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 de los flujos de caja y de la tasa de descuento para cada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r lo tanto: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PN es el excedente que queda para el (los) inversionistas, después de haber recuperado la inversión y el costo de oportunidad de los recursos utilizados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305920" cy="4267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riterio de 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g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=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fe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l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86680" cy="35906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333440" y="5334120"/>
            <a:ext cx="6477120" cy="761760"/>
            <a:chOff x="1333440" y="5334120"/>
            <a:chExt cx="6477120" cy="761760"/>
          </a:xfrm>
        </p:grpSpPr>
        <p:sp>
          <p:nvSpPr>
            <p:cNvPr id="252" name=""/>
            <p:cNvSpPr/>
            <p:nvPr/>
          </p:nvSpPr>
          <p:spPr>
            <a:xfrm>
              <a:off x="1333440" y="5334120"/>
              <a:ext cx="6477120" cy="761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Tasa de descuento  </a:t>
              </a:r>
              <a:r>
                <a:rPr b="0" lang="es-E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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       VP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8360" y="5410080"/>
              <a:ext cx="304560" cy="60984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285960" y="54100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racterísticas fundamentale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ácil aplicación (en la teoría…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conoce el valor temporal del din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pende únicamente del flujo de caja y el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ropiedad aditiva: VPN(A+B)=VPN(A)+VPN(B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ermite hacer ranking de pro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Considera riesgo y tiemp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94320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5880" y="46483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sólo con beneficios, también con costos o gasto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ando hay 2 o + alternativas de proyecto </a:t>
            </a: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mutuamente excluyente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y en las cuales sólo se conocen los gastos, también se ocupa el VP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i la tasa de descto. = 20%, dadas las alternativas de inversión A, B y C, seleccionar la más conveni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denar ascendentemente las alternativas de invers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sacan las diferencias entre la primera alternativa y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el VPN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la primera alternativa es mejor, de lo contrario se elije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mejor de las dos se compara con la siguiente …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que tomar la misma base de tiempo para todos los proyect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Arial Black"/>
              </a:rPr>
              <a:t>Indicadores</a:t>
            </a:r>
            <a:endParaRPr b="0" lang="en-US" sz="6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den: A – B –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compara A co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24720" cy="176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7315200" y="54100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4114800"/>
            <a:ext cx="2741400" cy="1905120"/>
            <a:chOff x="4572000" y="4114800"/>
            <a:chExt cx="2741400" cy="1905120"/>
          </a:xfrm>
        </p:grpSpPr>
        <p:sp>
          <p:nvSpPr>
            <p:cNvPr id="272" name=""/>
            <p:cNvSpPr/>
            <p:nvPr/>
          </p:nvSpPr>
          <p:spPr>
            <a:xfrm>
              <a:off x="4572000" y="41148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739400">
              <a:off x="6324120" y="48769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comparamos A con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tonces, la mejor alternativa es la 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7524720" cy="1761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315200" y="38098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0" y="2514600"/>
            <a:ext cx="2741400" cy="1905120"/>
            <a:chOff x="4572000" y="2514600"/>
            <a:chExt cx="2741400" cy="1905120"/>
          </a:xfrm>
        </p:grpSpPr>
        <p:sp>
          <p:nvSpPr>
            <p:cNvPr id="279" name=""/>
            <p:cNvSpPr/>
            <p:nvPr/>
          </p:nvSpPr>
          <p:spPr>
            <a:xfrm>
              <a:off x="4572000" y="25146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9400">
              <a:off x="6324120" y="32767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rata de medir la rentabilidad del proyecto, representando una medida de la rentabilidad media intrínsic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a TIR es la tasa que hace que el VPN=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19720"/>
            <a:ext cx="838188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la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eptan los proyectos en los que la TIR es mayor que l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 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nking de proyectos: TIR más alta a TIR más baja (sólo si los proyectos tienen igual riesgo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sentido sólo cuando se evalúa un proyecto puro, sin financiami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múltiples problemas, aunque es más “fácil” de “entender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467480" cy="427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19720" cy="4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yecto minero, que requiere inversión de 60. El primer año generará un flujo de caja de 155, en el segundo año, la mina se queda sin reservas y hay que invertir 100 más para poder volver a produci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Dos soluciones: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33% y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47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 Puede haber más de una TI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ando un proyecto es simple (un solo cambio de signo) habrá una TI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hay dos o más cambios de signo, pueden existir varias tasas, en las que el VPN=0, y el indicador pierde senti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proyectos en los que no existe la TIR, por ejemplo si todos los flujos son positiv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oyectos con distinta vida útil. La TIR no permite comparar proyectos con distinta vida útil, aún cuando la inversión sea igua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na forma de corregir el problema es calcular la TIR ajustada, suponiendo que los flujos se reinvierten a la tasa de descu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rma de solucionarlo: Reinvertir flujos hasta que queden con igual horizonte tempo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IR ajustad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867640" cy="78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8001000" cy="988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81680" y="502920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13372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67480" y="2895480"/>
            <a:ext cx="76320" cy="1905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ndicadores de Evalu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ndicadores de evaluación de proyectos son índices que nos ayudan a determinar si un proyecto es o no conveniente para un inversioni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jerarquizar (ordenar) los proyectos de una cartera de invers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optimizar distintas decisiones relevantes del proyecto (ubicación, tecnología, momento óptimo para invertir o abandonar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variables necesarias son: los flujos de caja del proyecto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la tasa de descuento o costo de oportunidad del capital (r), y el horizonte de evaluación (n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estar o endeudar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 Costo de oportunidad varía con el tiemp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4 Proyectos mutuamente excluyentes: Independient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1143000"/>
                <a:gridCol w="3276720"/>
                <a:gridCol w="3809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124080" y="48006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B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2767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A = 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195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8620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029200" y="3504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907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800600"/>
            <a:ext cx="167616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2514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860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281952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905120"/>
            <a:ext cx="1809720" cy="3373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905120"/>
            <a:ext cx="5127480" cy="3409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495680"/>
            <a:ext cx="16765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Muy cercana al VPN, generalmente (</a:t>
            </a: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no siempre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), se llega a conclusiones similar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Fácil de entender y comunica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No funciona con flujos de caja no convencion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uede llegar a conclusiones equivocadas al comparar proyectos independien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También conocido como Payback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Algunas empresas requieren que la inversión se recupere en un período determin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l PRC se obtiene contando el número de períodos que toma igualar los flujos de caja acumulad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el PRC es menor que el máximo período definido por la empresa, entonces se acept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simple y permite una aproximación de riesgo (menor PRC, menor riesg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sevntaja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toma en cuenta el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rbitr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e ser usado sólo como indicador secun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 mejorar usando flujos descontados, pero sus principales defectos permanec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8229600" cy="323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178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VPN @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13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5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41.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justa por la incertidumbre de los flujos más leja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do para proyectos cotidianos, muy pequeñ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$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ujos de caj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lujo de caja: Pago neto, líquido , en caja, en un determinado período, que recibe el inversionista para el cual se evalú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 términos simples son los pagos recibidos por las ventas, menos los costos de producir el bien o el servicio (+ impuestos +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estructura de los flujos de caja se estudia en próximamente en el curs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 desconta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ncluye el valor temporal del $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No acepta proyectos con VPN nega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uede rechazar proyectos con VPN posi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complicado (Similar al VPN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 Conviene evaluar por el VP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ociente entre utilidad contable promedio e inversión promedi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onsidera el valor temporal del dinero (ocupa promedi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basa en contabilidad y no en flujo de caj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 da mucha importancia a flujos dist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lmente se compara con una medida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2057400" y="5181480"/>
            <a:ext cx="70866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038480"/>
            <a:ext cx="1218960" cy="914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1676520"/>
            <a:ext cx="2895480" cy="4343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CM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0/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=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calcul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información que necesita es muy fácil de consegui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es realmente una tasa de retor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 una tasa de comparación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basa en valores contables y no de mercado o flujos de caj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mbién conocida como IR: índice de rentabilid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ceptan proyectos con IR &gt; 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ilar al VPN, puede llevar a error en proyectos excluyent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724280" y="2130480"/>
          <a:ext cx="4038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0480"/>
                    <a:ext cx="4038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mbos proyectos tiene buenos IR pero si son mutuamente excluyentes, debemos optar por el proyecto B que tiene mayor VAN, pero de acuerdo al IR habría que hacer el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ución: Calcular incrementalm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933960" cy="86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2" name=""/>
          <p:cNvSpPr/>
          <p:nvPr/>
        </p:nvSpPr>
        <p:spPr>
          <a:xfrm>
            <a:off x="45720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 es mejor qu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V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IVAN es una variación del índice de rentabilidad, que mide el valor presente del proyecto por unidad de i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ceptan los proyectos con IVA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 se utiliza correctamente, es equivalente a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uede conducir a errores cuando estamos frente a proyectos excl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4200" y="29098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436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7480" y="3276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1560" y="28954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 IR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</a:t>
            </a:r>
            <a:r>
              <a:rPr b="1" lang="es-ES" sz="4800" spc="-1" strike="noStrike">
                <a:solidFill>
                  <a:srgbClr val="ff3300"/>
                </a:solidFill>
                <a:latin typeface="Lucida Sans"/>
              </a:rPr>
              <a:t>para el mismo nivel de riesgo.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895480"/>
            <a:ext cx="762012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pósito a plazo en un banco en U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yecto m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enen distintos riesgos, por lo que la rentabilidad exigida para cada uno es distin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mercado indica cual es la rentabilidad exigible para cada nivel de riesg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xiste un precio del riesgo que determina el merc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Índices que ayudan a determinar si un proyecto es o no conveniente para un inversionis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miten además el jerarquizar proyectos y optimizar decisiones del proyecto (ubicación, tecnología, momento, etc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variables necesarios son: Flujos de caja, tasa de descuento y horizonte de evaluac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4-17T04:50:42Z</dcterms:modified>
  <cp:revision>52</cp:revision>
  <dc:subject/>
  <dc:title>Diapositiva 1</dc:title>
</cp:coreProperties>
</file>