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461-B8D6-491B-8137-DDFA5AED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BEC-5383-421D-B76D-3D26BFD1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7BA-D447-454A-818C-97561A63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906-78FB-406B-A1F9-589497A8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FFB3-C958-48A4-B1DB-E3B309F3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C0DA-1692-4B09-B653-788E7775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26C2-11CC-4C75-97D8-D880CF5C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6B46-7ACF-4CD1-AD20-576C5D0E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F857-3301-4F21-8D2D-4CED77C4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5737-53B1-4946-8AAC-471AB641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B7BA-7A79-4582-8C2B-188C732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40-68AD-4645-B923-591D31D5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0A97-3899-436E-9E93-E78F8F31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1A3C-2514-46A5-9ECA-781B334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05F3-77D9-402A-A732-68273020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AF09-FCE7-4C5B-A6F9-0F2A0F96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8C62-AF94-4EF5-9A6B-23C2199B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395D-A567-49B4-8297-6D20E893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97A4-E1FA-4D96-BA88-8702CA67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6E21-749A-4AE9-B9AF-491C63AB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AC5D-9BE6-4BD4-BF3D-D79CBB05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336C-627A-4ECF-9898-130D08C9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604-AEC5-4CF0-B198-245A2F4A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B402-45F4-4F1B-B922-2658E86D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B920-8E2A-41F3-8C21-C39BB9B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EC38-8DAF-4242-BBA2-B721E678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B1F9-E68B-4622-8C85-4313910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9071-3DB9-4644-A20F-384FB44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D42E-129D-47B8-99DB-E04805AD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AF2A-3560-4304-8C30-F35E49B9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EF8B-C8A3-4ABF-B6DA-39544142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1DCF4-9906-48FE-985B-51C40E7B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B450-15F7-42AD-97DB-E737E75C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13D-C7FA-4490-BE27-66A5D3C2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F96C-A456-4373-BDB0-49FABBEB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AF57-EEFE-4D2D-AC15-10813C91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B235-5A04-44A2-BAE2-0F4F907C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3819-FBDE-4C80-92DA-4190EC8E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065B-9052-4F26-847F-65A6AF4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7CC2-C57D-4CDF-9D70-05824BCB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0532-42B7-4449-AEE7-EE56AD9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33AB-810A-43D9-868D-80092815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30CD-E43C-4089-9ECC-7FB8E814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50363-2AA0-4CCA-874C-414AB5FE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E34-4538-4CE3-BF26-8EC9C372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72D6-7FAA-4BC0-B77D-F003984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72DBE-A382-44D5-8BB5-C0612D68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F79B8-0382-4B3D-8D90-B1E9C24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612A0-E3B0-4DCA-8EA3-A81FFF3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48D8-7E1D-4628-91D4-921C69DF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9429-3CA4-49F3-8F55-58F180CB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1A6CF-A586-481C-9C8C-A630504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C0DDA-0FE7-490C-8C93-F48D87BC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91B0-08F2-4839-98B5-BF3A837F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E686-D699-4E3F-8426-A0FDB882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D03-6DA3-4A1C-9CB1-DEAD9951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7E625-66FC-464C-A973-56B05EE8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223-C902-4B41-8EED-BFF5FAE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010-982F-45C8-80CF-AFE0B4A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112-B0FB-4B17-8D26-94A0DE7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B22F-0660-4930-8EFD-289591D8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8F5C-98F8-4A02-987C-D371B5513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C0D4-B73A-4963-98CB-8E9AE9B3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135A-86DB-42CC-8A17-D0CEF2D38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rrando@santanderinvestment.cl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800" spc="-1" strike="noStrike">
                <a:solidFill>
                  <a:srgbClr val="000000"/>
                </a:solidFill>
                <a:latin typeface="Arial Black"/>
              </a:rPr>
              <a:t>IN42A-3</a:t>
            </a:r>
            <a:endParaRPr b="0" lang="en-US" sz="10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rancisco J. Errandone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ferrando@santanderinvestment.c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l 2006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PN: Valor presente ne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R: Tasa interna de retorn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C: Período de recuperación de capita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CM: Rentabilidad contable medi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: Índice de rentabil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VA: Valor económico agreg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UE: Benefici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UE: Cost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de el aporte económico de un proyecto a sus inversionistas, reflejando el aumento o disminución de la riqueza de és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tros nombres: Valor actual neto (VAN), Valor neto descontado (VND), Beneficio neto actual (BNA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600200"/>
          <a:ext cx="609588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609588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4800600"/>
            <a:ext cx="1752480" cy="838080"/>
          </a:xfrm>
          <a:prstGeom prst="right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419720"/>
            <a:ext cx="64008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 de los flujos de caja y de la tasa de descuento para cada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r lo tanto: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PN es el excedente que queda para el (los) inversionistas, después de haber recuperado la inversión y el costo de oportunidad de los recursos utilizados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305920" cy="42670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riterio de 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g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=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fe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l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286680" cy="35906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333440" y="5334120"/>
            <a:ext cx="6477120" cy="761760"/>
            <a:chOff x="1333440" y="5334120"/>
            <a:chExt cx="6477120" cy="761760"/>
          </a:xfrm>
        </p:grpSpPr>
        <p:sp>
          <p:nvSpPr>
            <p:cNvPr id="252" name=""/>
            <p:cNvSpPr/>
            <p:nvPr/>
          </p:nvSpPr>
          <p:spPr>
            <a:xfrm>
              <a:off x="1333440" y="5334120"/>
              <a:ext cx="6477120" cy="761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Tasa de descuento  </a:t>
              </a:r>
              <a:r>
                <a:rPr b="0" lang="es-E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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       VP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8360" y="5410080"/>
              <a:ext cx="304560" cy="609840"/>
            </a:xfrm>
            <a:prstGeom prst="upArrow">
              <a:avLst>
                <a:gd name="adj1" fmla="val 50000"/>
                <a:gd name="adj2" fmla="val 5005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285960" y="5410080"/>
              <a:ext cx="304920" cy="6098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racterísticas fundamentale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ácil aplicación (en la teoría…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conoce el valor temporal del din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pende únicamente del flujo de caja y el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ropiedad aditiva: VPN(A+B)=VPN(A)+VPN(B)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ermite hacer ranking de pro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Considera riesgo y tiemp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94320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5880" y="46483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sólo con beneficios, también con costos o gasto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uando hay 2 o + alternativas de proyecto </a:t>
            </a: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mutuamente excluyente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y en las cuales sólo se conocen los gastos, también se ocupa el VP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i la tasa de descto. = 20%, dadas las alternativas de inversión A, B y C, seleccionar la más conveni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denar ascendentemente las alternativas de invers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sacan las diferencias entre la primera alternativa y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el VPN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la primera alternativa es mejor, de lo contrario se elije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mejor de las dos se compara con la siguiente …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que tomar la misma base de tiempo para todos los proyect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Arial Black"/>
              </a:rPr>
              <a:t>Indicadores</a:t>
            </a:r>
            <a:endParaRPr b="0" lang="en-US" sz="6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den: A – B – 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compara A co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24720" cy="176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7315200" y="54100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4114800"/>
            <a:ext cx="2741400" cy="1905120"/>
            <a:chOff x="4572000" y="4114800"/>
            <a:chExt cx="2741400" cy="1905120"/>
          </a:xfrm>
        </p:grpSpPr>
        <p:sp>
          <p:nvSpPr>
            <p:cNvPr id="272" name=""/>
            <p:cNvSpPr/>
            <p:nvPr/>
          </p:nvSpPr>
          <p:spPr>
            <a:xfrm>
              <a:off x="4572000" y="41148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739400">
              <a:off x="6324120" y="48769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comparamos A con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tonces, la mejor alternativa es la 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9640" y="2548080"/>
            <a:ext cx="7524720" cy="1761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315200" y="38098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0" y="2514600"/>
            <a:ext cx="2741400" cy="1905120"/>
            <a:chOff x="4572000" y="2514600"/>
            <a:chExt cx="2741400" cy="1905120"/>
          </a:xfrm>
        </p:grpSpPr>
        <p:sp>
          <p:nvSpPr>
            <p:cNvPr id="279" name=""/>
            <p:cNvSpPr/>
            <p:nvPr/>
          </p:nvSpPr>
          <p:spPr>
            <a:xfrm>
              <a:off x="4572000" y="25146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39400">
              <a:off x="6324120" y="32767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Trata de medir la rentabilidad del proyecto, representando una medida de la rentabilidad media intrínsic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a TIR es la tasa que hace que el VPN=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419720"/>
            <a:ext cx="838188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la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eptan los proyectos en los que la TIR es mayor que l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 &g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nking de proyectos: TIR más alta a TIR más baja (sólo si los proyectos tienen igual riesgo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sentido sólo cuando se evalúa un proyecto puro, sin financiami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múltiples problemas, aunque es más “fácil” de “entender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467480" cy="427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419720" cy="4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yecto minero, que requiere inversión de 60. El primer año generará un flujo de caja de 155, en el segundo año, la mina se queda sin reservas y hay que invertir 100 más para poder volver a produci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Dos soluciones: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33% y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47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 Puede haber más de una TI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ando un proyecto es simple (un solo cambio de signo) habrá una TI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hay dos o más cambios de signo, pueden existir varias tasas, en las que el VPN=0, y el indicador pierde senti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proyectos en los que no existe la TIR, por ejemplo si todos los flujos son positiv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oyectos con distinta vida útil. La TIR no permite comparar proyectos con distinta vida útil, aún cuando la inversión sea igua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na forma de corregir el problema es calcular la TIR ajustada, suponiendo que los flujos se reinvierten a la tasa de descu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rma de solucionarlo: Reinvertir flujos hasta que queden con igual horizonte tempo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IR ajustad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867640" cy="78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8001000" cy="988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781680" y="502920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13372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67480" y="2895480"/>
            <a:ext cx="76320" cy="1905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ndicadores de Evalu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indicadores de evaluación de proyectos son índices que nos ayudan a determinar si un proyecto es o no conveniente para un inversionis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jerarquizar (ordenar) los proyectos de una cartera de invers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optimizar distintas decisiones relevantes del proyecto (ubicación, tecnología, momento óptimo para invertir o abandonar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variables necesarias son: los flujos de caja del proyecto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la tasa de descuento o costo de oportunidad del capital (r), y el horizonte de evaluación (n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estar o endeudar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 Costo de oportunidad varía con el tiemp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4 Proyectos mutuamente excluyentes: Independient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1143000"/>
                <a:gridCol w="3276720"/>
                <a:gridCol w="3809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124080" y="48006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B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2767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A = 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195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8620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029200" y="3504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9072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4800600"/>
            <a:ext cx="167616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2880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3000" y="25146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860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,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281952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905120"/>
            <a:ext cx="1809720" cy="3373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905120"/>
            <a:ext cx="5127480" cy="340992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495680"/>
            <a:ext cx="16765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Muy cercana al VPN, generalmente (</a:t>
            </a: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no siempre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), se llega a conclusiones similar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Fácil de entender y comunica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No funciona con flujos de caja no convencion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uede llegar a conclusiones equivocadas al comparar proyectos independien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También conocido como Payback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Algunas empresas requieren que la inversión se recupere en un período determin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l PRC se obtiene contando el número de períodos que toma igualar los flujos de caja acumulad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el PRC es menor que el máximo período definido por la empresa, entonces se acept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simple y permite una aproximación de riesgo (menor PRC, menor riesgo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sevntaja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toma en cuenta el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rbitr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be ser usado sólo como indicador secun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uede mejorar usando flujos descontados, pero sus principales defectos permanece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8229600" cy="323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178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VPN @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3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13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5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4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41.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Ajusta por la incertidumbre de los flujos más lejan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do para proyectos cotidianos, muy pequeñ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$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ujos de caj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lujo de caja: Pago neto, líquido , en caja, en un determinado período, que recibe el inversionista para el cual se evalú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 términos simples son los pagos recibidos por las ventas, menos los costos de producir el bien o el servicio (+ impuestos +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estructura de los flujos de caja se estudia en próximamente en el curs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 desconta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ncluye el valor temporal del $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No acepta proyectos con VPN negativ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Puede rechazar proyectos con VPN positiv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Cálculo complicado (Similar al VPN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 Conviene evaluar por el VP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ociente entre utilidad contable promedio e inversión promedi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considera el valor temporal del dinero (ocupa promedi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basa en contabilidad y no en flujo de caj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 da mucha importancia a flujos dist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lmente se compara con una medida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2057400" y="5181480"/>
            <a:ext cx="70866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038480"/>
            <a:ext cx="1218960" cy="914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1676520"/>
            <a:ext cx="2895480" cy="4343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CM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0/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=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calcul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La información que necesita es muy fácil de consegui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No es realmente una tasa de retor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 una tasa de comparación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 basa en valores contables y no de mercado o flujos de caj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mbién conocida como IR: índice de rentabilid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ceptan proyectos con IR &gt; 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ilar al VPN, puede llevar a error en proyectos excluyent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724280" y="2130480"/>
          <a:ext cx="40388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0480"/>
                    <a:ext cx="40388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mbos proyectos tiene buenos IR pero si son mutuamente excluyentes, debemos optar por el proyecto B que tiene mayor VAN, pero de acuerdo al IR habría que hacer el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ución: Calcular incrementalm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933960" cy="86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82" name=""/>
          <p:cNvSpPr/>
          <p:nvPr/>
        </p:nvSpPr>
        <p:spPr>
          <a:xfrm>
            <a:off x="457200" y="3886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 es mejor qu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V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IVAN es una variación del índice de rentabilidad, que mide el valor presente del proyecto por unidad de invers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809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ceptan los proyectos con IVA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i se utiliza correctamente, es equivalente a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uede conducir a errores cuando estamos frente a proyectos excluy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4200" y="29098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4360" y="2666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7480" y="3276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41560" y="289548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 IR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</a:t>
            </a:r>
            <a:r>
              <a:rPr b="1" lang="es-ES" sz="4800" spc="-1" strike="noStrike">
                <a:solidFill>
                  <a:srgbClr val="ff3300"/>
                </a:solidFill>
                <a:latin typeface="Lucida Sans"/>
              </a:rPr>
              <a:t>para el mismo nivel de riesgo.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895480"/>
            <a:ext cx="762012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pósito a plazo en un banco en U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yecto m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enen distintos riesgos, por lo que la rentabilidad exigida para cada uno es distin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mercado indica cual es la rentabilidad exigible para cada nivel de riesg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Existe un precio del riesgo que determina el merc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Índices que ayudan a determinar si un proyecto es o no conveniente para un inversionis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miten además el jerarquizar proyectos y optimizar decisiones del proyecto (ubicación, tecnología, momento, etc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variables necesarios son: Flujos de caja, tasa de descuento y horizonte de evaluac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4-17T04:50:42Z</dcterms:modified>
  <cp:revision>52</cp:revision>
  <dc:subject/>
  <dc:title>Diapositiva 1</dc:title>
</cp:coreProperties>
</file>