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85E-0181-4191-9220-ED0EBA62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66E-F241-4440-BAB6-A614FE74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BCD-DF0B-493B-B0C8-67C0C202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717-4891-4753-8739-14875D8E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9B73-2565-4EAD-9D3C-8411B0F5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438D-ACBA-443A-B181-6C2024CE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3C1E-892F-4FC6-81EE-DE2AC804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5CED-7749-4CB4-8A1E-0FC58B71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DA5B-8AC0-4954-BEAA-7880AADF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3EF5-26EE-4A92-9838-622FE8F9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3415-103F-4FC0-9FAA-BBE9A1C8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585-01C2-474D-9DE1-172CDA30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39DB-5C89-4359-8381-36C12910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217E-EB40-48F2-AAFB-9602E5DB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5B97-40AC-461F-B788-88852E13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D169-C363-48FE-9AA7-103ACE95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C7D6-05EA-4D3C-B3B0-2EBB5659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173A-B231-4CD2-9304-69B3F2B1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42A7-252E-4A1B-AC66-CFD002CA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B882-06C4-4E92-BE73-1E3C7D15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1EBA-7F23-46B2-A03E-DAA8B9B2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0A7E-1C8A-4FD0-84FF-625E32E6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E18-8CF2-4B40-A7B9-10C796F7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F75F-74BA-4831-AC0B-1D44B00E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5093-5BE5-4F66-BB8D-C439DC0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5BAB-3BE8-4A88-9738-0346878C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BE83-CDA4-440F-B0A4-CC3DC5CA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2752-0627-480B-A344-2E21A4A0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E0D6-8E1B-4405-B6A7-0CF56F88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9E9B-5218-4BEA-B6A3-00CDF83B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FC00-6AF7-4C2A-814D-2DEB327F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54F0A-26DF-4697-AF30-6971E2F7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7B65-EFAE-4631-BA4D-54523333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22D-9523-43CD-B752-F0CA6040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2019-D89D-42C9-939A-7F3E7AFB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AC04-21BE-4C69-9A05-1885AB1F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7CD1-CAA6-4D07-AF7A-C76AB019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626C-7DB3-431C-B6CB-FCE3D4D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99BB-BFCC-4976-94F7-13D94B03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90073-9E0A-438B-B281-16EBCEB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5179-A6DF-424E-8E9F-7195A894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CBF78-94FD-49D2-9E05-58AAE615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F588-2B45-4BAF-8A7C-98F24180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6F0CC-E16C-4106-8D9E-377E0A5E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28E-4C3F-47C7-8154-6E3C2DAC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B2A63-81E3-4E3C-B46B-96C0D99B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14BFC-98CA-4C28-A89D-F5EA581E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A336-B603-43CC-BE74-519CA978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1774-260A-4677-B074-3C2DD9E6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0E4F-FF15-41C7-A28D-5253A480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88192-F76F-4825-980D-1F169201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BCE6A-A520-480A-8437-8BAA275A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F360-870D-4337-BC14-9614849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532E-B10D-4A6A-A2F9-838CABE3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227AE-72FE-4CFA-AC6E-99EA9266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162-AE30-4A53-B70A-21365596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5B928-BA5C-4BD3-B8A1-595BDC9B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777-BA65-4F30-92AA-7E017FA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CD4-7964-4FBD-871C-3F9C07D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D92-6862-4F41-9F4B-99FF3C5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4047-E781-445F-AD07-37C18AA64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B12E-D7EB-4F7B-A2E8-D8BCABC6D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BC0D-5CA2-457F-AB16-05175DE5E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902B-781E-4BDB-8DEA-A0D1C1B1B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reemplaz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idea es maximizar el BAUE (CAUE si los beneficios no dependen del ciclo de reemplazo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350532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209680" y="4038480"/>
          <a:ext cx="403884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038480"/>
                    <a:ext cx="40388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es de localiz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e hace una evaluación de VAN marginales, respecto a una situación base. Los principales factores determinantes so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edios y costos de transport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Cercanía a puertos (frutas), aeropuertos (flore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Disponibilidad y costo de la mano de obra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Empresas de consultoría, maquilas en Méxi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ercanía de proveedores y client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s de celulosa, madera, hierro, acero. Comercio en general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Factores ambient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 Ralco, Contaminación, Planta Valdivia de Arau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ostos y disponibilidad de terreno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Bombas de bencina, barrios industriale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Impuestos e incentivos leg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Restricción anillo Vespucio, Zonas franca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In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La ejecución de un proyecto no afecta en nada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Complementariamente 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positivamente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ustituto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negativamente a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in Restricción de capita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Independient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Realizar todos los proyectos con VAN positivo. Si sobra capital, invertirlo en su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Mutuamente excluyentes (sustitutos perfecto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Elegir el de mayor VA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Dependient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n A y B dos proyectos dependientes. Depende del cas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g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no se ejecuta B, entonces VAN(A)= 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son complementarios B no altera la decisión de realizar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se ejecuta B, entonces el VAN(A) sube a VAN(A/cB)&gt;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ara ver si se realiza B hay que analizar si VAN(B)+ VAN(A/cB)-VAN(A/s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Lucida Sans"/>
              </a:rPr>
              <a:t>VAN(A) &gt;0 y B sustitut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jecutar B disminuye el VAN(A) tal que VAN(A) sigue siendo positivo, entonces hay que sumar en B el efecto negativo (delta VAN(A)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negativo, sólo se hace A y no B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positivo, se hacen ambos proyect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B es tan negativo para A que hace que VAN(A) sea negativo, entonces se carga todo lo que se hubiera perdido en A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sustitut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el proyecto A no es rentable, con un sustituto será aún menos rentable, por lo que A es irrelevante para B y no se debe cargar a B la disminución del VAN de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Un caso distinto es si A ya se realizó, en este caso si hay que considerar la disminución del VAN A por realizar B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) Si aumento de VAN(A) no sea suficiente y VAN(A)&lt;0 después de realizado 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A no se iba a realizar y no se va a realizar, es irreleva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i) Si el VAN(A) sube tq’ VAN(A/c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e suman a B sólo el nuevo VAN positivo que obtiene A, ya que la alternativa es no realizar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"/>
              </a:rPr>
              <a:t>Con Restricción de capit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a proyectos independientes hay que seleccionar las inversiones tales que su VPN en conjunto sea el máxim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ución 1: Modelo Line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19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ea la siguiente cartera de proyec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3505320"/>
            <a:ext cx="8305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or modelo lineal y restricción =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son divisibles me conviene hacer el 20% de A, y el 100% de B y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no son divisibles, hago B y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086600" cy="977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studiar como maximizar el aporte a la riqueza de un proyecto en particular, seleccionando las mejores alternativas posibles en términos d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empo de inicio del proyec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amaño de la inver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mento de liquid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emplazo de maquinaria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caliz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lección de proyectos en una carter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valuación en tiempo continu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r = 10% , I max= 1.000 MM$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5867280" cy="258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1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J, G, I,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419720" cy="2816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562720" y="2438280"/>
            <a:ext cx="3047760" cy="1981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8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0% de 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86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8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35,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I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C, G, B, E, J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"/>
          <p:cNvSpPr/>
          <p:nvPr/>
        </p:nvSpPr>
        <p:spPr>
          <a:xfrm>
            <a:off x="5562720" y="2438280"/>
            <a:ext cx="3047760" cy="2057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23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5,2% de I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23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581,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4419360" cy="2692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638680" y="4724280"/>
            <a:ext cx="31244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los proyectos son divisibles conviene usar el I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no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y son divisible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5029200" cy="24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6248520" y="3886200"/>
            <a:ext cx="24382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gual al resultado obtenido por 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(invertir más de 100% en cada uno) y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487692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sólo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 una vez el proyecto y no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5562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v. Proyectos tiempo continu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905120"/>
            <a:ext cx="784872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2090880"/>
          <a:ext cx="609624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90880"/>
                    <a:ext cx="609624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Del ejemplo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 (repetible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inic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Proyecto no repetible, flujos dependen del tiempo calendari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i la inversión I=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, para todo t, con I independiente de t y n tiende a infinito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429000"/>
            <a:ext cx="7848720" cy="2590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mento óptimo para iniciar la inversión es donde los beneficios netos del primer año de operación son iguales al costo de capital de la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l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Postergar a 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g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Invertir e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uede ser que sea más rentable invertir en el futuro en un proyecto que hoy, principalmente por cambios en los fluj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etodología: Comparar el proyecto de postergar el proyecto con la situación base que es no posterga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gt;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posterg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lt; 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lo realizo ho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dura para siempre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343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tiene vida finita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193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maño óptimo de la invers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umenta la inversión siempre que el VAN marginal sea positiv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819520"/>
            <a:ext cx="7848720" cy="25905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3124080"/>
          <a:ext cx="403848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124080"/>
                    <a:ext cx="40384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liquid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utiliza el mismo concepto del VAN margina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n óptimo se alcanza cuando el delta VAN es c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388620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09680" y="4343400"/>
          <a:ext cx="3856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343400"/>
                    <a:ext cx="3856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 Javier Errandonea Terán</cp:lastModifiedBy>
  <dcterms:modified xsi:type="dcterms:W3CDTF">2006-05-08T21:06:01Z</dcterms:modified>
  <cp:revision>74</cp:revision>
  <dc:subject/>
  <dc:title>Diapositiva 1</dc:title>
</cp:coreProperties>
</file>