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43E-5CF3-494A-9175-3210317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462-3F9D-415A-9C2D-0015DAC9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12A-F9D0-4D92-A36B-5F270899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864-619D-45B4-9445-30641425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D4F2-E064-491E-ACB1-DCE6DB1F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5A7B-3433-4D4C-9050-AB3BA7D1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C8C-5538-47BB-878A-D1DDA2B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F510-8D8D-4A36-B119-9A2F34E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F5C-0615-41FE-9FE4-94E460EF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B4C6-BF93-4D9C-A1C9-CFFBE5CC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F77-660D-4269-9593-8DEF28D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ACB-6957-401A-8447-A8AF3ADA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614-75FD-402D-8D81-F3A7793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6A1F-EB8F-4E38-A2C2-09F6F05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04DB-7FC3-4F5D-AE01-1ED7E737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F082-9375-4B71-8D9B-6A07FA01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546-E05B-409F-9DC6-18974A66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F3E9-A362-4511-A9F7-E0391DC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E280-1EFF-4F4F-8DC5-33DAB688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64C5-532E-40B7-94FC-5DF0301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39DD-47D0-43AC-B805-B9361FC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744D-BC76-4BEE-AB2B-A4A7B127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09F-4C4E-4F59-A8C1-944B8960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0692-E4AF-427C-97E4-2A578AE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0934-B49A-4264-BFDA-5C7987B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FC1C-9E9D-47EC-961F-BC579F2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7313-381E-4F71-9593-490CF79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11AE-0894-4CA0-BCCF-00538B9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8AEF-4CF1-44FA-9E49-9E979825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178F-42C8-4F1F-8210-D363E87C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EBEB-D44D-4C7A-985A-94C3A710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F618-F5A9-4576-82F1-1B24127B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3C6F-9A1E-43A2-B690-0F2B34A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AE5-7113-481F-86E2-CD48AAB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BD76-92C8-4A1B-95DB-858DF261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5792-AA8F-4938-9835-B3DDAB5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0088-D53B-4050-BF2B-E8C834AF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C0A8-BDAA-45B9-86FC-E801472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8122-432B-43A7-898E-4DD9DFF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76C4-1F29-4274-B055-9B752B28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B1E4-7204-4777-8BBD-E8425A2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8E52-2E10-49D7-9C8F-B3DD1A9C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FF2E-6866-41B4-9DEA-592AE4DE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6F4C-108C-4105-9F9A-EC125079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A38-BD93-4814-90C3-6B3FF39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8BCE-323E-45AB-905F-DFF4E59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C0192-2C88-41DD-9E8B-DA869377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BD56-8973-4021-AC55-3FED713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9759-3BF2-43CF-A460-BB2EFCD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C7B6-7A6E-40D3-9A02-93A6D66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FF96-5B07-456F-8AD9-D211379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4C28-177C-45F3-B836-CBA99E2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8A40-908C-4918-A753-7AD7877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BC04-928E-41EC-BAB2-B67E7B3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D151-B1F4-49A2-89B7-B3BC1BF7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3A0-DDC0-4AE3-955B-BB0A38B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3FC4-859D-49CA-A590-9B4A04D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681-FF9C-4937-B281-D29F8EC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E3F-3BBB-4A65-9017-763E35A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B51-5B64-4B12-9BE4-5F77EBE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3E1-E08C-412F-B599-6B6D7DEE3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9F9-F303-45EF-9AB9-EA0D153E9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945-C10C-42F2-9158-2A8E4023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E004-058F-435B-80D4-A62F6101C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reemplaz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idea es maximizar el BAUE (CAUE si los beneficios no dependen del ciclo de reemplazo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50532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4038480"/>
          <a:ext cx="4038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38480"/>
                    <a:ext cx="4038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es de localiz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hace una evaluación de VAN marginales, respecto a una situación base. Los principales factores determinantes s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dios y costos de transport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ercanía a puertos (frutas), aeropuertos (flore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isponibilidad y costo de la mano de obr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Empresas de consultoría, maquilas en Méxi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ercanía de proveedores y client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s de celulosa, madera, hierro, acero. Comercio en general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Factores ambient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 Ralco, Contaminación, Planta Valdivia de Arau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stos y disponibilidad de terren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Bombas de bencina, barrios industriale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Impuestos e incentivos leg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stricción anillo Vespucio, Zonas franca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In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La ejecución de un proyecto no afecta en nada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Complementariamente 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positivamente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ustituto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negativamente a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in Restricción de capit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ndependient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Realizar todos los proyectos con VAN positivo. Si sobra capital, invertirlo en su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Mutuamente excluyentes (sustitutos perfecto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Elegir el de mayor VA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Dependient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n A y B dos proyectos dependientes. Depende del cas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g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no se ejecuta B, entonces VAN(A)= 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son complementarios B no altera la decisión de realizar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se ejecuta B, entonces el VAN(A) sube a VAN(A/cB)&gt;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ara ver si se realiza B hay que analizar si VAN(B)+ VAN(A/cB)-VAN(A/s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Lucida Sans"/>
              </a:rPr>
              <a:t>VAN(A) &gt;0 y B sustitut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jecutar B disminuye el VAN(A) tal que VAN(A) sigue siendo positivo, entonces hay que sumar en B el efecto negativo (delta VAN(A)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negativo, sólo se hace A y no B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positivo, se hacen ambos proye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B es tan negativo para A que hace que VAN(A) sea negativo, entonces se carga todo lo que se hubiera perdido en 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sustitut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el proyecto A no es rentable, con un sustituto será aún menos rentable, por lo que A es irrelevante para B y no se debe cargar a B la disminución del VAN de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Un caso distinto es si A ya se realizó, en este caso si hay que considerar la disminución del VAN A por realizar B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) Si aumento de VAN(A) no sea suficiente y VAN(A)&lt;0 después de realizado 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A no se iba a realizar y no se va a realizar, es irreleva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i) Si el VAN(A) sube tq’ VAN(A/c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e suman a B sólo el nuevo VAN positivo que obtiene A, ya que la alternativa es no realizar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"/>
              </a:rPr>
              <a:t>Con Restricción de capit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 proyectos independientes hay que seleccionar las inversiones tales que su VPN en conjunto sea el máxi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ución 1: Modelo Line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19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ea la siguiente cartera de proyec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5053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or modelo lineal y restricción =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son divisibles me conviene hacer el 20% de A, y el 100% de B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no son divisibles, hago B y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086600" cy="97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studiar como maximizar el aporte a la riqueza de un proyecto en particular, seleccionando las mejores alternativas posibles en términos d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empo de inicio del proyec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maño de la inver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mento de liquid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emplazo de maquinari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caliz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lección de proyectos en una carter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ción en tiempo continu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r = 10% , I max= 1.000 MM$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867280" cy="25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1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J, G, I,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419720" cy="2816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62720" y="2438280"/>
            <a:ext cx="3047760" cy="1981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8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0% de 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8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8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35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I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C, G, B, E, J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438280"/>
            <a:ext cx="3047760" cy="2057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23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5,2% de I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23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581,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4419360" cy="2692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8680" y="4724280"/>
            <a:ext cx="3124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los proyectos son divisibles conviene usar el I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no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y son divisible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502920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6248520" y="3886200"/>
            <a:ext cx="24382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gual al resultado obtenido por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(invertir más de 100% en cada uno) y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8769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sólo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 una vez el proyecto y no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5562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v. Proyectos tiempo continu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05120"/>
            <a:ext cx="784872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2090880"/>
          <a:ext cx="6096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90880"/>
                    <a:ext cx="6096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Del ejemplo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 (repetible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ini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Proyecto no repetible, flujos dependen del tiempo calendari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la inversión I=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, para todo t, con I independiente de t y n tiende a infinit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29000"/>
            <a:ext cx="784872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mento óptimo para iniciar la inversión es donde los beneficios netos del primer año de operación son iguales al costo de capital de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l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Postergar a 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g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Invertir e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uede ser que sea más rentable invertir en el futuro en un proyecto que hoy, principalmente por cambios en los fluj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etodología: Comparar el proyecto de postergar el proyecto con la situación base que es no posterga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gt;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posterg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lt; 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lo realizo ho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dura para siempre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343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tiene vida finita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193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maño óptimo de la invers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umenta la inversión siempre que el VAN marginal sea positiv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19520"/>
            <a:ext cx="784872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3124080"/>
          <a:ext cx="40384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liquid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utiliza el mismo concepto del VAN margina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n óptimo se alcanza cuando el delta VAN es c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88620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09680" y="4343400"/>
          <a:ext cx="3856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343400"/>
                    <a:ext cx="3856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 Javier Errandonea Terán</cp:lastModifiedBy>
  <dcterms:modified xsi:type="dcterms:W3CDTF">2006-05-08T21:06:01Z</dcterms:modified>
  <cp:revision>74</cp:revision>
  <dc:subject/>
  <dc:title>Diapositiva 1</dc:title>
</cp:coreProperties>
</file>