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519-A793-4EFE-AE1F-4269EFDD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AB2-9FC8-4C54-BBBA-070F5D80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DF1-30D5-4E96-92AF-938EFE1D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ED7-A584-420D-B0D6-7DA16599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DA6B-DDA1-4585-8F1D-C94FD053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6E6C-76F4-49F2-83E9-777E40DB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BBBD-D680-47FA-BE26-5CF5F5E8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C782-D1BB-4FCA-8F8D-38FD7DB5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AEA9-73DB-4F37-B0E4-F19458D6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76E6-CF24-4FE9-B8D8-4710C039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260B-3CA3-4DC4-A354-8A352B0D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8585-7CEB-4734-9ADC-4464F1E2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782E-BD16-4929-B033-E999E020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6386-0A16-4EBD-A154-448429D9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61B7-89E2-4E09-B5FD-4508E8B8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CCB3-2A08-4467-97E0-C9688425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D6F4-C767-4FE5-B236-E5998749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44D5E-117A-410D-A7B8-A6D39F43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BA3FC-D0BA-4705-BCB9-ECE0BD0E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6EA91-F1FD-4E03-BA7E-3FAFE490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A5E3-D73C-4580-8EBB-BC0C4B58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E587-F0B8-449C-9615-E08F2ABA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F23-9B0E-49F0-8412-8E4C7F80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49E9-2A2D-4005-947F-CCE07EE4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5B223-F895-4458-BA34-2F8E8E9E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1441-0BB8-4404-A033-C3570642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7B6D5-9D84-4129-9034-DCB25323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60A63-F73D-4690-B08E-E760854D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CB7FE-9995-488A-9745-90294DB8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5B51-701A-49BD-BA98-6012F218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2DA6F-7D2B-4E72-B00E-9001B29E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EECB1-756C-4CA2-B16F-BBDBCAB7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1031D-585A-4CF3-B089-C9DF98AB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388-9748-4C63-A260-B7742379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872FF-4A5E-4BE6-8F5B-FDC70C2D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6AF8D-EF43-425A-9726-842DDCAD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A566-B483-43C8-B5B3-10001862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43D35-4DF6-4A9C-81B1-2FD65726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9AB41-CC06-41A3-AD90-1C79594F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F0711-E21F-463F-9A84-2FAC0C3E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A385A-6BEB-4DDE-B8F5-6D21B710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A58A8-102B-4647-920C-9B7004AD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82410-CE5D-48BD-A828-87CC3531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6350B-77C1-4896-8D9E-8EDDB612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FA7-B113-40F9-ABC7-BFEB2122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43544-2FDE-4299-A09F-E712E94A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A7F5A-A41C-4383-BACF-B49B9B0D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8B905-8015-455E-B42D-7B85487C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8AC87-9656-4319-BE64-88266851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6C4F6-7D6B-4A8E-8156-3C332C7A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797E6-40E0-4D54-86FD-2BF7131D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1526D-EA1C-4B8C-A08C-09F0AB01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092D3-C6B6-4420-A759-C8501BF1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0A83C-00E8-4EC0-9601-0600AF0F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4186A-0B57-4B67-9381-BBE24632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046-3EEA-4A62-A6B7-D585E757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20655-E505-4715-9FCC-1B3A09D0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775-3354-4B7E-A7F9-90C2FACF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05C-2DA8-4F00-A8EA-557606E1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8B1-E2BF-4FF5-8361-592CAA04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3991-066B-4397-966A-1409FFA2C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E8C0-C8E3-4CFD-BCC6-5D89BD765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7FD1-38C4-45E6-B946-C7599C1F0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7C7B-8A43-48B6-8C7F-23CD4F07C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Optimización de proyectos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mento óptimo de reemplaz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idea es maximizar el BAUE (CAUE si los beneficios no dependen del ciclo de reemplazo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3505320"/>
            <a:ext cx="784872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209680" y="4038480"/>
          <a:ext cx="4038840" cy="6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038480"/>
                    <a:ext cx="40388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es de localiz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e hace una evaluación de VAN marginales, respecto a una situación base. Los principales factores determinantes son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Medios y costos de transporte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Cercanía a puertos (frutas), aeropuertos (flores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Disponibilidad y costo de la mano de obra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Empresas de consultoría, maquilas en México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Cercanía de proveedores y client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Plantas de celulosa, madera, hierro, acero. Comercio en general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Factores ambiental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Planta Ralco, Contaminación, Planta Valdivia de Arauco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Costos y disponibilidad de terreno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Bombas de bencina, barrios industriales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Impuestos e incentivos legal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Restricción anillo Vespucio, Zonas francas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rtera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Independientes: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La ejecución de un proyecto no afecta en nada los flujos del otr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Complementariamente dependientes: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Cuando la ejecución de un proyecto afecta positivamente los flujos del otr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Sustitutos: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Cuando la ejecución de un proyecto afecta negativamente a otr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rtera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Sin Restricción de capita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Independiente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Realizar todos los proyectos con VAN positivo. Si sobra capital, invertirlo en su costo de oportun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Mutuamente excluyentes (sustitutos perfecto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Elegir el de mayor VA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Dependientes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an A y B dos proyectos dependientes. Depende del cas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VAN(A) &gt;0 y B complementari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no se ejecuta B, entonces VAN(A)= VAN(A/sB) &gt; 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Como son complementarios B no altera la decisión de realizar 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se ejecuta B, entonces el VAN(A) sube a VAN(A/cB)&gt;VAN(A/sB) &gt; 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Para ver si se realiza B hay que analizar si VAN(B)+ VAN(A/cB)-VAN(A/sB)&gt;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Lucida Sans"/>
              </a:rPr>
              <a:t>VAN(A) &gt;0 y B sustitut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ejecutar B disminuye el VAN(A) tal que VAN(A) sigue siendo positivo, entonces hay que sumar en B el efecto negativo (delta VAN(A)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el VAN(B) menos la disminución de VAN(A) es negativo, sólo se hace A y no B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el VAN(B) menos la disminución de VAN(A) es positivo, se hacen ambos proyect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B es tan negativo para A que hace que VAN(A) sea negativo, entonces se carga todo lo que se hubiera perdido en A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VAN(A) &lt;0 y B sustitut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el proyecto A no es rentable, con un sustituto será aún menos rentable, por lo que A es irrelevante para B y no se debe cargar a B la disminución del VAN de 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Un caso distinto es si A ya se realizó, en este caso si hay que considerar la disminución del VAN A por realizar B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VAN(A) &lt;0 y B complementari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Lucida Sans"/>
              </a:rPr>
              <a:t>i) Si aumento de VAN(A) no sea suficiente y VAN(A)&lt;0 después de realizado 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Como A no se iba a realizar y no se va a realizar, es irreleva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Lucida Sans"/>
              </a:rPr>
              <a:t>ii) Si el VAN(A) sube tq’ VAN(A/cb)&gt;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e suman a B sólo el nuevo VAN positivo que obtiene A, ya que la alternativa es no realizar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rtera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Lucida Sans"/>
              </a:rPr>
              <a:t>Con Restricción de capital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ra proyectos independientes hay que seleccionar las inversiones tales que su VPN en conjunto sea el máxim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lución 1: Modelo Line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19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Sea la siguiente cartera de proyecto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3505320"/>
            <a:ext cx="8305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or modelo lineal y restricción =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los proyectos son divisibles me conviene hacer el 20% de A, y el 100% de B y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los proyectos no son divisibles, hago B y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7086600" cy="977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ción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studiar como maximizar el aporte a la riqueza de un proyecto en particular, seleccionando las mejores alternativas posibles en términos d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empo de inicio del proyect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amaño de la invers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mento de liquidac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emplazo de maquinaria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calizac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lección de proyectos en una carter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valuación en tiempo continu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r = 10% , I max= 1.000 MM$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5867280" cy="2583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1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¿VAN?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J, G, I,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4419720" cy="2816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562720" y="2438280"/>
            <a:ext cx="3047760" cy="1981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¿Qué pasa con los 80 MM$ que sobr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bles: Comprar 80% de E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686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iv: Invertir 80 al costo de oportunidad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635,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2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¿IVAN?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C, G, B, E, J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"/>
          <p:cNvSpPr/>
          <p:nvPr/>
        </p:nvSpPr>
        <p:spPr>
          <a:xfrm>
            <a:off x="5562720" y="2438280"/>
            <a:ext cx="3047760" cy="20574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¿Qué pasa con los 230 MM$ que sobr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bles: Comprar 85,2% de I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6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iv: Invertir 230 al costo de oportunidad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581,6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4419360" cy="2692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638680" y="4724280"/>
            <a:ext cx="3124440" cy="914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los proyectos son divisibles conviene usar el I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2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Modelo line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Si no puedo realizar m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ás de una vez el proyecto y son divisible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5029200" cy="243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6248520" y="3886200"/>
            <a:ext cx="24382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gual al resultado obtenido por I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3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Modelo line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Si puedo realizar m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ás de una vez el proyecto (invertir más de 100% en cada uno) y son divisibles: 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487692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3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Modelo line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Si puedo realizar sólo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 una vez el proyecto y no son divisibles: 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55627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v. Proyectos tiempo continu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905120"/>
            <a:ext cx="784872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3880" y="2090880"/>
          <a:ext cx="6096240" cy="35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90880"/>
                    <a:ext cx="609624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Del ejemplo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Momento óptimo de liquidació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Momento óptimo de liquidación (repetible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mento óptimo de inic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Proyecto no repetible, flujos dependen del tiempo calendari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i la inversión I=I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, para todo t, con I independiente de t y n tiende a infinito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3429000"/>
            <a:ext cx="7848720" cy="2590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omento óptimo para iniciar la inversión es donde los beneficios netos del primer año de operación son iguales al costo de capital de la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i 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&lt;I*r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Postergar a t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i 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&gt;I*r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Invertir en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Momento óptimo de inicio de proyec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uede ser que sea más rentable invertir en el futuro en un proyecto que hoy, principalmente por cambios en los flujo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Metodología: Comparar el proyecto de postergar el proyecto con la situación base que es no postergar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Si delta VAN &gt;0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posterg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Si delta VAN &lt; 0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lo realizo ho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Momento óptimo de inicio de proyec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Lucida Sans"/>
              </a:rPr>
              <a:t>Inversión dura para siempre y los beneficios son función del tiempo calendario, independiente de cuando se construye el proyecto.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 Ejemplo: Efectos de demand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a VAN hoy = VAN 0 y VAN postergar VAN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3434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Momento óptimo de inicio de proyec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Lucida Sans"/>
              </a:rPr>
              <a:t>Inversión tiene vida finita y los beneficios son función del tiempo calendario, independiente de cuando se construye el proyecto.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 Ejemplo: Efectos de demand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a VAN hoy = VAN 0 y VAN postergar VAN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41936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maño óptimo de la invers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aumenta la inversión siempre que el VAN marginal sea positiv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2819520"/>
            <a:ext cx="7848720" cy="25905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362320" y="3124080"/>
          <a:ext cx="403848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124080"/>
                    <a:ext cx="403848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mento óptimo de liquid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utiliza el mismo concepto del VAN margina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l n óptimo se alcanza cuando el delta VAN es cer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3886200"/>
            <a:ext cx="784872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09680" y="4343400"/>
          <a:ext cx="3856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343400"/>
                    <a:ext cx="3856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 Javier Errandonea Terán</cp:lastModifiedBy>
  <dcterms:modified xsi:type="dcterms:W3CDTF">2006-05-08T21:06:01Z</dcterms:modified>
  <cp:revision>74</cp:revision>
  <dc:subject/>
  <dc:title>Diapositiva 1</dc:title>
</cp:coreProperties>
</file>