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415F-3B62-468B-B9A9-448845C37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8AFE-7DC5-441D-99B8-8AD7E96C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20B3-7E0C-4AAC-9EF0-386CCBA09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8A02-105B-4F62-B96B-43DB86E65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A734-DB76-43F3-AF72-C459AA5A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984A-1A54-4A46-9C2A-9FFB5B3B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ADB9-C890-4841-BD4C-0D9F482A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1757-7F65-4638-A9AA-DC808119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9909-E373-4D90-9C97-A4C409CC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FFC8-088C-42D3-8749-9D041B24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7327-E69E-4E2D-9DA7-6DE4AF3A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9CBD-76C4-4040-A3AC-619F04FF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C901-62B7-4C08-9375-9A8994C1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815B-A598-43A7-B1AA-22CCD62F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C7D3-32B8-4747-833D-ED730870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114E-CD18-4CBF-B839-AAEC1026A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7212-37A1-461A-B594-99D9C066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CEFCC-9108-4169-A82E-C3DB0C08C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C5E4C-D10D-4607-943A-1E2E39A3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6D4E3-CC34-40FC-9151-AD94B75C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DC8F4-D9C9-41D2-883D-0BE9ABC3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7EFCA-7DD8-48CE-8944-74C43E6E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4141-FC63-4FF5-A7B5-CDD559EF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EBFC8-9370-4708-AB20-11BEA29D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3D922-0730-4D49-8390-85BD6ACE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B834E-0CD5-4C1E-BA63-88AF7570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7758E-144D-4963-A195-AD6B0AFA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066C5-AB2C-47F5-888B-CAFD5022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D64BA-BC96-4C40-A4FB-B5554C217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E3622-6496-43D5-8D9A-9D7598C2F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FB090-C61A-4337-B429-0EE9F8226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238A7-88C1-48B8-8F80-7D3F0DF6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14BD2-07E0-4906-9C53-84D672D1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8CBB-6AA8-4B9A-9C15-06B94E2F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35F3F-7D2B-403D-80A6-B1748463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BE055-FEA9-465D-BBFF-F9405F60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60E9C-46C4-44FF-BF36-C271CD9D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0F697-8922-443A-BEE4-7AC9F34E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220AA-669B-4E47-A73F-03EBC310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65A47-A2EC-4BD5-8A50-6FA3C0F3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48609-7221-4BDF-B027-1AA87AEA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39994-18C6-4837-A4B9-AF4246C82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AD204-F514-4922-837D-F77AD6BF6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DD7C9-8BB9-43D2-8ABF-AA3140EB3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FF87-09FA-46DD-9CA3-8ACE037A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3FAEE-5D07-44FD-8A3E-5D055E2B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F6922-3F8E-4DFD-93CE-DDB610F2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C7142-CD5C-45AA-ACBA-6161BD45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E5108-3E58-4180-974A-E18558FA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EA635-6F3E-4D7A-9CB5-D8E2B340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35E7D-EFB9-4649-981E-AC189462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07482-EAB5-4CCB-AFB3-094713E5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85FE1-D498-49AE-933C-E5CACC7C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B7B5E-A824-46DD-99E4-E6F19D15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751AB-EC8B-42E2-A374-9439DDEBE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E037-CA42-460B-9F84-EA632DC4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FA8C0-CA2C-48BA-9B06-799567F60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D177-5AFE-4F84-95F3-760D1CAB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CA3C-3781-4B5D-ADE2-520EFEB6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CD24-3FDF-4D70-83A1-4399F8C9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5E7D-C80F-4CFA-824F-6B04DFD37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1172-3BCD-4FC2-B108-967C2687C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28600" y="-360"/>
            <a:ext cx="0" cy="6248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624852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42A – 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yo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502A-56A8-45ED-A7F3-F04ABDA53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221D-2AB7-41F4-BE2D-9AB7D24B8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600" spc="-1" strike="noStrike">
                <a:solidFill>
                  <a:srgbClr val="000000"/>
                </a:solidFill>
                <a:latin typeface="Arial Black"/>
              </a:rPr>
              <a:t>Optimización de proyectos</a:t>
            </a:r>
            <a:endParaRPr b="0" lang="en-US" sz="5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mento óptimo de reemplaz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a idea es maximizar el BAUE (CAUE si los beneficios no dependen del ciclo de reemplazo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3505320"/>
            <a:ext cx="7848720" cy="1523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209680" y="4038480"/>
          <a:ext cx="4038840" cy="6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4038480"/>
                    <a:ext cx="403884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es de localiz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Se hace una evaluación de VAN marginales, respecto a una situación base. Los principales factores determinantes son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Medios y costos de transporte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"/>
              </a:rPr>
              <a:t>Cercanía a puertos (frutas), aeropuertos (flores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Disponibilidad y costo de la mano de obra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"/>
              </a:rPr>
              <a:t>Empresas de consultoría, maquilas en México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Cercanía de proveedores y cliente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"/>
              </a:rPr>
              <a:t>Plantas de celulosa, madera, hierro, acero. Comercio en general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Factores ambientale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"/>
              </a:rPr>
              <a:t>Planta Ralco, Contaminación, Planta Valdivia de Arauco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Costos y disponibilidad de terreno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"/>
              </a:rPr>
              <a:t>Bombas de bencina, barrios industriales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Impuestos e incentivos legale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"/>
              </a:rPr>
              <a:t>Restricción anillo Vespucio, Zonas francas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rtera de proyect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Lucida Sans"/>
              </a:rPr>
              <a:t>Independientes: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 La ejecución de un proyecto no afecta en nada los flujos del otro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Lucida Sans"/>
              </a:rPr>
              <a:t>Complementariamente dependientes: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 Cuando la ejecución de un proyecto afecta positivamente los flujos del otro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Lucida Sans"/>
              </a:rPr>
              <a:t>Sustitutos: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 Cuando la ejecución de un proyecto afecta negativamente a otro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rtera de proyect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Lucida Sans"/>
              </a:rPr>
              <a:t>Sin Restricción de capital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Independientes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 Realizar todos los proyectos con VAN positivo. Si sobra capital, invertirlo en su costo de oportunidad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Mutuamente excluyentes (sustitutos perfectos)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 Elegir el de mayor VAN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Dependientes: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an A y B dos proyectos dependientes. Depende del caso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Black"/>
              </a:rPr>
              <a:t>Cartera de proyectos: Sin restricción de capit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Lucida Sans"/>
              </a:rPr>
              <a:t>VAN(A) &gt;0 y B complementari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Si no se ejecuta B, entonces VAN(A)= VAN(A/sB) &gt; 0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Como son complementarios B no altera la decisión de realizar 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Si se ejecuta B, entonces el VAN(A) sube a VAN(A/cB)&gt;VAN(A/sB) &gt; 0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Para ver si se realiza B hay que analizar si VAN(B)+ VAN(A/cB)-VAN(A/sB)&gt;0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Black"/>
              </a:rPr>
              <a:t>Cartera de proyectos: Sin restricción de capit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Lucida Sans"/>
              </a:rPr>
              <a:t>VAN(A) &gt;0 y B sustituto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i ejecutar B disminuye el VAN(A) tal que VAN(A) sigue siendo positivo, entonces hay que sumar en B el efecto negativo (delta VAN(A)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i el VAN(B) menos la disminución de VAN(A) es negativo, sólo se hace A y no B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i el VAN(B) menos la disminución de VAN(A) es positivo, se hacen ambos proyecto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i B es tan negativo para A que hace que VAN(A) sea negativo, entonces se carga todo lo que se hubiera perdido en A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Black"/>
              </a:rPr>
              <a:t>Cartera de proyectos: Sin restricción de capit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Lucida Sans"/>
              </a:rPr>
              <a:t>VAN(A) &lt;0 y B sustitut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Si el proyecto A no es rentable, con un sustituto será aún menos rentable, por lo que A es irrelevante para B y no se debe cargar a B la disminución del VAN de 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Un caso distinto es si A ya se realizó, en este caso si hay que considerar la disminución del VAN A por realizar B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Black"/>
              </a:rPr>
              <a:t>Cartera de proyectos: Sin restricción de capit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Lucida Sans"/>
              </a:rPr>
              <a:t>VAN(A) &lt;0 y B complementari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Lucida Sans"/>
              </a:rPr>
              <a:t>i) Si aumento de VAN(A) no sea suficiente y VAN(A)&lt;0 después de realizado 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Como A no se iba a realizar y no se va a realizar, es irrelevante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Lucida Sans"/>
              </a:rPr>
              <a:t>ii) Si el VAN(A) sube tq’ VAN(A/cb)&gt;0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Se suman a B sólo el nuevo VAN positivo que obtiene A, ya que la alternativa es no realizar el proyect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rtera de proyect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Lucida Sans"/>
              </a:rPr>
              <a:t>Con Restricción de capital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ara proyectos independientes hay que seleccionar las inversiones tales que su VPN en conjunto sea el máxim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olución 1: Modelo Linea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048120" y="3962520"/>
            <a:ext cx="19191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Sea la siguiente cartera de proyecto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3505320"/>
            <a:ext cx="83059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Por modelo lineal y restricción = 1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Si los proyectos son divisibles me conviene hacer el 20% de A, y el 100% de B y 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Si los proyectos no son divisibles, hago B y 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7086600" cy="977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ción de proyect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studiar como maximizar el aporte a la riqueza de un proyecto en particular, seleccionando las mejores alternativas posibles en términos de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iempo de inicio del proyecto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amaño de la inversión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omento de liquidación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emplazo de maquinaria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ocalización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elección de proyectos en una carter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valuación en tiempo continuo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r = 10% , I max= 1.000 MM$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447920" y="2514600"/>
            <a:ext cx="5867280" cy="2583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Lucida Sans"/>
              </a:rPr>
              <a:t>Opción 1</a:t>
            </a: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: ¿VAN?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 J, G, I, C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4419720" cy="28162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562720" y="2438280"/>
            <a:ext cx="3047760" cy="198144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¿Qué pasa con los 80 MM$ que sobr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visibles: Comprar 80% de E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VAN=686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Div: Invertir 80 al costo de oportunidad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VAN=635,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Lucida Sans"/>
              </a:rPr>
              <a:t>Opción 2</a:t>
            </a: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: ¿IVAN?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 C, G, B, E, J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1" name=""/>
          <p:cNvSpPr/>
          <p:nvPr/>
        </p:nvSpPr>
        <p:spPr>
          <a:xfrm>
            <a:off x="5562720" y="2438280"/>
            <a:ext cx="3047760" cy="20574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¿Qué pasa con los 230 MM$ que sobr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visibles: Comprar 85,2% de I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VAN=6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Div: Invertir 230 al costo de oportunidad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VAN=581,6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4419360" cy="26924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5638680" y="4724280"/>
            <a:ext cx="3124440" cy="914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ando los proyectos son divisibles conviene usar el IV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Lucida Sans"/>
              </a:rPr>
              <a:t>Opción 2</a:t>
            </a: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: Modelo linea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"/>
              </a:rPr>
              <a:t>Si no puedo realizar m</a:t>
            </a: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ás de una vez el proyecto y son divisibles: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838080" y="3657600"/>
            <a:ext cx="5029200" cy="2433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87" name=""/>
          <p:cNvSpPr/>
          <p:nvPr/>
        </p:nvSpPr>
        <p:spPr>
          <a:xfrm>
            <a:off x="6248520" y="3886200"/>
            <a:ext cx="2438280" cy="6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gual al resultado obtenido por I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Lucida Sans"/>
              </a:rPr>
              <a:t>Opción 3</a:t>
            </a: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: Modelo linea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"/>
              </a:rPr>
              <a:t>Si puedo realizar m</a:t>
            </a: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ás de una vez el proyecto (invertir más de 100% en cada uno) y son divisibles: 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685800" y="3581280"/>
            <a:ext cx="4876920" cy="23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Lucida Sans"/>
              </a:rPr>
              <a:t>Opción 3</a:t>
            </a: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: Modelo linea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"/>
              </a:rPr>
              <a:t>Si puedo realizar sólo</a:t>
            </a: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 una vez el proyecto y no son divisibles: 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55627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v. Proyectos tiempo continu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5" name=""/>
          <p:cNvSpPr/>
          <p:nvPr/>
        </p:nvSpPr>
        <p:spPr>
          <a:xfrm>
            <a:off x="609480" y="1905120"/>
            <a:ext cx="7848720" cy="41148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523880" y="2090880"/>
          <a:ext cx="6096240" cy="354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090880"/>
                    <a:ext cx="6096240" cy="35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Del ejemplo…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Momento óptimo de liquidación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Momento óptimo de liquidación (repetible)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mento óptimo de inic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Lucida Sans"/>
              </a:rPr>
              <a:t>	</a:t>
            </a:r>
            <a:r>
              <a:rPr b="1" lang="es-ES" sz="3200" spc="-1" strike="noStrike">
                <a:solidFill>
                  <a:srgbClr val="333399"/>
                </a:solidFill>
                <a:latin typeface="Lucida Sans"/>
              </a:rPr>
              <a:t>Proyecto no repetible, flujos dependen del tiempo calendario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Si la inversión I=I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, para todo t, con I independiente de t y n tiende a infinito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3429000"/>
            <a:ext cx="7848720" cy="25909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Momento óptimo para iniciar la inversión es donde los beneficios netos del primer año de operación son iguales al costo de capital de la inver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Si F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&lt;I*r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 Postergar a t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Si F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&gt;I*r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 Invertir en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Black"/>
              </a:rPr>
              <a:t>Momento óptimo de inicio de proyect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Puede ser que sea más rentable invertir en el futuro en un proyecto que hoy, principalmente por cambios en los flujo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Metodología: Comparar el proyecto de postergar el proyecto con la situación base que es no postergar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Si delta VAN &gt;0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 posterg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Si delta VAN &lt; 0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 lo realizo ho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Black"/>
              </a:rPr>
              <a:t>Momento óptimo de inicio de proyect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Lucida Sans"/>
              </a:rPr>
              <a:t>Inversión dura para siempre y los beneficios son función del tiempo calendario, independiente de cuando se construye el proyecto.</a:t>
            </a: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 Ejemplo: Efectos de demand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ea VAN hoy = VAN 0 y VAN postergar VAN 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434340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Black"/>
              </a:rPr>
              <a:t>Momento óptimo de inicio de proyect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Lucida Sans"/>
              </a:rPr>
              <a:t>Inversión tiene vida finita y los beneficios son función del tiempo calendario, independiente de cuando se construye el proyecto.</a:t>
            </a: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 Ejemplo: Efectos de demand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ea VAN hoy = VAN 0 y VAN postergar VAN 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41936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maño óptimo de la invers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 aumenta la inversión siempre que el VAN marginal sea positiv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2819520"/>
            <a:ext cx="7848720" cy="259056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362320" y="3124080"/>
          <a:ext cx="4038480" cy="215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124080"/>
                    <a:ext cx="403848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mento óptimo de liquid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 utiliza el mismo concepto del VAN marginal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l n óptimo se alcanza cuando el delta VAN es cer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3886200"/>
            <a:ext cx="7848720" cy="1523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209680" y="4343400"/>
          <a:ext cx="385632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4343400"/>
                    <a:ext cx="38563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9:21:55Z</dcterms:created>
  <dc:creator>Administrador</dc:creator>
  <dc:description/>
  <dc:language>en-US</dc:language>
  <cp:lastModifiedBy>Francisco Javier Errandonea Terán</cp:lastModifiedBy>
  <dcterms:modified xsi:type="dcterms:W3CDTF">2006-05-08T21:06:01Z</dcterms:modified>
  <cp:revision>74</cp:revision>
  <dc:subject/>
  <dc:title>Diapositiva 1</dc:title>
</cp:coreProperties>
</file>