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6FF2-3B6B-4236-85C1-E9BFA8D29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3671-F015-40F5-B7B7-47D8170E2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EEFB-87DC-40AA-999C-E9CEDDDF2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F4A2-D61E-4268-BAB6-E46130E83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4BF56-DA7B-4C4C-8D12-DB4EA777D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2C39F-C5CF-41E4-BB81-C78D13857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4758F-EB5F-4D3F-9D63-96E3D91B3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2DED2-ACD6-4325-9C48-9F0B741CA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94B99-7997-4B85-8B2E-9466CF99B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C2B83-B5BB-464A-83B7-41AB6F96F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AB376-5C0B-4D7A-8285-4A7B41CC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9099-89CF-4AFB-9109-54724840D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32BF2-2B76-4B47-9FB4-DEFE979B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070E7-39E7-4C86-8DFD-A057E58C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78AC6-BC91-4874-9221-AF70B649B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0AA9A-F172-4468-A7A9-945CF8366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BD3D5-706F-4A19-A079-59E77FC3B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D69ED-C477-412E-A2A7-076D2F1FD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333AC-A74E-482B-AB8F-EC21C191D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B1968-F51E-4EDB-A84E-9E4695502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5B582-10C7-4346-97C8-E69733CEF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17497-ADF2-4CA0-989A-A536C7FC1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2D57-684C-4687-999E-A4D523791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AC80A-49E2-4D27-B8F5-54A6D9576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5E75D-EAF2-4118-B338-C4D31DF4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E4CEF-E0FF-4D33-9D7B-CB39873E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26F61-1322-400D-8304-51E8BE55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43673-43B4-4D29-B3F3-0EF0AA285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F046E-16AF-4FB9-BBCC-85599CD0F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81C46-9DD8-448E-AFFA-638322213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D1BBC-BC50-437D-B846-C2D5EE7EB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6E843-5528-4057-8712-A7535DD7E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99BA7-868D-421A-9831-2FE2BA68C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0038-A951-46FD-8820-4B3A3C883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3181D-18DD-48EF-8D70-CAF771175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C2AFB-0527-4FCC-9707-520B39953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CC474-1A9F-46B9-9D1D-257B6B1E1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84E68-19BA-4297-95F0-803AD9BE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FAC00-8DF4-4DBB-AEDE-CC8B9E99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CA6CB-9DAE-4B2D-A24C-39C02279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01D9C-C09D-49A1-AE17-90B4AC6C0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89D69-E5F4-4DE1-AA22-31694D1FA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2D87D-6D2D-4B38-AC8C-0293AFD2F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3CFE1-8347-4229-804C-FAC2BC7E4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87A2-2449-4ED5-B3BD-B954FE519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F43A2-53BD-4ACB-B5DC-2EB6B7BAE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F8B2D-EA56-4C46-A654-694E7F56A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B8B66-3FDE-46BE-9F68-C4E46D8EB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23AE5-6969-4E9B-AAE6-0DBD322C9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956D6-D949-470B-A83C-9CA1C63C5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AB4B4-31E5-419B-A02D-139E2702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28AD6-2A03-45B4-BD60-5575C376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5973F-15E8-4BCB-9CF8-80914196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A6137-89C9-484A-8CAD-EADFCB2EF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0F55F-6D16-402B-974D-C811C6293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1C20-E16A-42E7-A866-33B502A31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EDFB2-7AFB-4D05-B94F-89059B92C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56A9-85AA-41CB-BC94-1378D1B4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BA5F-5023-4E00-8F2F-F35AEF2B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C045-3BBA-4B34-87AA-E0F03480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3537C-FABF-4F9C-A84B-40C8B36737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F0533-B30E-423E-9831-1E3D7900C4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28600" y="-360"/>
            <a:ext cx="0" cy="62485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6248520"/>
            <a:ext cx="8915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8763120" y="-360"/>
            <a:ext cx="0" cy="1461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42A – 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yo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228600" y="1676160"/>
            <a:ext cx="0" cy="23619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038480"/>
            <a:ext cx="8915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63120" y="1461960"/>
            <a:ext cx="0" cy="234792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Lucida San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Lucida San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8E41A-CA66-498C-A08D-024F96DC43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8763120" y="-360"/>
            <a:ext cx="0" cy="14619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09D56-C103-4903-8CCC-B83ABB8A52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28600" y="1676160"/>
            <a:ext cx="0" cy="23619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038480"/>
            <a:ext cx="8915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1447920"/>
            <a:ext cx="833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763120" y="1461960"/>
            <a:ext cx="0" cy="234792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600" spc="-1" strike="noStrike">
                <a:solidFill>
                  <a:srgbClr val="000000"/>
                </a:solidFill>
                <a:latin typeface="Arial Black"/>
              </a:rPr>
              <a:t>Optimización de proyectos</a:t>
            </a:r>
            <a:endParaRPr b="0" lang="en-US" sz="5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mento óptimo de reemplaz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La idea es maximizar el BAUE (CAUE si los beneficios no dependen del ciclo de reemplazo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3505320"/>
            <a:ext cx="7848720" cy="1523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2209680" y="4038480"/>
          <a:ext cx="4038840" cy="60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4038480"/>
                    <a:ext cx="403884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es de localizació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Se hace una evaluación de VAN marginales, respecto a una situación base. Los principales factores determinantes son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"/>
              </a:rPr>
              <a:t>Medios y costos de transporte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Lucida Sans"/>
              </a:rPr>
              <a:t>Cercanía a puertos (frutas), aeropuertos (flores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"/>
              </a:rPr>
              <a:t>Disponibilidad y costo de la mano de obra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Lucida Sans"/>
              </a:rPr>
              <a:t>Empresas de consultoría, maquilas en México.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"/>
              </a:rPr>
              <a:t>Cercanía de proveedores y clientes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Lucida Sans"/>
              </a:rPr>
              <a:t>Plantas de celulosa, madera, hierro, acero. Comercio en general.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"/>
              </a:rPr>
              <a:t>Factores ambientales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Lucida Sans"/>
              </a:rPr>
              <a:t>Planta Ralco, Contaminación, Planta Valdivia de Arauco.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"/>
              </a:rPr>
              <a:t>Costos y disponibilidad de terrenos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Lucida Sans"/>
              </a:rPr>
              <a:t>Bombas de bencina, barrios industriales.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"/>
              </a:rPr>
              <a:t>Impuestos e incentivos legales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Lucida Sans"/>
              </a:rPr>
              <a:t>Restricción anillo Vespucio, Zonas francas.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rtera de proyecto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Lucida Sans"/>
              </a:rPr>
              <a:t>Independientes: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 La ejecución de un proyecto no afecta en nada los flujos del otro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Lucida Sans"/>
              </a:rPr>
              <a:t>Complementariamente dependientes: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 Cuando la ejecución de un proyecto afecta positivamente los flujos del otro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Lucida Sans"/>
              </a:rPr>
              <a:t>Sustitutos:</a:t>
            </a: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 Cuando la ejecución de un proyecto afecta negativamente a otro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rtera de proyecto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Lucida Sans"/>
              </a:rPr>
              <a:t>Sin Restricción de capital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Lucida Sans"/>
              </a:rPr>
              <a:t>Independientes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: Realizar todos los proyectos con VAN positivo. Si sobra capital, invertirlo en su costo de oportunidad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Lucida Sans"/>
              </a:rPr>
              <a:t>Mutuamente excluyentes (sustitutos perfectos)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: Elegir el de mayor VAN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Lucida Sans"/>
              </a:rPr>
              <a:t>Dependientes: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ean A y B dos proyectos dependientes. Depende del caso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 Black"/>
              </a:rPr>
              <a:t>Cartera de proyectos: Sin restricción de capita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Lucida Sans"/>
              </a:rPr>
              <a:t>VAN(A) &gt;0 y B complementario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Si no se ejecuta B, entonces VAN(A)= VAN(A/sB) &gt; 0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Como son complementarios B no altera la decisión de realizar A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Si se ejecuta B, entonces el VAN(A) sube a VAN(A/cB)&gt;VAN(A/sB) &gt; 0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Para ver si se realiza B hay que analizar si VAN(B)+ VAN(A/cB)-VAN(A/sB)&gt;0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 Black"/>
              </a:rPr>
              <a:t>Cartera de proyectos: Sin restricción de capita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Lucida Sans"/>
              </a:rPr>
              <a:t>VAN(A) &gt;0 y B sustituto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Si ejecutar B disminuye el VAN(A) tal que VAN(A) sigue siendo positivo, entonces hay que sumar en B el efecto negativo (delta VAN(A)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Si el VAN(B) menos la disminución de VAN(A) es negativo, sólo se hace A y no B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Si el VAN(B) menos la disminución de VAN(A) es positivo, se hacen ambos proyecto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Si B es tan negativo para A que hace que VAN(A) sea negativo, entonces se carga todo lo que se hubiera perdido en A.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 Black"/>
              </a:rPr>
              <a:t>Cartera de proyectos: Sin restricción de capita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Lucida Sans"/>
              </a:rPr>
              <a:t>VAN(A) &lt;0 y B sustituto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Si el proyecto A no es rentable, con un sustituto será aún menos rentable, por lo que A es irrelevante para B y no se debe cargar a B la disminución del VAN de A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Un caso distinto es si A ya se realizó, en este caso si hay que considerar la disminución del VAN A por realizar B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 Black"/>
              </a:rPr>
              <a:t>Cartera de proyectos: Sin restricción de capita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Lucida Sans"/>
              </a:rPr>
              <a:t>VAN(A) &lt;0 y B complementario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Lucida Sans"/>
              </a:rPr>
              <a:t>i) Si aumento de VAN(A) no sea suficiente y VAN(A)&lt;0 después de realizado B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Como A no se iba a realizar y no se va a realizar, es irrelevante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Lucida Sans"/>
              </a:rPr>
              <a:t>ii) Si el VAN(A) sube tq’ VAN(A/cb)&gt;0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Se suman a B sólo el nuevo VAN positivo que obtiene A, ya que la alternativa es no realizar el proyect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rtera de proyecto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Lucida Sans"/>
              </a:rPr>
              <a:t>Con Restricción de capital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ara proyectos independientes hay que seleccionar las inversiones tales que su VPN en conjunto sea el máximo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olución 1: Modelo Lineal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3048120" y="3962520"/>
            <a:ext cx="19191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Ejempl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Lucida Sans"/>
              </a:rPr>
              <a:t>Sea la siguiente cartera de proyectos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3505320"/>
            <a:ext cx="83059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Lucida Sans"/>
              </a:rPr>
              <a:t>Por modelo lineal y restricción = 10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Si los proyectos son divisibles me conviene hacer el 20% de A, y el 100% de B y 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Si los proyectos no son divisibles, hago B y 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219320" y="2286000"/>
            <a:ext cx="7086600" cy="9777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ción de proyecto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Estudiar como maximizar el aporte a la riqueza de un proyecto en particular, seleccionando las mejores alternativas posibles en términos de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iempo de inicio del proyecto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amaño de la inversión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omento de liquidación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eemplazo de maquinaria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ocalización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elección de proyectos en una cartera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valuación en tiempo continuo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Ejemplo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Lucida Sans"/>
              </a:rPr>
              <a:t>r = 10% , I max= 1.000 MM$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447920" y="2514600"/>
            <a:ext cx="5867280" cy="2583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Ejemplo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Lucida Sans"/>
              </a:rPr>
              <a:t>Opción 1</a:t>
            </a:r>
            <a:r>
              <a:rPr b="0" lang="es-CL" sz="3200" spc="-1" strike="noStrike">
                <a:solidFill>
                  <a:srgbClr val="000000"/>
                </a:solidFill>
                <a:latin typeface="Lucida Sans"/>
              </a:rPr>
              <a:t>: ¿VAN? </a:t>
            </a: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CL" sz="3200" spc="-1" strike="noStrike">
                <a:solidFill>
                  <a:srgbClr val="000000"/>
                </a:solidFill>
                <a:latin typeface="Lucida Sans"/>
              </a:rPr>
              <a:t> J, G, I, C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914400" y="2438280"/>
            <a:ext cx="4419720" cy="281628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5562720" y="2438280"/>
            <a:ext cx="3047760" cy="198144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¿Qué pasa con los 80 MM$ que sobr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visibles: Comprar 80% de E </a:t>
            </a:r>
            <a:r>
              <a:rPr b="0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VAN=686,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Div: Invertir 80 al costo de oportunidad </a:t>
            </a:r>
            <a:r>
              <a:rPr b="0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VAN=635,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Ejemplo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Lucida Sans"/>
              </a:rPr>
              <a:t>Opción 2</a:t>
            </a:r>
            <a:r>
              <a:rPr b="0" lang="es-CL" sz="3200" spc="-1" strike="noStrike">
                <a:solidFill>
                  <a:srgbClr val="000000"/>
                </a:solidFill>
                <a:latin typeface="Lucida Sans"/>
              </a:rPr>
              <a:t>: ¿IVAN? </a:t>
            </a: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CL" sz="3200" spc="-1" strike="noStrike">
                <a:solidFill>
                  <a:srgbClr val="000000"/>
                </a:solidFill>
                <a:latin typeface="Lucida Sans"/>
              </a:rPr>
              <a:t> C, G, B, E, J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1" name=""/>
          <p:cNvSpPr/>
          <p:nvPr/>
        </p:nvSpPr>
        <p:spPr>
          <a:xfrm>
            <a:off x="5562720" y="2438280"/>
            <a:ext cx="3047760" cy="20574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¿Qué pasa con los 230 MM$ que sobr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visibles: Comprar 85,2% de I </a:t>
            </a:r>
            <a:r>
              <a:rPr b="0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VAN=6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Div: Invertir 230 al costo de oportunidad </a:t>
            </a:r>
            <a:r>
              <a:rPr b="0" lang="es-C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VAN=581,6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62120" y="2514600"/>
            <a:ext cx="4419360" cy="26924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5638680" y="4724280"/>
            <a:ext cx="3124440" cy="9144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uando los proyectos son divisibles conviene usar el IV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Ejemplo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Lucida Sans"/>
              </a:rPr>
              <a:t>Opción 2</a:t>
            </a:r>
            <a:r>
              <a:rPr b="0" lang="es-CL" sz="3200" spc="-1" strike="noStrike">
                <a:solidFill>
                  <a:srgbClr val="000000"/>
                </a:solidFill>
                <a:latin typeface="Lucida Sans"/>
              </a:rPr>
              <a:t>: Modelo linea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"/>
              </a:rPr>
              <a:t>Si no puedo realizar m</a:t>
            </a: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ás de una vez el proyecto y son divisibles: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838080" y="3657600"/>
            <a:ext cx="5029200" cy="2433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87" name=""/>
          <p:cNvSpPr/>
          <p:nvPr/>
        </p:nvSpPr>
        <p:spPr>
          <a:xfrm>
            <a:off x="6248520" y="3886200"/>
            <a:ext cx="2438280" cy="685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gual al resultado obtenido por I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Ejemplo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Lucida Sans"/>
              </a:rPr>
              <a:t>Opción 3</a:t>
            </a:r>
            <a:r>
              <a:rPr b="0" lang="es-CL" sz="3200" spc="-1" strike="noStrike">
                <a:solidFill>
                  <a:srgbClr val="000000"/>
                </a:solidFill>
                <a:latin typeface="Lucida Sans"/>
              </a:rPr>
              <a:t>: Modelo linea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"/>
              </a:rPr>
              <a:t>Si puedo realizar m</a:t>
            </a: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ás de una vez el proyecto (invertir más de 100% en cada uno) y son divisibles: 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685800" y="3581280"/>
            <a:ext cx="4876920" cy="23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Ejemplo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Lucida Sans"/>
              </a:rPr>
              <a:t>Opción 3</a:t>
            </a:r>
            <a:r>
              <a:rPr b="0" lang="es-CL" sz="3200" spc="-1" strike="noStrike">
                <a:solidFill>
                  <a:srgbClr val="000000"/>
                </a:solidFill>
                <a:latin typeface="Lucida Sans"/>
              </a:rPr>
              <a:t>: Modelo linea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Lucida Sans"/>
              </a:rPr>
              <a:t>Si puedo realizar sólo</a:t>
            </a:r>
            <a:r>
              <a:rPr b="0" lang="es-CL" sz="2800" spc="-1" strike="noStrike">
                <a:solidFill>
                  <a:srgbClr val="000000"/>
                </a:solidFill>
                <a:latin typeface="Lucida Sans"/>
              </a:rPr>
              <a:t> una vez el proyecto y no son divisibles: 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838080" y="3200400"/>
            <a:ext cx="556272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Ev. Proyectos tiempo continu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5" name=""/>
          <p:cNvSpPr/>
          <p:nvPr/>
        </p:nvSpPr>
        <p:spPr>
          <a:xfrm>
            <a:off x="609480" y="1905120"/>
            <a:ext cx="7848720" cy="41148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1523880" y="2090880"/>
          <a:ext cx="6096240" cy="354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090880"/>
                    <a:ext cx="6096240" cy="35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Black"/>
              </a:rPr>
              <a:t>Del ejemplo…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Lucida Sans"/>
              </a:rPr>
              <a:t>Momento óptimo de liquidación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Lucida Sans"/>
              </a:rPr>
              <a:t>Momento óptimo de liquidación (repetible)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mento óptimo de inic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Lucida Sans"/>
              </a:rPr>
              <a:t>	</a:t>
            </a:r>
            <a:r>
              <a:rPr b="1" lang="es-ES" sz="3200" spc="-1" strike="noStrike">
                <a:solidFill>
                  <a:srgbClr val="333399"/>
                </a:solidFill>
                <a:latin typeface="Lucida Sans"/>
              </a:rPr>
              <a:t>Proyecto no repetible, flujos dependen del tiempo calendario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Si la inversión I=I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Lucida Sans"/>
              </a:rPr>
              <a:t>t</a:t>
            </a:r>
            <a:r>
              <a:rPr b="0" lang="es-ES" sz="2000" spc="-1" strike="noStrike">
                <a:solidFill>
                  <a:srgbClr val="000000"/>
                </a:solidFill>
                <a:latin typeface="Lucida Sans"/>
              </a:rPr>
              <a:t>, para todo t, con I independiente de t y n tiende a infinito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5" name=""/>
          <p:cNvSpPr/>
          <p:nvPr/>
        </p:nvSpPr>
        <p:spPr>
          <a:xfrm>
            <a:off x="609480" y="3429000"/>
            <a:ext cx="7848720" cy="25909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Momento óptimo para iniciar la inversión es donde los beneficios netos del primer año de operación son iguales al costo de capital de la invers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Si F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Lucida Sans"/>
              </a:rPr>
              <a:t>t</a:t>
            </a: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&lt;I*r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 Postergar a t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Si F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Lucida Sans"/>
              </a:rPr>
              <a:t>t</a:t>
            </a: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&gt;I*r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2400" spc="-1" strike="noStrike">
                <a:solidFill>
                  <a:srgbClr val="000000"/>
                </a:solidFill>
                <a:latin typeface="Lucida Sans"/>
              </a:rPr>
              <a:t> Invertir en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 Black"/>
              </a:rPr>
              <a:t>Momento óptimo de inicio de proyect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Lucida Sans"/>
              </a:rPr>
              <a:t>Puede ser que sea más rentable invertir en el futuro en un proyecto que hoy, principalmente por cambios en los flujos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Lucida Sans"/>
              </a:rPr>
              <a:t>Metodología: Comparar el proyecto de postergar el proyecto con la situación base que es no postergar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Lucida Sans"/>
              </a:rPr>
              <a:t>Si delta VAN &gt;0 </a:t>
            </a: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CL" sz="3200" spc="-1" strike="noStrike">
                <a:solidFill>
                  <a:srgbClr val="000000"/>
                </a:solidFill>
                <a:latin typeface="Lucida Sans"/>
              </a:rPr>
              <a:t> postergo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Lucida Sans"/>
              </a:rPr>
              <a:t>Si delta VAN &lt; 0 </a:t>
            </a: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CL" sz="3200" spc="-1" strike="noStrike">
                <a:solidFill>
                  <a:srgbClr val="000000"/>
                </a:solidFill>
                <a:latin typeface="Lucida Sans"/>
              </a:rPr>
              <a:t> lo realizo hoy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 Black"/>
              </a:rPr>
              <a:t>Momento óptimo de inicio de proyect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Lucida Sans"/>
              </a:rPr>
              <a:t>Inversión dura para siempre y los beneficios son función del tiempo calendario, independiente de cuando se construye el proyecto.</a:t>
            </a: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 Ejemplo: Efectos de demanda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Sea VAN hoy = VAN 0 y VAN postergar VAN 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4495680" y="1905120"/>
            <a:ext cx="434340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 Black"/>
              </a:rPr>
              <a:t>Momento óptimo de inicio de proyect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Lucida Sans"/>
              </a:rPr>
              <a:t>Inversión tiene vida finita y los beneficios son función del tiempo calendario, independiente de cuando se construye el proyecto.</a:t>
            </a: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 Ejemplo: Efectos de demanda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"/>
              </a:rPr>
              <a:t>Sea VAN hoy = VAN 0 y VAN postergar VAN 1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4419360" cy="18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maño óptimo de la inversió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e aumenta la inversión siempre que el VAN marginal sea positiv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2819520"/>
            <a:ext cx="7848720" cy="259056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362320" y="3124080"/>
          <a:ext cx="4038480" cy="215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3124080"/>
                    <a:ext cx="4038480" cy="21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mento óptimo de liquidació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e utiliza el mismo concepto del VAN marginal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El n óptimo se alcanza cuando el delta VAN es cero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3886200"/>
            <a:ext cx="7848720" cy="15238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2209680" y="4343400"/>
          <a:ext cx="3856320" cy="87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4343400"/>
                    <a:ext cx="385632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3T19:21:55Z</dcterms:created>
  <dc:creator>Administrador</dc:creator>
  <dc:description/>
  <dc:language>en-US</dc:language>
  <cp:lastModifiedBy>Francisco Javier Errandonea Terán</cp:lastModifiedBy>
  <dcterms:modified xsi:type="dcterms:W3CDTF">2006-05-08T21:06:01Z</dcterms:modified>
  <cp:revision>74</cp:revision>
  <dc:subject/>
  <dc:title>Diapositiva 1</dc:title>
</cp:coreProperties>
</file>