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21BF-14E6-48A2-8554-D4E4B73A3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9E4B-9448-4960-AF5D-F9930F64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4964-5BD3-44FC-8AB4-B582B2020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4CA3-D4C0-40BB-A90D-7C88E5F4E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F227-B95F-4475-B006-834172DEF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9DE4-E1B6-4E6E-B2A9-1C84EA74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0720-B956-41BD-9A63-BF8DF287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5554-F85E-41C0-AAFF-A593C391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77BA-E5BA-4338-ABA2-AC2AF076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5886-A47B-46A4-B8DB-48B9D8C0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E9D0-2088-47D9-831A-ECEB426D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AE4E-3CE5-4B69-94DB-958B36BD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B286-D9E5-46B9-AC5E-864E0046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5685-21E9-4B1D-A71A-76B90175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9EDD-69A2-404D-889F-F52D7DB7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5B969-18FB-4C37-A8EF-058EBCC9B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B05B-3F48-4CC0-B591-D37875032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4DB95-8325-4E45-ABDA-7DC8E4240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C8093-5BC3-441C-BBC8-D91B7CCE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89AD0-C375-44B8-9DDD-A1172D0A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BF66F-9E98-4A0E-8459-DC3033E5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786D2-D282-4ACC-AFDD-EEEDEDFA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0519-4A10-4509-82BC-DBA89E85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BC39C-3296-4502-8EE2-22891EBD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788C6-34BB-4232-8983-33047147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5F483-5833-49AE-BA57-71A7C1B4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3A655-A90F-4300-AE0E-A1060725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8171B-B8D3-46BD-9C2C-17408F68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F99F1-2D96-46D0-8D60-F6024C811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1ED4F-2821-48EB-9EDB-576F56995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A4BDA-3691-4EEB-B449-1F1FBF956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49FCD-E895-40E0-9A00-D042C32D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AA4CE-0247-4E6C-A939-0FE520EC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65F3-202C-4B39-8C2D-9C85C287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E9F9C-C64E-4382-AE78-6196EE5B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29914-489D-4420-9D54-8FAD37C5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709F9-19B2-4EEA-871B-7ADE0A31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EC360-2256-433C-BE87-6A05DABC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75B24-61F7-4798-AFD4-04FBF3AD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894E0-0BB5-4A3B-A97E-A2E905FF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3261F-E098-480F-A979-ECADD075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E67EF-042C-482E-8D36-CDC731258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63988-3D9B-4E58-8CFC-D8EE00207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B5C2A-E1DD-4DCD-9B61-AA1FDC166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3929-1768-4B1E-AD68-8C492855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7E22F-1D91-426F-954D-4CF8153F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57577-999C-4DD5-95CD-14B7E7B1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96AA2-D501-4C3E-965B-3C1B7A11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BB955-D042-425B-AF39-D66E7D77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48181-1BD3-46BB-B9CA-988F6780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ADE20-B7BD-4D8B-B123-0C7043A5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9887F-68CE-4F72-A413-2D4C0394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75ABB-2187-4E3B-8DAA-29DF3D05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E5B7D-B5BE-4003-9CEF-A50FCA7C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13AC4-3A80-4219-B0D3-937D5BD49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A44F-A14F-4789-982C-58CFAFC9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0F87A-8042-4FCA-B811-404D02919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8859-1AC1-4BD8-A503-FCD0CD40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CE9E-4389-4A27-A5A1-4F6B27D1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1B34-2796-48C9-93C9-748DB5C0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60C0-A318-43EF-9ED0-2AC1CB13C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D9A0-2130-4A90-9271-CA1F8A523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28600" y="-360"/>
            <a:ext cx="0" cy="6248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624852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42A – 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ril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80FD-A501-496F-BCF8-A01A0CCBB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D5BC-7E36-46A9-9EF3-EBE303750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solver.xls" TargetMode="External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600" spc="-1" strike="noStrike">
                <a:solidFill>
                  <a:srgbClr val="000000"/>
                </a:solidFill>
                <a:latin typeface="Arial Black"/>
              </a:rPr>
              <a:t>Entendiendo Solver</a:t>
            </a:r>
            <a:endParaRPr b="0" lang="en-US" sz="5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"/>
          <p:cNvSpPr/>
          <p:nvPr/>
        </p:nvSpPr>
        <p:spPr>
          <a:xfrm>
            <a:off x="5378760" y="6172200"/>
            <a:ext cx="35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ncisco Javier Errandonea 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2724120" cy="26668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343400" y="1600200"/>
            <a:ext cx="2666880" cy="6858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abre Solver en Herramientas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ol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657600" y="1981080"/>
            <a:ext cx="5335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962520" y="3200400"/>
            <a:ext cx="4724280" cy="29433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5715000" y="2514600"/>
            <a:ext cx="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Celda Objetivo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Es la celda que contiene la fórmula de la función objetivo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Máximo, Mínimo o Valores de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Se elige que tipo de optimización se quier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Cambiando las celdas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Son las celdas que van a iterar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Las restricciones se agregan en </a:t>
            </a: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Agregar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Vamos a partir con las restricciones. Primero agregamos la restricción de máxima inversión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066680" y="3124080"/>
            <a:ext cx="4286520" cy="28004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gr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hora agregamos la restricción de que invertimos por lo menos un 5% en cada proyect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5" name="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cep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990720" y="3276720"/>
            <a:ext cx="45147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hora agregamos la restricción de que invertimos a lo máximo un 100% en cada proyect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gr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990720" y="3429000"/>
            <a:ext cx="34858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as celdas que cambian (iteran) son los alfa i que se invierten en cada proyecto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rcRect l="0" t="0" r="0" b="51626"/>
          <a:stretch/>
        </p:blipFill>
        <p:spPr>
          <a:xfrm>
            <a:off x="762120" y="2971800"/>
            <a:ext cx="510516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En este caso estamos maximizand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493380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Y nuestra función objetivo se encuentra en E29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533412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El menú de Solver debiera quedar así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2" name=""/>
          <p:cNvSpPr/>
          <p:nvPr/>
        </p:nvSpPr>
        <p:spPr>
          <a:xfrm>
            <a:off x="6019920" y="4800600"/>
            <a:ext cx="266688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acer click en Resolver! Y Después en Acep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43434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19920" y="1599840"/>
            <a:ext cx="2666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Y el resultado que maximiza el VAN queda en la hoja de cálculo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5438520" cy="38671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2209680" y="1752480"/>
            <a:ext cx="1447920" cy="2438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¿Qué es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Básicamente un programa para Excel que sirve para solucionar problemas de optimización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Resuelve problemas lineales y algunos no-lineales (espacios convexos y con derivadas continuas principalmente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¿Cómo hay que cambiar el problema si elimino la restricción del 5% y asumo que los proyectos no son fraccionables o divisibles?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ol: Agregar la restricción que los alfa son binario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Y eliminar la restricción del 5%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286000" y="2590920"/>
            <a:ext cx="345744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324480" y="1600200"/>
            <a:ext cx="2438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Finalmente el menú de Solver quedaría así, y la hoja excel tendría los nuevos alfa óptimos: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563868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4790880" cy="3267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638680" y="1827360"/>
            <a:ext cx="2667240" cy="1982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mero comprobar si está instal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o se puede comprobar si existe el sub-menú “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olve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” bajo el menú principa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erramie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3581280" y="4038480"/>
            <a:ext cx="289584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2971800" cy="40194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343400" y="1600200"/>
            <a:ext cx="2666880" cy="1982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no existe, ir a Herramientas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mplementos y se abrirá un menú, donde hay que seleccionar “Solv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2819520"/>
            <a:ext cx="6858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495680" y="4419720"/>
            <a:ext cx="3191040" cy="1552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486400" y="3733920"/>
            <a:ext cx="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609588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Si no está Solver dentro de las opciones, o aparece algún error, es muy probable que haya que recurrir al CD original del Excel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Si se perdió el CD hay que conseguírselo con alguien que lo teng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553080" y="1981080"/>
            <a:ext cx="2052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Se acaba de ganar US$1 millón en la lotería y aparecen los amigos de siempre que le ofrecen una serie de proyectos, con las siguientes características, todos independientes y fraccionable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351240" cy="3733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¿Cómo puede distribuir su premio entre los proyectos si debe invertir con al menos un 5% de la inversión de cada uno y desea maximizar su VAN?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351240" cy="3733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Lucida Sans"/>
              </a:rPr>
              <a:t>Sol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351240" cy="373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6" name=""/>
          <p:cNvGraphicFramePr/>
          <p:nvPr/>
        </p:nvGraphicFramePr>
        <p:xfrm>
          <a:off x="1170000" y="2286000"/>
          <a:ext cx="2612880" cy="350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0000" y="2286000"/>
                    <a:ext cx="26128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Viendo el archivo d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Lucida Sans"/>
                <a:hlinkClick r:id="rId1"/>
              </a:rPr>
              <a:t>ejemplo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Sans"/>
              </a:rPr>
              <a:t>, en la hoja “datos” están todas las fórmulas requerida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Hay que agregar en una celda la función objetivo (E29) y en otras celdas hay que incluir algunas de las restriccion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19:21:55Z</dcterms:created>
  <dc:creator>Administrador</dc:creator>
  <dc:description/>
  <dc:language>en-US</dc:language>
  <cp:lastModifiedBy>Francisco</cp:lastModifiedBy>
  <dcterms:modified xsi:type="dcterms:W3CDTF">2006-05-09T04:44:56Z</dcterms:modified>
  <cp:revision>59</cp:revision>
  <dc:subject/>
  <dc:title>Diapositiva 1</dc:title>
</cp:coreProperties>
</file>