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4B25-9DA7-4232-98FC-5BB346547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CDEF-B761-4DB1-A8C9-E412A79B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1455-9A36-4AF1-868B-A2142F3CE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4B4E-67F6-4632-B7BE-19114E1CC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85C7B-5005-4D08-BCB6-C3C936453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91EDF-A4AE-4EF8-B292-788B053E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D5C1-E54B-479D-9F57-FEDDE73B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8B3A-6B8F-4AAB-A8D6-02778584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44BEE-C934-442D-AAA5-9B6F3CAA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38BD-C42F-4E22-AAD9-22225F81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4D46-A547-444E-ABB7-4C59EF89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EC5F-45E4-47A0-B33B-384A74AD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9AB2-2A00-4D86-A86B-EFA89DD9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CAE3-C82F-4AD6-A2B2-3A95A260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81A2-645A-449F-BF1E-40790BDF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2F38-30ED-4697-B870-AE1278CA2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2196-C674-4B44-B065-1AA4EFF21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9FE69-70C5-4B2B-8D2D-56BA25A88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ABF14-A4CA-4379-8ABB-44E6F4BC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E8BC0-46BB-47F4-B0A4-63ED315D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F11B2-6948-4487-BFC0-A8E04BCD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3CFC4-F319-4E42-9831-DB17BC28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0D1B-204F-42D5-B51D-117E9A06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A0D46-89C7-49DE-AA7A-1A227120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CB9A9-1B3D-4B2F-B312-64FFAA59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A982B-3B14-42B8-97FE-DEF8D201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CBF96-6CD2-4F6E-9464-3F5A34B3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BBFB3-CA3C-4A8D-9086-FFEF272C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9FF9A-6983-4FB9-A7BE-7FB3C851B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65F44-EFA7-42F7-8C17-69820027D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27C45-C1EC-4A36-8B10-479F53E4F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7BE47-8473-4983-984B-0F4771E9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54CCC-08CA-486C-82C9-E3FBDF8B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D2A8-43C3-4A9B-942B-AEC89D18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24095-F2FE-4B77-9034-6A32D13D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26448-4154-4B9E-813D-DA4DB55C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30410-1F01-411E-B5BE-5E40467B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7A3C3-2F1D-4695-AD74-0C633DF2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ED75E-7417-49F0-A40A-8F809A37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EDAF7-7A29-4E50-80E3-8061C1B6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33897-6BB1-4D6A-A0FC-360C6855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D28D8-8F0F-46CE-B07E-1C3A090BF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1AA31-75FC-447A-A344-3A4DB691B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BC141-4072-44DB-AEC7-B1D611E5B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82FB-02D5-49F7-8DED-967B036D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5B01D-4A4F-4B85-B894-2AD5D98C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6E78E-2325-4344-B18A-D4B33622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9CED7-19C9-4535-8303-9B6A82AF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C43AC-BB5F-423C-80AE-0D5C07B5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959F7-B706-4729-9109-56E16E8C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DBDE6-ECC9-439A-8965-E3C352C1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71B53-4C4B-4EDD-A2BE-4C2EA6F3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7A474-8244-4E4A-9190-EA4050EA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CFBF6-51C0-402D-8F41-C3EF699B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3649F-8100-4D1B-B1F6-15353C31B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5B3E-5E9D-4DFF-BE41-33796648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C78CE-D599-46A4-B875-E21B806D7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6A83-4436-412C-AB27-BC1154E1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F16C-204C-4829-99B9-E87A62DE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E0CC-24E2-49CD-A304-B7D94BE8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08FA-D2AB-459B-BDC1-8B9962D82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F835-0C0B-445A-B97A-DCC7F53F3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28600" y="-360"/>
            <a:ext cx="0" cy="6248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624852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8763120" y="-360"/>
            <a:ext cx="0" cy="1461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42A – 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ril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28600" y="167616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03848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63120" y="1461960"/>
            <a:ext cx="0" cy="23479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CDBB-87D6-4D5A-9D5B-DB1527E7B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8763120" y="-360"/>
            <a:ext cx="0" cy="1461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767B-B384-42A1-8E9E-97A192ACD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28600" y="167616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03848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763120" y="1461960"/>
            <a:ext cx="0" cy="23479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solver.xls" TargetMode="External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600" spc="-1" strike="noStrike">
                <a:solidFill>
                  <a:srgbClr val="000000"/>
                </a:solidFill>
                <a:latin typeface="Arial Black"/>
              </a:rPr>
              <a:t>Entendiendo Solver</a:t>
            </a:r>
            <a:endParaRPr b="0" lang="en-US" sz="5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"/>
          <p:cNvSpPr/>
          <p:nvPr/>
        </p:nvSpPr>
        <p:spPr>
          <a:xfrm>
            <a:off x="5378760" y="6172200"/>
            <a:ext cx="35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ncisco Javier Errandonea 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2724120" cy="26668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343400" y="1600200"/>
            <a:ext cx="2666880" cy="6858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abre Solver en Herramientas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ol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657600" y="1981080"/>
            <a:ext cx="5335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962520" y="3200400"/>
            <a:ext cx="4724280" cy="29433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5715000" y="2514600"/>
            <a:ext cx="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Celda Objetivo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: Es la celda que contiene la fórmula de la función objetivo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Máximo, Mínimo o Valores de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: Se elige que tipo de optimización se quier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Cambiando las celdas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: Son las celdas que van a iterar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Las restricciones se agregan en </a:t>
            </a:r>
            <a:r>
              <a:rPr b="1" lang="es-ES" sz="2800" spc="-1" strike="noStrike">
                <a:solidFill>
                  <a:srgbClr val="000000"/>
                </a:solidFill>
                <a:latin typeface="Lucida Sans"/>
              </a:rPr>
              <a:t>Agregar</a:t>
            </a: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Vamos a partir con las restricciones. Primero agregamos la restricción de máxima inversión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066680" y="3124080"/>
            <a:ext cx="4286520" cy="28004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248520" y="312408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espués se hace click en</a:t>
            </a: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 Agre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hora agregamos la restricción de que invertimos por lo menos un 5% en cada proyecto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5" name=""/>
          <p:cNvSpPr/>
          <p:nvPr/>
        </p:nvSpPr>
        <p:spPr>
          <a:xfrm>
            <a:off x="6248520" y="312408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espués se hace click en</a:t>
            </a: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 Acep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990720" y="3276720"/>
            <a:ext cx="45147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hora agregamos la restricción de que invertimos a lo máximo un 100% en cada proyecto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9" name=""/>
          <p:cNvSpPr/>
          <p:nvPr/>
        </p:nvSpPr>
        <p:spPr>
          <a:xfrm>
            <a:off x="6248520" y="3124080"/>
            <a:ext cx="2514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Después se hace click en</a:t>
            </a:r>
            <a:r>
              <a:rPr b="1" lang="es-ES" sz="3200" spc="-1" strike="noStrike">
                <a:solidFill>
                  <a:srgbClr val="000000"/>
                </a:solidFill>
                <a:latin typeface="Lucida Sans"/>
              </a:rPr>
              <a:t> Agre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990720" y="3429000"/>
            <a:ext cx="34858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as celdas que cambian (iteran) son los alfa i que se invierten en cada proyecto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rcRect l="0" t="0" r="0" b="51626"/>
          <a:stretch/>
        </p:blipFill>
        <p:spPr>
          <a:xfrm>
            <a:off x="762120" y="2971800"/>
            <a:ext cx="510516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En este caso estamos maximizando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286000" y="2362320"/>
            <a:ext cx="493380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Y nuestra función objetivo se encuentra en E29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533412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El menú de Solver debiera quedar así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2" name=""/>
          <p:cNvSpPr/>
          <p:nvPr/>
        </p:nvSpPr>
        <p:spPr>
          <a:xfrm>
            <a:off x="6019920" y="4800600"/>
            <a:ext cx="2666880" cy="10666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acer click en Resolver! Y Después en Acep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43434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Re</a:t>
            </a:r>
            <a:r>
              <a:rPr b="0" lang="es-ES" sz="3600" spc="-1" strike="noStrike">
                <a:solidFill>
                  <a:srgbClr val="ff3300"/>
                </a:solidFill>
                <a:latin typeface="Arial Black"/>
              </a:rPr>
              <a:t>Sol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19920" y="1599840"/>
            <a:ext cx="26668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Y el resultado que maximiza el VAN queda en la hoja de cálculo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5438520" cy="38671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2209680" y="1752480"/>
            <a:ext cx="1447920" cy="2438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¿Qué es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Básicamente un programa para Excel que sirve para solucionar problemas de optimización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Resuelve problemas lineales y algunos no-lineales (espacios convexos y con derivadas continuas principalmente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¿Cómo hay que cambiar el problema si elimino la restricción del 5% y asumo que los proyectos no son fraccionables o divisibles?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ol: Agregar la restricción que los alfa son binario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Y eliminar la restricción del 5%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2286000" y="2590920"/>
            <a:ext cx="345744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324480" y="1600200"/>
            <a:ext cx="2438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Finalmente el menú de Solver quedaría así, y la hoja excel tendría los nuevos alfa óptimos: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563868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stal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4790880" cy="3267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638680" y="1827360"/>
            <a:ext cx="2667240" cy="19825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imero comprobar si está instal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o se puede comprobar si existe el sub-menú “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olve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” bajo el menú principa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erramien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3581280" y="4038480"/>
            <a:ext cx="289584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stal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2971800" cy="40194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343400" y="1600200"/>
            <a:ext cx="2666880" cy="1982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no existe, ir a Herramientas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mplementos y se abrirá un menú, donde hay que seleccionar “Solv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2819520"/>
            <a:ext cx="6858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495680" y="4419720"/>
            <a:ext cx="3191040" cy="1552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486400" y="3733920"/>
            <a:ext cx="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stal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609588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Si no está Solver dentro de las opciones, o aparece algún error, es muy probable que haya que recurrir al CD original del Excel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"/>
              </a:rPr>
              <a:t>Si se perdió el CD hay que conseguírselo con alguien que lo tenga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553080" y="1981080"/>
            <a:ext cx="2052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Se acaba de ganar US$1 millón en la lotería y aparecen los amigos de siempre que le ofrecen una serie de proyectos, con las siguientes características, todos independientes y fraccionable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351240" cy="3733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00680" y="5562720"/>
            <a:ext cx="19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fras en mil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¿Cómo puede distribuir su premio entre los proyectos si debe invertir con al menos un 5% de la inversión de cada uno y desea maximizar su VAN?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351240" cy="3733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6700680" y="5562720"/>
            <a:ext cx="19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fras en mil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Lucida Sans"/>
              </a:rPr>
              <a:t>Sol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351240" cy="373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6" name=""/>
          <p:cNvGraphicFramePr/>
          <p:nvPr/>
        </p:nvGraphicFramePr>
        <p:xfrm>
          <a:off x="1170000" y="2286000"/>
          <a:ext cx="2612880" cy="3505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0000" y="2286000"/>
                    <a:ext cx="26128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6700680" y="5562720"/>
            <a:ext cx="19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fras en miles de dó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jemplo de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Viendo el archivo d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Lucida Sans"/>
                <a:hlinkClick r:id="rId1"/>
              </a:rPr>
              <a:t>ejemplo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Sans"/>
              </a:rPr>
              <a:t>, en la hoja “datos” están todas las fórmulas requerida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Hay que agregar en una celda la función objetivo (E29) y en otras celdas hay que incluir algunas de las restriccion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19:21:55Z</dcterms:created>
  <dc:creator>Administrador</dc:creator>
  <dc:description/>
  <dc:language>en-US</dc:language>
  <cp:lastModifiedBy>Francisco</cp:lastModifiedBy>
  <dcterms:modified xsi:type="dcterms:W3CDTF">2006-05-09T04:44:56Z</dcterms:modified>
  <cp:revision>59</cp:revision>
  <dc:subject/>
  <dc:title>Diapositiva 1</dc:title>
</cp:coreProperties>
</file>