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AC5F-0078-4461-B6CD-159542D1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FBF5-5253-47E0-B354-810AC0EB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4C80-4C42-4EA7-9D27-853CA072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DC93-3A86-44A0-BE60-3A23449C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64FB-F2BB-4DCB-9158-498763AC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8D38-E4E4-4B22-9968-5B2533C4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C0DE-8225-4E39-AEB2-7F9103AB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3675-DEF6-48F3-9EBD-98DDF59F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8036-94D7-49AF-8F99-31F189C5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156A-6C75-4E54-BF77-F5E9A825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63F2-7DB8-468E-8B36-7193BB04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1059-D6A8-4BE0-8072-3683F141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FAC0-CEE5-4443-BD44-9A4B323D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2EBA-105A-4E7D-9FB1-131DEDB5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8DEF-CB1C-4397-B84F-D31FF1A2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70E7-2A70-429D-83F8-441A26F3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3C6F-0D4C-40F8-BE0A-4EAD589F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E35D8-F68A-4F42-BFAE-574F2F90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F76CD-AC7E-40E6-9D65-91101890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2CD75-F8AB-4DC6-8608-CD8F77F7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663B0-75E3-4CAF-B6BC-1FE66FA2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5B63E-37E0-40E8-BD2A-A2C6BF8F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D4B5-2DE8-41D2-9258-84223504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F7407-CD5B-40B7-83D1-5BC84243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58456-ED07-49FA-B795-CAB63BD5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24B0F-FCA6-4647-B27B-6A8EAF73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35BC3-F0C1-4FB9-BC24-631652ED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47916-56FA-42C7-8FA5-D36A25F1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1ABDE-99DF-43D0-81B6-27B08407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1D64F-889C-4286-B91F-21A9BDEE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D152B-93FB-4CF7-8FC6-73052BF19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E314E-5812-40E3-B377-82E9693F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A6B1C-3287-4269-A901-04839D7B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9627-1E97-440C-AC20-7011D79A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5BB4C-66CC-4A63-A3D1-166B0A0D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6AA26-38BA-43F2-A641-589D1704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5F186-D0C5-402B-A1FE-495DFF40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7C1FE-E220-4F3C-A4F4-50B2B653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7748E-16E4-4D96-858E-8508C73A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D1FD1-ECA2-4245-922B-DA220737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B3452-BDA7-49B0-8A1E-59A5E003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2116F-10A4-4DFB-97E3-464E6C8D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4AE1F-227C-4DC2-A893-1B56A502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FF368-E011-429E-A1EE-3B54074B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85B2-FB47-49BE-A877-B2143F08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943B0-F45B-4322-B756-3E68273F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33DCE-0BA4-41FB-9CC1-80436AE7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EC38D-A556-4988-8CC6-5F512C01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BF6DE-87DA-4404-B317-741092E4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D1D7D-42FD-4785-A25D-52862566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8E103-C0D4-4CF6-B626-00B259FE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91AFD-93EE-4F85-8AA2-3B5EEA7A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BF44A-9FD5-466D-B512-1D46A5D5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CF452-C5EF-4870-B7F1-A87DE43D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F8693-4847-49C1-9DB8-95AB622F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BF8C-0CD9-4438-949A-2E9A353B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8BE19-2E87-4929-9CA7-CB334B0A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549C-BEA0-4B1F-A662-502389EF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E20E-4ECD-47BC-9761-1417049A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4385-0163-4C58-925F-AE00A1C0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77E6-646E-447B-B763-738AE61F5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0149-2971-4041-845A-9B610086C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8600" y="-360"/>
            <a:ext cx="0" cy="624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24852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42A –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ri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272C-A09E-4FD1-B791-83F8BC3CD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B5A3-CEF6-41F2-B937-0537502CC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solver.xls" TargetMode="Externa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0000"/>
                </a:solidFill>
                <a:latin typeface="Arial Black"/>
              </a:rPr>
              <a:t>Entendiendo Solver</a:t>
            </a:r>
            <a:endParaRPr b="0" lang="en-US" sz="5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5378760" y="617220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isco Javier Errandonea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2724120" cy="26668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343400" y="1600200"/>
            <a:ext cx="2666880" cy="6858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abre Solver en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57600" y="198108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962520" y="3200400"/>
            <a:ext cx="4724280" cy="2943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715000" y="251460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elda Objetivo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Es la celda que contiene la fórmula de la función objetiv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Máximo, Mínimo o Valores de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e elige que tipo de optimización se quie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ambiando las celdas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on las celdas que van a itera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as restricciones se agregan en </a:t>
            </a: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Agregar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Vamos a partir con las restricciones. Primero agregamos la restricción de máxima inversión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4286520" cy="28004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por lo menos un 5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cep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90720" y="3276720"/>
            <a:ext cx="4514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a lo máximo un 100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34858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s celdas que cambian (iteran) son los alfa i que se invierten en cada proyecto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0" t="0" r="0" b="51626"/>
          <a:stretch/>
        </p:blipFill>
        <p:spPr>
          <a:xfrm>
            <a:off x="762120" y="2971800"/>
            <a:ext cx="5105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n este caso estamos maximizand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93380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nuestra función objetivo se encuentra en E29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53341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El menú de Solver debiera quedar así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"/>
          <p:cNvSpPr/>
          <p:nvPr/>
        </p:nvSpPr>
        <p:spPr>
          <a:xfrm>
            <a:off x="6019920" y="4800600"/>
            <a:ext cx="266688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cer click en Resolver! Y Después en Acep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43434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2666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el resultado que maximiza el VAN queda en la hoja de cálcul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5438520" cy="38671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209680" y="1752480"/>
            <a:ext cx="1447920" cy="2438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¿Qué e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Básicamente un programa para Excel que sirve para solucionar problemas de optimización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esuelve problemas lineales y algunos no-lineales (espacios convexos y con derivadas continuas principalmente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¿Cómo hay que cambiar el problema si elimino la restricción del 5% y asumo que los proyectos no son fraccionables o divisibles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ol: Agregar la restricción que los alfa son binario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eliminar la restricción del 5%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34574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324480" y="1600200"/>
            <a:ext cx="243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Finalmente el menú de Solver quedaría así, y la hoja excel tendría los nuevos alfa óptimos: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56386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790880" cy="3267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638680" y="1827360"/>
            <a:ext cx="2667240" cy="1982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mero comprobar si está insta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o se puede comprobar si existe el sub-menú 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lv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” bajo el menú principa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581280" y="4038480"/>
            <a:ext cx="289584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971800" cy="4019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343400" y="1600200"/>
            <a:ext cx="2666880" cy="1982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no existe, ir a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plementos y se abrirá un menú, donde hay que seleccionar “Solv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281952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495680" y="4419720"/>
            <a:ext cx="3191040" cy="1552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486400" y="3733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09588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no está Solver dentro de las opciones, o aparece algún error, es muy probable que haya que recurrir al CD original del Excel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se perdió el CD hay que conseguírselo con alguien que lo teng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553080" y="1981080"/>
            <a:ext cx="2052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e acaba de ganar US$1 millón en la lotería y aparecen los amigos de siempre que le ofrecen una serie de proyectos, con las siguientes características, todos independientes y fraccionable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¿Cómo puede distribuir su premio entre los proyectos si debe invertir con al menos un 5% de la inversión de cada uno y desea maximizar su VAN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Lucida Sans"/>
              </a:rPr>
              <a:t>Sol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351240" cy="373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1170000" y="2286000"/>
          <a:ext cx="2612880" cy="350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0000" y="2286000"/>
                    <a:ext cx="2612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Viendo el archivo d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Sans"/>
                <a:hlinkClick r:id="rId1"/>
              </a:rPr>
              <a:t>ejempl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</a:rPr>
              <a:t>, en la hoja “datos” están todas las fórmulas requerida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Hay que agregar en una celda la función objetivo (E29) y en otras celdas hay que incluir algunas de las restriccio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21:55Z</dcterms:created>
  <dc:creator>Administrador</dc:creator>
  <dc:description/>
  <dc:language>en-US</dc:language>
  <cp:lastModifiedBy>Francisco</cp:lastModifiedBy>
  <dcterms:modified xsi:type="dcterms:W3CDTF">2006-05-09T04:44:56Z</dcterms:modified>
  <cp:revision>59</cp:revision>
  <dc:subject/>
  <dc:title>Diapositiva 1</dc:title>
</cp:coreProperties>
</file>