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3CA-74E3-4539-B2AF-3FB37390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3DB-D120-4D77-8998-030FFD86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396A-020A-4569-AE98-2EAB11DE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05B-919D-47F1-991F-A66DB8D4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0D89-F7BD-47CC-A2A6-DAC3E60F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1638-B9F0-4EA5-8078-08880C13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CB53-4C59-4E10-A52D-D7C33072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2DF2-C35B-4C5D-A5E0-A9BE14BC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EA62-6B4D-41B5-A0E6-C65D6EC0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ACC7-0113-4029-9C93-14AF4197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A727-3570-48E8-8AFA-A094EE56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28E2-0A9A-4F28-85D6-E96D1598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DA88-1259-4997-8377-A6B684B9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7454-3173-49EE-95CF-4EC1A052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8808-3DD1-4583-BAA7-7534F66C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9E6E-8141-4677-A08E-369ED4A9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9D89-27C8-4C95-A4BE-36074516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E049D-EA77-495E-8F34-87164A4B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8B751-E99B-4EB9-94AE-0D850E4F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38DB9-F326-439A-AE11-E34D7678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AC62A-CB04-4A66-BA8A-38AAEDB2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F861F-8A3E-4362-880B-BBBD7B1B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BC8-B17A-4469-9638-4D5AB41B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58A14-CC80-491C-8BBB-307B5F8A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423C-9889-4F99-80BF-0A055679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EE1CE-BFAD-4C75-BB96-23F9E372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B4C02-7089-4D06-9650-A4E53F27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131F5-BED8-4342-88F5-39BB51FC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2B2DF-9202-4B9C-B46B-AB06827F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93AC5-EB70-4F8F-A21B-7117A4C4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5B739-E977-4BE9-86C3-32004732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C3A8E-42DD-4452-B70A-4EE8F5E7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162AB-E506-44AD-997F-81FEC21B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BFA-5F3B-4D32-80D8-1212F2E7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423A7-BF58-4C26-9723-A8EDED5A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E77A9-8700-4824-AA43-F5A7B9AF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EEF12-7041-4307-9EAA-EA8800B6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765A3-F082-4AAF-B519-3FAF6AF2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2A077-266E-4909-BE42-9F61A9F4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B3A15-7F81-4F48-B63E-B03B8258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C0177-FBE8-48E6-859E-7920A0E3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2317A-7274-47C7-88F0-367142BF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817D3-3674-49A7-8494-E971EBE3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FACDF-427E-4AA9-9824-731BEB37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950-DCFB-4721-B804-23657D06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0C688-78F8-46C8-B2BF-43BC9B78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AB23A-E450-4A3F-97BF-EC0214D8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9C330-E746-4946-9F21-15737FB1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A9B13-B3DB-4B6E-B4F6-AE44C023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FA6CF-3FE7-4446-A56C-C5430004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DD926-6339-43D7-8F34-1B6C989D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CC0E6-2B3B-4734-9CF7-2D36896D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296F2-601E-4BBA-8E78-578910DE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EB8F3-B6C5-469E-BC2A-E01A13AA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57398-2120-44AD-BC3E-663E4482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7BB-3FB3-4EFB-8D4C-F9996BB3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F1334-8AFD-4EEB-96DB-1C39B734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FA3-F547-403B-AABC-E80FDB49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DDB-6CEF-4DE9-9BB8-9C3049BD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747-3090-45C7-9E68-2371C991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A44D-02E6-4076-8179-A883F15BA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873E-F945-4152-953D-7BD7373F7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1523-B838-46B6-B28D-766967B10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4861-C451-4D73-9BDB-AF5E06BAF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solver.xls" TargetMode="Externa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Entendiendo Solver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5378760" y="617220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isco Javier Errandonea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7241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343400" y="1600200"/>
            <a:ext cx="26668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Solver en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1981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724280" cy="2943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7150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elda Objetivo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Es la celda que contiene la fórmula de la función objetiv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Máximo, Mínimo o Valores de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e elige que tipo de optimización se qui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ambiando las celdas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on las celdas que van a iter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restricciones se agregan en </a:t>
            </a: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Agregar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amos a partir con las restricciones. Primero agregamos la restricción de máxima inversión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por lo menos un 5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cep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4514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a lo máximo un 100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3485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 celdas que cambian (iteran) son los alfa i que se invierten en cada proyect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0" r="0" b="51626"/>
          <a:stretch/>
        </p:blipFill>
        <p:spPr>
          <a:xfrm>
            <a:off x="762120" y="2971800"/>
            <a:ext cx="5105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n este caso estamos maximizand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338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nuestra función objetivo se encuentra en E29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334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l menú de Solver debiera quedar así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4800600"/>
            <a:ext cx="266688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click en Resolver! Y Después en Acep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43434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2666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 resultado que maximiza el VAN queda en la hoja de cálcu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438520" cy="3867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209680" y="1752480"/>
            <a:ext cx="1447920" cy="243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ásicamente un programa para Excel que sirve para solucionar problemas de optimizació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suelve problemas lineales y algunos no-lineales (espacios convexos y con derivadas continuas principalment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hay que cambiar el problema si elimino la restricción del 5% y asumo que los proyectos no son fraccionables o divisibles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l: Agregar la restricción que los alfa son binario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iminar la restricción del 5%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457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24480" y="1600200"/>
            <a:ext cx="243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inalmente el menú de Solver quedaría así, y la hoja excel tendría los nuevos alfa óptimo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6386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790880" cy="3267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638680" y="1827360"/>
            <a:ext cx="2667240" cy="1982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 comprobar si está insta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 se puede comprobar si existe el sub-menú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bajo el menú princip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581280" y="4038480"/>
            <a:ext cx="28958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971800" cy="4019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343400" y="1600200"/>
            <a:ext cx="2666880" cy="1982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, ir a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lementos y se abrirá un menú, donde hay que seleccionar “Sol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3191040" cy="1552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86400" y="3733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no está Solver dentro de las opciones, o aparece algún error, es muy probable que haya que recurrir al CD original del Exce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se perdió el CD hay que conseguírselo con alguien que lo teng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05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e acaba de ganar US$1 millón en la lotería y aparecen los amigos de siempre que le ofrecen una serie de proyectos, con las siguientes características, todos independientes y fraccionabl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puede distribuir su premio entre los proyectos si debe invertir con al menos un 5% de la inversión de cada uno y desea maximizar su VAN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Lucida Sans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124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1170000" y="2286000"/>
          <a:ext cx="26128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0000" y="2286000"/>
                    <a:ext cx="261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iendo el archivo d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Sans"/>
                <a:hlinkClick r:id="rId1"/>
              </a:rPr>
              <a:t>ejempl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, en la hoja “datos” están todas las fórmulas requerida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ay que agregar en una celda la función objetivo (E29) y en otras celdas hay que incluir algunas de las restriccio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</cp:lastModifiedBy>
  <dcterms:modified xsi:type="dcterms:W3CDTF">2006-05-09T04:44:56Z</dcterms:modified>
  <cp:revision>59</cp:revision>
  <dc:subject/>
  <dc:title>Diapositiva 1</dc:title>
</cp:coreProperties>
</file>