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59D6-FA74-49EC-AA0A-2149C8E7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C3C-B9C5-4A6F-BE3C-FD6C1F71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2ED-4707-444B-8193-37B8A54D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8A9F-8FD6-4E19-8D63-6E069760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661E-37FE-46E5-8F6B-199B1FC5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1D7-9064-449D-A821-2D8AB4DC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5F64-AA31-45AB-B764-BB067EC8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A57D-1E3A-4133-8B6B-43D73DE8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5F66-409F-44B4-AC72-82813CF8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BD35-8172-4BA1-9C1D-3CAF9DC6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D9B1-D320-4D9E-8B63-7F09ED7C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449F-14D7-4C5D-AA07-3B5880FB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5C97-0F12-4992-B6E2-77AF4AF5D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visión transversal de la regulación de servicios públ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81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Tomás Mor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nisterio de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uál es el reemplazante de la empresa eficiente que comienza de ce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l mismo concepto “parchado”, un cambio más radical hacia el price cap “a la inglesa” o un camino intermedio como “empresa eficiente con historia que va tomando decisiones óptimas en el tiempo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cuado balance entre incentivos para que los monopolios regulados incursionen en  negocios no regulados, versus prorrateo de costos con servicios regu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doja: a mayor desregulación, mayor es la complejidad de la regul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os tres sectores los siguientes aspectos de procedimiento son distin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os tarifarios simultáneos o dif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undidad de las bases para los estu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hace el o los estudi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discrepa de qué estudio o propuesta tarif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equeo de rentab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gulador ha tendido a hacer bases cada vez más específ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valor estratégico quién discrepa de qué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eritos (no permanentes) tienen la tendencia a “promedia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donde hay algún grado de competencia, tendría beneficios la simultaneidad de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vemos justificación al chequeo de rent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Podemos confiar en un estudio tarifario “independiente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Respecto de qué resultados debemos permitir que se presenten discrepanci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ómo balancear la ventaja del “aprendizaje continuo” de los procesos no simultáneos con las ventajas de “economías de escala” y “tratamiento simétrico” de los procesos simultáneo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mos próximos a concluir tres estudios sobre los temas aquí tra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este modo esperamos avanzar en las respuestas a las interrogantes pend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isión Desarrollo de Merc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sión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lar por el buen funcionamiento de una institucionalidad regulatoria que propenda al desarrollo de mercados más eficientes y competitivos, sin descuidar la protección de sectores vulner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nciones Principales: (a)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seño de marcos regulatorios y de competencia; (b) participación en procesos de fijación tarifar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acuerdo a la experiencia transversal del Ministerio de Economía, qué sabemos y qué nos falta por saber 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 de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da sector tiene un diseño institucional dist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una subsecretaría (políticas, regula, fiscaliza) y comisiones periciales no permanentes con fallos no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servicios sanitarios, una superintendencia (regula, fiscaliza) y comisiones periciales no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ectricidad, una Comisión Nacional de Energía (políticas?, regula), una superintendencia (fiscaliza) y una comisión pericial permanente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los tres sectores el Ministerio de Economía firma los decretos tarifarios, pero sólo en telecomunicaciones participa formalmente en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ás que el nombre del organismo regulador, lo que importa es la dependencia de su je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seable avanzar hacia comisiones periciales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lo hace menos relevante la independencia entre el regulador y el poder político, y los contrapesos del regu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ualquier caso, Minecon no debiera firmar decretos tarifarios sin participar en los proce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ominan los conflictos o las sinergias entre dictar políticas, regular y fiscaliz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nte el mayor contrapeso de las comisiones periciales, ¿debemos juntar a los regulad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relación debe haber entre las eventuales comisiones periciales perman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bien el status del mandato normativo difiere, en los tres sectores las tarifas se fijan de acuerdo a una empresa eficiente “teórica” que parte de c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epto creado cuando las empresas eran públicas, sigue mostrando virtudes, como la atenuación de asimetrías de información entre empresa y reg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 embargo, las empresas y en menor grado el regulador han ido desvirtuando el concep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estamos satisfechos con las rentas tarifarias por “rotura y reposición de pavimentos” y plusvalía de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poco con pérdidas tarifarias por obsolescencia tecnológica y horizonte de inversiones restring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bien el resultado neto puede ser razonable, se están incubando riesgos tarifarios import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5:44:45Z</dcterms:created>
  <dc:creator>UTFSM</dc:creator>
  <dc:description/>
  <dc:language>en-US</dc:language>
  <cp:lastModifiedBy>jtmorel</cp:lastModifiedBy>
  <dcterms:modified xsi:type="dcterms:W3CDTF">2006-06-27T15:05:49Z</dcterms:modified>
  <cp:revision>14</cp:revision>
  <dc:subject/>
  <dc:title>Una visión transversal de la regulación de servicios públicos</dc:title>
</cp:coreProperties>
</file>