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14240" y="53352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2323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362320" y="18288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362320" y="298296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240" y="53352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2323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362320" y="18288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42280" y="18288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362320" y="298296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642280" y="298296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53352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2323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362320" y="18288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26280" y="18288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8288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362320" y="298296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526280" y="298296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298296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514240" y="53352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2323d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362320" y="18288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14240" y="53352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2323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362320" y="18288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14240" y="53352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2323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362320" y="182880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642280" y="182880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53352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2323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514240" y="533520"/>
            <a:ext cx="62485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53352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2323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362320" y="18288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642280" y="182880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362320" y="298296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14240" y="53352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2323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362320" y="182880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642280" y="18288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42280" y="298296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14240" y="53352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2323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362320" y="18288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42280" y="18288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362320" y="298296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14240" y="53352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2323d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2323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362320" y="18288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03280" y="105228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98c73"/>
                </a:solidFill>
                <a:latin typeface="Arial"/>
              </a:rPr>
              <a:t>INDUSTRIA DE BEBIDAS REFRESCANTES</a:t>
            </a:r>
            <a:endParaRPr b="1" lang="en-US" sz="2800" spc="-1" strike="noStrike">
              <a:solidFill>
                <a:srgbClr val="32323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31640" y="2492280"/>
            <a:ext cx="7391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98c73"/>
                </a:solidFill>
                <a:latin typeface="Arial"/>
              </a:rPr>
              <a:t>IMPUESTO ADICION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98c73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298c73"/>
                </a:solidFill>
                <a:latin typeface="Arial"/>
              </a:rPr>
              <a:t>A LAS BEBIDAS ANALCOHÓLIC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98c73"/>
                </a:solidFill>
                <a:latin typeface="Arial"/>
              </a:rPr>
              <a:t>(IAB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98c73"/>
                </a:solidFill>
                <a:latin typeface="Arial"/>
              </a:rPr>
              <a:t>IMPÁCTO ECONÓMIC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305920" cy="50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830556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98c73"/>
                </a:solidFill>
                <a:latin typeface="Arial"/>
              </a:rPr>
              <a:t> </a:t>
            </a:r>
            <a:r>
              <a:rPr b="1" lang="es-ES_tradnl" sz="3400" spc="-1" strike="noStrike">
                <a:solidFill>
                  <a:srgbClr val="000000"/>
                </a:solidFill>
                <a:latin typeface="Arial"/>
              </a:rPr>
              <a:t>IABA: Recaudación e Incidencia</a:t>
            </a:r>
            <a:r>
              <a:rPr b="1" lang="es-ES_tradnl" sz="2800" spc="-1" strike="noStrike">
                <a:solidFill>
                  <a:srgbClr val="298c73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2323d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8640720" cy="42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98c73"/>
                </a:solidFill>
                <a:latin typeface="Arial"/>
              </a:rPr>
              <a:t> </a:t>
            </a:r>
            <a:r>
              <a:rPr b="1" lang="es-ES_tradnl" sz="3400" spc="-1" strike="noStrike">
                <a:solidFill>
                  <a:srgbClr val="000000"/>
                </a:solidFill>
                <a:latin typeface="Arial"/>
              </a:rPr>
              <a:t>IABA: Recaudación e Incidencia</a:t>
            </a:r>
            <a:r>
              <a:rPr b="1" lang="es-ES_tradnl" sz="2800" spc="-1" strike="noStrike">
                <a:solidFill>
                  <a:srgbClr val="298c73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2323d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013600" cy="53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2323d"/>
                </a:solidFill>
                <a:latin typeface="Arial"/>
              </a:rPr>
              <a:t>REGRESIVIDAD</a:t>
            </a:r>
            <a:endParaRPr b="1" lang="en-US" sz="4000" spc="-1" strike="noStrike">
              <a:solidFill>
                <a:srgbClr val="32323d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417080" cy="41608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0920" y="191628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32000" y="5229360"/>
            <a:ext cx="65530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s Gaseosas han aumentados su participación en la canasta de consum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on el tercer ítem de mayor gasto del presupuesto familiar, superadas sólo por la carne de vacuno y el p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2323d"/>
                </a:solidFill>
                <a:latin typeface="Arial"/>
              </a:rPr>
              <a:t>REGRESIVIDAD</a:t>
            </a:r>
            <a:endParaRPr b="1" lang="en-US" sz="4000" spc="-1" strike="noStrike">
              <a:solidFill>
                <a:srgbClr val="32323d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191628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5229360"/>
            <a:ext cx="720072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incidencia de las bebidas en el quintil más pobre (quintil 1) es más de tres veces superior a la observada en el quintil de mayores ingresos (quintil 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términos relativos al ingreso, la población de menores recursos paga una mayor proporción del IAB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7274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2323d"/>
                </a:solidFill>
                <a:latin typeface="Arial"/>
              </a:rPr>
              <a:t>REGRESIVIDAD</a:t>
            </a:r>
            <a:endParaRPr b="1" lang="en-US" sz="3200" spc="-1" strike="noStrike">
              <a:solidFill>
                <a:srgbClr val="32323d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191628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5176800"/>
            <a:ext cx="871380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quintil de mayores ingresos (quintil 5) cancela aproximadamente un 30% más del IABA que el quintil más pobre (quintil 1) y el ingreso promedio por hogar del quintil 5 es 14 veces mayor al ingreso promedio del quintil más pob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58% del IABA es pagado por las familias que dan cuenta del 24% de los ingresos totales del paí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87280" y="836640"/>
            <a:ext cx="669780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2560" y="533520"/>
            <a:ext cx="7720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2323d"/>
                </a:solidFill>
                <a:latin typeface="Arial"/>
              </a:rPr>
              <a:t>Perdidas Sociales: Aspectos Teóricos</a:t>
            </a:r>
            <a:endParaRPr b="1" lang="en-US" sz="3200" spc="-1" strike="noStrike">
              <a:solidFill>
                <a:srgbClr val="32323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42560" y="1674360"/>
            <a:ext cx="7720200" cy="49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Justificación de impuestos específico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istencia de externalidades nega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Otros bienes con tasas especiales.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LA: Pisco; Licores y otros; Vinos; Cervezas; Whi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ntu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ehículos y o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Impuestos específico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igarrillos y taba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mbust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692360" y="1341360"/>
            <a:ext cx="0" cy="446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92360" y="5805360"/>
            <a:ext cx="547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92360" y="1916280"/>
            <a:ext cx="3743280" cy="37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268360" y="2204640"/>
            <a:ext cx="3598920" cy="360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692360" y="1844280"/>
            <a:ext cx="3527280" cy="352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924360" y="314172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422100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19640" y="3645000"/>
            <a:ext cx="0" cy="21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1692360" y="4149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692000" y="3645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03640" y="1484280"/>
            <a:ext cx="158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2 = So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96000" y="1916280"/>
            <a:ext cx="201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1 = Priv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08720" y="5229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276360" y="2060640"/>
            <a:ext cx="43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95640" y="3933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03640" y="321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35280" y="285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11280" y="1700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dida So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51280" y="3213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80000" y="3284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35280" y="3357720"/>
            <a:ext cx="0" cy="50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08360" y="3357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64000" y="35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3573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549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ERDIDA SOCIAL DE UNA EXTERNALIDAD NEG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32000" y="1125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93080" y="58053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58920" y="342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 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58920" y="393372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32000" y="580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 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08360" y="5805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87280" y="533160"/>
            <a:ext cx="757584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2323d"/>
                </a:solidFill>
                <a:latin typeface="Arial"/>
              </a:rPr>
              <a:t>Perdidas Sociales: Aspectos Teóricos</a:t>
            </a:r>
            <a:endParaRPr b="1" lang="en-US" sz="3200" spc="-1" strike="noStrike">
              <a:solidFill>
                <a:srgbClr val="32323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s bebidas no generan externalidades negativa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 incomprensible que el impuesto al vino y las cervezas sea de 15% y el impuesto a las bebidas analcohólicas sea de 13%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 IABA contrae la producción y el consumo evitando que se alcance el óptimo socia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magnitud de la pérdida social depende de las elasticidades de oferta y demand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ientras más altas las elasticidades mayor la pérdida socia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 IABA no se justifica y genera un costo social: Para cuantificar el costo del IABA necesitamos una estimación de las elasticidades involucradas.</a:t>
            </a: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ESQUEMA</a:t>
            </a:r>
            <a:br>
              <a:rPr sz="2400"/>
            </a:br>
            <a:endParaRPr b="1" lang="en-US" sz="3600" spc="-1" strike="noStrike">
              <a:solidFill>
                <a:srgbClr val="32323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1640" y="836640"/>
            <a:ext cx="7391160" cy="58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19040"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La Importancia de la Industria de Bebidas Refrescante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El IAB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Descripción y marco lega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Historia del IABA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Recaudación e incidencia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Problemas del IAB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Regresividad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érdidas social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Aspectos Teórico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Elasticidad Precio de la Demanda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Elasticidad Precio de la Oferta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Estimación Pérdidas Sociale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Desincentivo para la Industria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Resumen de los Impacto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298c73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692360" y="1341360"/>
            <a:ext cx="0" cy="446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92360" y="5805360"/>
            <a:ext cx="547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40000" y="1557360"/>
            <a:ext cx="3743280" cy="37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268360" y="2204640"/>
            <a:ext cx="3598920" cy="360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924360" y="314172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24360" y="422100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692360" y="4149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692360" y="364500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6000" y="1916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08720" y="5229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3851280" y="2349000"/>
            <a:ext cx="2160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00720" y="342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24360" y="2781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24360" y="400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03640" y="1989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dida So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19280" y="54936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ERDIDA SOCIAL DEL IA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32000" y="1125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93080" y="58053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58920" y="342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58920" y="393372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11640" y="580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08360" y="5805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27640" y="3645000"/>
            <a:ext cx="0" cy="21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692360" y="3141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58920" y="2924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24360" y="3284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342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3573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24360" y="3716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24360" y="386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24360" y="378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24360" y="393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24360" y="4005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24360" y="3500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24360" y="3357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533520"/>
            <a:ext cx="786312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2323d"/>
                </a:solidFill>
                <a:latin typeface="Arial"/>
              </a:rPr>
              <a:t>Función de Demanda por Bebidas Gaseosas</a:t>
            </a:r>
            <a:endParaRPr b="1" lang="en-US" sz="2800" spc="-1" strike="noStrike">
              <a:solidFill>
                <a:srgbClr val="32323d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Qd = f ( P; Ps; Pc; I; 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(-) (+)  (-) (+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Qd = Demanda por bebidas gaseos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 = Precio de la bebidas gaseos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s = Precio bienes sustitutos (agua mineral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c = Precio bienes complementarios (pisco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 = Imacec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 = Estacionalidad (5 Dummie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eb-Mar; Abr-May; Jun-Jul; Ago-Sep; Oct-Nov. Miden el efecto en el consumo de los meses mencionados vs Ene-Dic de cada a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71280" y="533520"/>
            <a:ext cx="7791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2323d"/>
                </a:solidFill>
                <a:latin typeface="Arial"/>
              </a:rPr>
              <a:t>Función de Demanda por Bebidas Gaseosas</a:t>
            </a:r>
            <a:endParaRPr b="1" lang="en-US" sz="2800" spc="-1" strike="noStrike">
              <a:solidFill>
                <a:srgbClr val="32323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03280" y="1557000"/>
            <a:ext cx="73375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Método Estimación: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ínimos Cuadrados en 2 eta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bido a posible endogeneidad entre el consumo y el precio de bebidas gaseos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Instrumento: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ecio rezaga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ariable que sigue los cambios en los costos: Azú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834920" y="1268280"/>
            <a:ext cx="682452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</a:rPr>
              <a:t>Supuesto: Elasticidad precio de la oferta es infinita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</a:rPr>
              <a:t>Otras industrias tienen factores limitados: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éctrico (derechos de agu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cursos Naturales (cli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100" spc="-1" strike="noStrike">
                <a:solidFill>
                  <a:srgbClr val="000000"/>
                </a:solidFill>
                <a:latin typeface="Arial"/>
              </a:rPr>
              <a:t>La industria de bebidas refrescantes sólo requiere del capital necesario para su instalación y puesta en marcha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2339640" y="547920"/>
            <a:ext cx="62485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lasticidad Precio de la Oferta</a:t>
            </a:r>
            <a:endParaRPr b="1" lang="en-US" sz="3200" spc="-1" strike="noStrike">
              <a:solidFill>
                <a:srgbClr val="32323d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16000" y="475200"/>
            <a:ext cx="764712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stimación Perdidas Sociales</a:t>
            </a:r>
            <a:endParaRPr b="1" lang="en-US" sz="3600" spc="-1" strike="noStrike">
              <a:solidFill>
                <a:srgbClr val="32323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58560" y="1196640"/>
            <a:ext cx="7667640" cy="56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a pérdida Social (PS) corresponde al triángulo conformado por el área ABC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iguiendo a Harberger (1964) “Taxation, Resource Allocation and Welfare”, en </a:t>
            </a: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The Role of Indirect Taxes in the Federal Reserve System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. Princeton University Press, National Bureau of Economic Research y The Brooking Institution, la pérdida se expresa formalmente de la siguiente manera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τ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½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"/>
              </a:rPr>
              <a:t>·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η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P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τ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Q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τ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AB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ond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S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= Pérdida social en el año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η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= Elasticidad precio de la dema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= Precio sin el cobro del IABA en el período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= Cantidad demandada de bebidas en el período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para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un nivel de precio sin el IAB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692360" y="1052640"/>
            <a:ext cx="7200720" cy="54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 Perdida Social para el 2005 es de US$ 4,3 millones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nualmente el IABA está generando una pérdida social de US$ 4,3 millon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ta estimación en valor presente alcanza una magnitud de US$ 126,5 millones. La perpetuidad se calcula de la siguiente manera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VPN = PS        1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8% - 4,6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8% = Tasa social de descuento utilizada por MIDE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4,6% = Crecimiento futuro de la industria (5%*0,9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olo incluye gaseosa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40000" y="332640"/>
            <a:ext cx="7704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stimación Perdidas Soci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03640" y="414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03640" y="40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35280" y="4437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560" y="434160"/>
            <a:ext cx="8893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liminación del IABA: Resumen de Impactos</a:t>
            </a:r>
            <a:endParaRPr b="1" lang="en-US" sz="2800" spc="-1" strike="noStrike">
              <a:solidFill>
                <a:srgbClr val="32323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777080" cy="532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umento de las ventas de la industr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delantamiento de inversion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umento del emple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umento de la demanda deriva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umento de la recaudación del IVA y de la recaudación por aumento de la demanda agrega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fecto de relocalización de las inversiones en la regió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fecto positivo sobre la distribución del ingres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98c73"/>
                </a:solidFill>
                <a:latin typeface="Arial"/>
              </a:rPr>
              <a:t> </a:t>
            </a:r>
            <a:r>
              <a:rPr b="1" lang="es-ES_tradnl" sz="3400" spc="-1" strike="noStrike">
                <a:solidFill>
                  <a:srgbClr val="000000"/>
                </a:solidFill>
                <a:latin typeface="Arial"/>
              </a:rPr>
              <a:t>La Importancia de la Industria</a:t>
            </a:r>
            <a:br>
              <a:rPr sz="3400"/>
            </a:br>
            <a:r>
              <a:rPr b="1" lang="es-ES_tradnl" sz="3400" spc="-1" strike="noStrike">
                <a:solidFill>
                  <a:srgbClr val="000000"/>
                </a:solidFill>
                <a:latin typeface="Arial"/>
              </a:rPr>
              <a:t> de Bebidas Refrescantes</a:t>
            </a:r>
            <a:r>
              <a:rPr b="1" lang="es-ES_tradnl" sz="2800" spc="-1" strike="noStrike">
                <a:solidFill>
                  <a:srgbClr val="298c73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2323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1640" y="1484280"/>
            <a:ext cx="7391160" cy="496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19040" indent="-4190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finición Industria de Bebidas Refrescant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Industria que produce, embotella y distribuye bebidas carbonatadas; bebidas de fantasía no carbonatadas, jugos isotónicos; jugos y néctares; aguas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Valor de la producción en 2005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Total Industria US$ 1.472 millone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Ventas en volumen 2005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Total Industria 2.100 millones de litro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Total ANBER 1.800 millones de litro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908000" y="4941360"/>
            <a:ext cx="6624720" cy="10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lta participación de las bebidas gaseosas que son las afectas a IAB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642160" cy="323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4042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98c73"/>
                </a:solidFill>
                <a:latin typeface="Arial"/>
              </a:rPr>
              <a:t> </a:t>
            </a:r>
            <a:r>
              <a:rPr b="1" lang="es-ES_tradnl" sz="3400" spc="-1" strike="noStrike">
                <a:solidFill>
                  <a:srgbClr val="000000"/>
                </a:solidFill>
                <a:latin typeface="Arial"/>
              </a:rPr>
              <a:t>La Importancia de la Industria</a:t>
            </a:r>
            <a:br>
              <a:rPr sz="3400"/>
            </a:br>
            <a:r>
              <a:rPr b="1" lang="es-ES_tradnl" sz="3400" spc="-1" strike="noStrike">
                <a:solidFill>
                  <a:srgbClr val="000000"/>
                </a:solidFill>
                <a:latin typeface="Arial"/>
              </a:rPr>
              <a:t> de Bebidas Refrescantes</a:t>
            </a:r>
            <a:r>
              <a:rPr b="1" lang="es-ES_tradnl" sz="2800" spc="-1" strike="noStrike">
                <a:solidFill>
                  <a:srgbClr val="298c73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2323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31640" y="1628280"/>
            <a:ext cx="7391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190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Valor Agregado Directo 2005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US$ 453 millones directos, un 0,4% del PIB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manda Derivada 2005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US$ 663 millone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otal Valor Agregado 2005 (Directo e Indirecto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US$ 1.116 millones, un 0,97% del PIB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Similar al PIB del sector pesca; cerca de un tercio del PIB agropecuario y silvícol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160" y="4042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98c73"/>
                </a:solidFill>
                <a:latin typeface="Arial"/>
              </a:rPr>
              <a:t> </a:t>
            </a:r>
            <a:r>
              <a:rPr b="1" lang="es-ES_tradnl" sz="3400" spc="-1" strike="noStrike">
                <a:solidFill>
                  <a:srgbClr val="000000"/>
                </a:solidFill>
                <a:latin typeface="Arial"/>
              </a:rPr>
              <a:t>La Importancia de la Industria</a:t>
            </a:r>
            <a:br>
              <a:rPr sz="3400"/>
            </a:br>
            <a:r>
              <a:rPr b="1" lang="es-ES_tradnl" sz="3400" spc="-1" strike="noStrike">
                <a:solidFill>
                  <a:srgbClr val="000000"/>
                </a:solidFill>
                <a:latin typeface="Arial"/>
              </a:rPr>
              <a:t> de Bebidas Refrescantes</a:t>
            </a:r>
            <a:r>
              <a:rPr b="1" lang="es-ES_tradnl" sz="2800" spc="-1" strike="noStrike">
                <a:solidFill>
                  <a:srgbClr val="298c73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2323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31640" y="1628280"/>
            <a:ext cx="7391160" cy="431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190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xportación de concentrado a L.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Coca-Cola por US$ 88,6 millones en ‘05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mpresas operan franquicias en L.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Embotelladora Andina: Argentina y Brasi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Embotelladora Embonor: Bolivi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Embotelladora Polar: Argentina</a:t>
            </a:r>
            <a:r>
              <a:rPr b="0" lang="es-ES_tradnl" sz="2500" spc="-1" strike="noStrike">
                <a:solidFill>
                  <a:srgbClr val="298c73"/>
                </a:solidFill>
                <a:latin typeface="Arial"/>
              </a:rPr>
              <a:t> 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160" y="4042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98c73"/>
                </a:solidFill>
                <a:latin typeface="Arial"/>
              </a:rPr>
              <a:t> </a:t>
            </a:r>
            <a:r>
              <a:rPr b="1" lang="es-ES_tradnl" sz="3400" spc="-1" strike="noStrike">
                <a:solidFill>
                  <a:srgbClr val="000000"/>
                </a:solidFill>
                <a:latin typeface="Arial"/>
              </a:rPr>
              <a:t>La Importancia de la Industria</a:t>
            </a:r>
            <a:br>
              <a:rPr sz="3400"/>
            </a:br>
            <a:r>
              <a:rPr b="1" lang="es-ES_tradnl" sz="3400" spc="-1" strike="noStrike">
                <a:solidFill>
                  <a:srgbClr val="000000"/>
                </a:solidFill>
                <a:latin typeface="Arial"/>
              </a:rPr>
              <a:t> de Bebidas Refrescantes</a:t>
            </a:r>
            <a:r>
              <a:rPr b="1" lang="es-ES_tradnl" sz="2800" spc="-1" strike="noStrike">
                <a:solidFill>
                  <a:srgbClr val="298c73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2323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31640" y="1628640"/>
            <a:ext cx="7391160" cy="46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190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mpleos Directos: 11.771 persona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manda Derivada (efectos de encadenamiento) intensivos en mano de obra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Distribución, comercialización, publicidad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27.621 empleos indirectos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Por cada empleo generado en la industria de bebidas se crean 2,3 empleos adicionales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otal Empleo Directo e Indirecto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39.392 personas, un 0,4% de la fuerza de trabajo promedio ocupada el ’05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000" y="4042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98c73"/>
                </a:solidFill>
                <a:latin typeface="Arial"/>
              </a:rPr>
              <a:t> </a:t>
            </a:r>
            <a:r>
              <a:rPr b="1" lang="es-ES_tradnl" sz="3400" spc="-1" strike="noStrike">
                <a:solidFill>
                  <a:srgbClr val="000000"/>
                </a:solidFill>
                <a:latin typeface="Arial"/>
              </a:rPr>
              <a:t>IABA: Descripción y Marco Legal</a:t>
            </a:r>
            <a:r>
              <a:rPr b="1" lang="es-ES_tradnl" sz="2800" spc="-1" strike="noStrike">
                <a:solidFill>
                  <a:srgbClr val="298c73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2323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31640" y="1628640"/>
            <a:ext cx="7391160" cy="40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1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IABA es un impuesto específico que se aplica sobre la misma base que el IV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asa: 13% a las ventas e importaciones de bebidas analcohólicas naturales o artificiales y aguas minerales a las que se les haya adicionado colorant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98c73"/>
                </a:solidFill>
                <a:latin typeface="Arial"/>
              </a:rPr>
              <a:t> </a:t>
            </a:r>
            <a:r>
              <a:rPr b="1" lang="es-ES_tradnl" sz="3400" spc="-1" strike="noStrike">
                <a:solidFill>
                  <a:srgbClr val="000000"/>
                </a:solidFill>
                <a:latin typeface="Arial"/>
              </a:rPr>
              <a:t>IABA: Descripción y Marco Legal</a:t>
            </a:r>
            <a:r>
              <a:rPr b="1" lang="es-ES_tradnl" sz="2800" spc="-1" strike="noStrike">
                <a:solidFill>
                  <a:srgbClr val="298c73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2323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258920" y="1341000"/>
            <a:ext cx="7391520" cy="47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19040" indent="-41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oductos gravado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Bebidas de fantasía carbonatadas (Gaseosas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Bebidas de fantasía no carbonatada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Jugos Isotónico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Aguas saborizadas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No se encuentran afectos al IABA las ventas al consumidor fin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Por lo tanto el IABA como porcentaje del precio al consumidor no es necesariamente un 13%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En el ’05 representó en promedio un 6,6% para las gaseosas.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3T21:05:48Z</dcterms:created>
  <dc:creator/>
  <dc:description/>
  <dc:language>en-US</dc:language>
  <cp:lastModifiedBy>Usuario Final</cp:lastModifiedBy>
  <cp:lastPrinted>2003-01-08T18:30:31Z</cp:lastPrinted>
  <dcterms:modified xsi:type="dcterms:W3CDTF">2006-06-05T21:10:22Z</dcterms:modified>
  <cp:revision>376</cp:revision>
  <dc:subject/>
  <dc:title>INDUSTRIA DE BEBIDAS REFRESCANTES</dc:title>
</cp:coreProperties>
</file>