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351-98F6-4BD1-9724-8401D5D7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046-CCD7-4A02-B127-CE340B94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25EA-F892-4007-9072-029E9610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113C-4DF5-4E3F-ADEF-4D898A16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E1AD-626E-4470-8363-1BB948E5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471B-DD33-4322-B722-49D9ED9E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2F78-AF99-4AE7-8DD7-E6DAF695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AA79-041F-4123-AEBB-E19F2A0E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E740-1862-4CD7-8AF9-FF6D72C5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F032-51F8-49D6-A4BA-05C897BF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09F5-BEC3-4130-A7B8-92215C45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D7B-55BA-4F5D-B30D-5DD528BC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71D9-66A6-4CED-BD1A-EC2F4B84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2A2A-76F2-493D-8B0B-900F46E1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1DA4-A89E-451D-BC12-25E9B1D2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5881-A361-483B-B918-60F0D4BB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A0B5-19D7-49BB-904D-4DC0AF3F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8F01-443C-42C0-A7F3-7C2A0F0D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715-EA19-442D-B3E4-2D988B10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E30-EA74-4A93-A160-B354D55B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724B-C09D-41DF-A7DB-A0C50162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4B41-907A-4430-86D2-A46E2D4F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4B0-14BF-4C8B-A2B8-3F018BE6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B7A-FD29-4D66-8592-7D69EEDB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20800" y="0"/>
            <a:ext cx="57024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3A76-2F80-489B-92C9-7EC956CB7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20800" y="0"/>
            <a:ext cx="57024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4E69-70C5-4B9C-9A82-74061D5C2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mpl.com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TILIZAND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MP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mp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tis, pero tiene restric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00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00 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rfaz gráfica pobre, se escribe en notepad o editor de texto si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delo: archivo.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atos: archivo.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pilación: archivo.run (opc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492360" y="3297240"/>
          <a:ext cx="5651640" cy="3560760"/>
        </p:xfrm>
        <a:graphic>
          <a:graphicData uri="http://schemas.openxmlformats.org/drawingml/2006/table">
            <a:tbl>
              <a:tblPr/>
              <a:tblGrid>
                <a:gridCol w="1413000"/>
                <a:gridCol w="1413000"/>
                <a:gridCol w="1412640"/>
                <a:gridCol w="1413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h/maq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n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h/h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rta D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rta Si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ana D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ana Si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2916360" y="1989000"/>
            <a:ext cx="62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bricación de puertas y vent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800" y="458136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O DE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nibilidad de recur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tidad de madera: 80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s de sierra :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s hombre para barnizado: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a míni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 puertas si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ventanas do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 igual se v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067280" y="3603600"/>
          <a:ext cx="3429000" cy="3254400"/>
        </p:xfrm>
        <a:graphic>
          <a:graphicData uri="http://schemas.openxmlformats.org/drawingml/2006/table">
            <a:tbl>
              <a:tblPr/>
              <a:tblGrid>
                <a:gridCol w="1141200"/>
                <a:gridCol w="1146240"/>
                <a:gridCol w="11415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u.m.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u.m.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rta Do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rta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ana Do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ana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7929720" y="3573360"/>
          <a:ext cx="1214280" cy="3284280"/>
        </p:xfrm>
        <a:graphic>
          <a:graphicData uri="http://schemas.openxmlformats.org/drawingml/2006/table">
            <a:tbl>
              <a:tblPr/>
              <a:tblGrid>
                <a:gridCol w="1214280"/>
              </a:tblGrid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u.m.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7308720" y="4581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08720" y="4005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08720" y="5877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08720" y="5300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08720" y="652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y Progra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o modelo, luego programo (lenguaje similar a GA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juntos: productos y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set pro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set re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ámet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ponibilidad de cada recur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param drec{rec} &gt;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so de recursos por cada produc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param urec{prod,rec} &gt;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manda de cada produc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param dda{prod} &gt;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tilidad por cada produc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param util{prod} &gt;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riables: Cantidad a producir de cada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var x {prod} &gt;= 0; (var x{i in prod} &gt;= 0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y Progra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Objetivo: Maximizar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ma sobre todos los productos de la utilidad unitaria por la cantidad produ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maximize utils: sum{i in prod} (x[i]*util[i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tri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atisfacer Dema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subject to satdda {p in PROD}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x[p] &gt;= dda[p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s Limit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subject to recmax{r in REC}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sum {p in PROD} (x[p]*uso[p,r]) &lt;= crec[r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aturaleza de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luida en definición de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ju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set PROD := pd ps vd v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set REC := mad maq hh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ámet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param: crec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mad 8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maq 4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hhb 4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param uso: mad maq hhb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pd 4 1.5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ps 2.5 1 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vd 3 2 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vs 1.8 0.8 0.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param: dda precio costo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pd 0 120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ps 200 80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vd 120 100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vs 0 60 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c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brir archivo sw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pear amp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 op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pear los coman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option solver cpl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model archivo.mo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data archivo.d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solv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display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ar .run con comandos y ejecutar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run archivo.ru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 (también puede ser .t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3203280" y="2276280"/>
            <a:ext cx="360360" cy="360360"/>
          </a:xfrm>
          <a:custGeom>
            <a:avLst/>
            <a:gdLst>
              <a:gd name="textAreaLeft" fmla="*/ 0 w 360360"/>
              <a:gd name="textAreaRight" fmla="*/ 360720 w 360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578" stAng="10800000" swAng="5400000"/>
                <a:lnTo>
                  <a:pt x="13983" y="4582"/>
                </a:lnTo>
                <a:lnTo>
                  <a:pt x="13983" y="0"/>
                </a:lnTo>
                <a:lnTo>
                  <a:pt x="21600" y="6079"/>
                </a:lnTo>
                <a:lnTo>
                  <a:pt x="13983" y="12158"/>
                </a:lnTo>
                <a:lnTo>
                  <a:pt x="13983" y="7576"/>
                </a:lnTo>
                <a:lnTo>
                  <a:pt x="12427" y="7576"/>
                </a:lnTo>
                <a:arcTo wR="9433" hR="4584" stAng="16200000" swAng="-5400000"/>
                <a:lnTo>
                  <a:pt x="2994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350028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87800" y="40971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chivo.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7:30:35Z</dcterms:created>
  <dc:creator>Guzmán Silva</dc:creator>
  <dc:description/>
  <dc:language>en-US</dc:language>
  <cp:lastModifiedBy>Guzmán Silva</cp:lastModifiedBy>
  <dcterms:modified xsi:type="dcterms:W3CDTF">2006-06-13T08:27:10Z</dcterms:modified>
  <cp:revision>2</cp:revision>
  <dc:subject/>
  <dc:title>Introducción MODELACIÓN Y RESOLUCIÓN DE MODELOS DE PROGRAMACIÓN MATEMÁTICA USANDO CPLEX Y OPL STUDIO </dc:title>
</cp:coreProperties>
</file>