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2C828-2D5B-4599-BF9A-5ADE13133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27D84-DA42-4ED3-BDD8-8C4A9EDFD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67107-DC50-44FC-A549-B3CA6BD54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7C8B9-B26A-428E-93DF-46A9FB44C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9271DA-F6F6-4C60-94C1-945494545F3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8111FA-4D85-453D-83B5-D73C18F1BB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A8A08B-3EB9-4F97-905B-826229A447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19CC6C-BD38-4861-8CD8-55EF1B4143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F9291-2164-4933-9ECB-EE286A0B16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FE22DB-66B9-4133-93BF-81AC84CBFB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E5A827-12E8-4E88-A3B5-47A20538C1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40223-BBDE-4A27-8E1B-6D2910A68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DDAAD-4645-4329-9FE6-10DB1F1E6C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C0FAA-F406-4ABE-A8BE-9F9135EBA2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C87CA-ACD4-45D0-A1E4-BC6B8F5458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5CFC9B-69E2-4072-8547-D9FFF9A633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232A8C-2C4A-4C4C-BD38-284A3B9ECA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88D20-BCB7-4084-9534-012921409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051E3-B915-4CB1-80CD-8D16F5C1C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B82FC-3843-4CB7-83F4-CE98E76DE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6E1AD-0211-484E-89EC-E08D9E6D2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DBFC5-14AD-4E25-B62D-A8B7CC0E0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0E9D-C521-4C67-899E-96C8983B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F138-E10C-421E-9615-896C201D5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605E-C5F0-4E10-B089-E93981BC69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8C59-3038-4745-9482-E801CDC17E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349000"/>
            <a:ext cx="7772400" cy="895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laceres de Oro </a:t>
            </a:r>
            <a:endParaRPr b="0" lang="en-US" sz="4800" spc="-1" strike="noStrike">
              <a:solidFill>
                <a:srgbClr val="ffffff"/>
              </a:solidFill>
              <a:latin typeface="Tahoma"/>
            </a:endParaRPr>
          </a:p>
        </p:txBody>
      </p:sp>
      <p:sp>
        <p:nvSpPr>
          <p:cNvPr id="84" name="PlaceHolder 2"/>
          <p:cNvSpPr>
            <a:spLocks noGrp="1"/>
          </p:cNvSpPr>
          <p:nvPr>
            <p:ph type="subTitle"/>
          </p:nvPr>
        </p:nvSpPr>
        <p:spPr>
          <a:xfrm>
            <a:off x="5292360" y="4508640"/>
            <a:ext cx="331308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olina Ramírez</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cardo Olivare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lipe Ramírez</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ardo Villalob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404640"/>
            <a:ext cx="889308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LASIFICACIÓN DE PLACER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2.-Placeres Eluviales</a:t>
            </a:r>
            <a:r>
              <a:rPr b="0" lang="es-CL" sz="2400" spc="-1" strike="noStrike">
                <a:solidFill>
                  <a:srgbClr val="ffffff"/>
                </a:solidFill>
                <a:latin typeface="Arial"/>
              </a:rPr>
              <a:t>: formados en pendientes de montañas en “acarreos” e incluyen minerales liberados de la roca fuente cercan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etas con oro o casiterita quedan después de la eros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7" name="" descr=""/>
          <p:cNvPicPr/>
          <p:nvPr/>
        </p:nvPicPr>
        <p:blipFill>
          <a:blip r:embed="rId2"/>
          <a:srcRect l="0" t="0" r="891" b="17778"/>
          <a:stretch/>
        </p:blipFill>
        <p:spPr>
          <a:xfrm>
            <a:off x="250920" y="2975040"/>
            <a:ext cx="8604000" cy="3882960"/>
          </a:xfrm>
          <a:prstGeom prst="rect">
            <a:avLst/>
          </a:prstGeom>
          <a:ln w="0">
            <a:noFill/>
          </a:ln>
        </p:spPr>
      </p:pic>
      <p:sp>
        <p:nvSpPr>
          <p:cNvPr id="98" name=""/>
          <p:cNvSpPr/>
          <p:nvPr/>
        </p:nvSpPr>
        <p:spPr>
          <a:xfrm>
            <a:off x="611280" y="2565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siduales</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Eluviales</a:t>
            </a:r>
            <a:endParaRPr b="0" lang="en-US" sz="2400" spc="-1" strike="noStrike">
              <a:solidFill>
                <a:srgbClr val="ffffff"/>
              </a:solidFill>
              <a:latin typeface="Arial"/>
            </a:endParaRPr>
          </a:p>
        </p:txBody>
      </p:sp>
      <p:sp>
        <p:nvSpPr>
          <p:cNvPr id="99" name=""/>
          <p:cNvSpPr/>
          <p:nvPr/>
        </p:nvSpPr>
        <p:spPr>
          <a:xfrm flipH="1">
            <a:off x="6803640" y="3429000"/>
            <a:ext cx="7164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16000" y="2924280"/>
            <a:ext cx="863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404640"/>
            <a:ext cx="8893080" cy="46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3.- Placeres Aluviales</a:t>
            </a:r>
            <a:r>
              <a:rPr b="0" lang="es-CL" sz="2400" spc="-1" strike="noStrike">
                <a:solidFill>
                  <a:srgbClr val="ffffff"/>
                </a:solidFill>
                <a:latin typeface="Arial"/>
              </a:rPr>
              <a:t>: uno de los tipos de placeres más importantes históricamente, por mecanismos de concentración gravitacional de partículas pesadas en un medio líquid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u="sng">
                <a:solidFill>
                  <a:srgbClr val="ffffff"/>
                </a:solidFill>
                <a:uFillTx/>
                <a:latin typeface="Arial"/>
              </a:rPr>
              <a:t>Mecanismo de concentración gravitacion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os factores que afectan la depositación de oro s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Tamaño del mine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Densidad del miner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Energía del medio de transpor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Tamaño del grano miner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4360" y="189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611280" y="162864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55640" y="476280"/>
            <a:ext cx="7561440" cy="52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n general en un sedimento los minerales pesados se presentan en grano más fino que aquellos liviano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to se debe principalmente a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000" spc="-1" strike="noStrike">
                <a:solidFill>
                  <a:srgbClr val="ffffff"/>
                </a:solidFill>
                <a:latin typeface="Arial"/>
              </a:rPr>
              <a:t>Los minerales pesados son de grano más fino que los livianos (cuarzo, feldespatos) en rocas ígneas o metamórficas de las que derivan.</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 energía que tiene el fluido que transporta los granos minerales. La composición y selección dependerá de la densidad del mineral y el tamaño de los granos </a:t>
            </a:r>
            <a:r>
              <a:rPr b="1" i="1" lang="es-CL" sz="2000" spc="-1" strike="noStrike">
                <a:solidFill>
                  <a:srgbClr val="ffffff"/>
                </a:solidFill>
                <a:latin typeface="Arial"/>
              </a:rPr>
              <a:t>(razón hidráulica)</a:t>
            </a:r>
            <a:r>
              <a:rPr b="0" lang="es-CL" sz="2000" spc="-1" strike="noStrike">
                <a:solidFill>
                  <a:srgbClr val="ffffff"/>
                </a:solidFill>
                <a:latin typeface="Arial"/>
              </a:rPr>
              <a:t>, es decir, a una baja de energía (velocidad) del fluido hará que cierta parte del material transportado se deposite y esto se hará en el siguiente orden: grano grande pesado – grano fino pesado – grano grande liviano – grano fino liviano.</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4360" y="189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539640" y="177336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sp>
        <p:nvSpPr>
          <p:cNvPr id="108" name=""/>
          <p:cNvSpPr/>
          <p:nvPr/>
        </p:nvSpPr>
        <p:spPr>
          <a:xfrm>
            <a:off x="539640" y="1341360"/>
            <a:ext cx="75614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ambio de pendiente fuerte. (Como a la salida de un cañón, quebrada, cordón montañoso): los granos pesados de depositan y los livianos se los lleva el agua</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Caídas o saltos de agua y remolinos de agua.</a:t>
            </a:r>
            <a:endParaRPr b="0" lang="en-US" sz="2000" spc="-1" strike="noStrike">
              <a:solidFill>
                <a:srgbClr val="ffffff"/>
              </a:solidFill>
              <a:latin typeface="Arial"/>
            </a:endParaRPr>
          </a:p>
        </p:txBody>
      </p:sp>
      <p:pic>
        <p:nvPicPr>
          <p:cNvPr id="109" name="" descr=""/>
          <p:cNvPicPr/>
          <p:nvPr/>
        </p:nvPicPr>
        <p:blipFill>
          <a:blip r:embed="rId2"/>
          <a:stretch/>
        </p:blipFill>
        <p:spPr>
          <a:xfrm>
            <a:off x="1258920" y="3500280"/>
            <a:ext cx="6732720" cy="290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599840"/>
            <a:ext cx="8291520" cy="460440"/>
          </a:xfrm>
          <a:prstGeom prst="rect">
            <a:avLst/>
          </a:prstGeom>
          <a:noFill/>
          <a:ln w="0">
            <a:noFill/>
          </a:ln>
        </p:spPr>
        <p:txBody>
          <a:bodyPr lIns="90000" rIns="90000" tIns="46800" bIns="46800" anchor="t">
            <a:normAutofit fontScale="63000"/>
          </a:bodyPr>
          <a:p>
            <a:pPr marL="216000" indent="-2160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alientes rocosas en el lecho del cauce de un río: Los granos pesados quedan atrapados y se acumulan</a:t>
            </a:r>
            <a:endParaRPr b="0" lang="en-US" sz="2000" spc="-1" strike="noStrike">
              <a:solidFill>
                <a:srgbClr val="ffffff"/>
              </a:solidFill>
              <a:latin typeface="Tahoma"/>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1"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pic>
        <p:nvPicPr>
          <p:cNvPr id="112" name="" descr=""/>
          <p:cNvPicPr/>
          <p:nvPr/>
        </p:nvPicPr>
        <p:blipFill>
          <a:blip r:embed="rId2"/>
          <a:stretch/>
        </p:blipFill>
        <p:spPr>
          <a:xfrm>
            <a:off x="900000" y="2782800"/>
            <a:ext cx="7561440" cy="279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sp>
        <p:nvSpPr>
          <p:cNvPr id="114" name=""/>
          <p:cNvSpPr/>
          <p:nvPr/>
        </p:nvSpPr>
        <p:spPr>
          <a:xfrm>
            <a:off x="684360" y="1557360"/>
            <a:ext cx="75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Confluencia de un afluente menor con un río más grande con flujo más lento</a:t>
            </a:r>
            <a:endParaRPr b="0" lang="en-US" sz="2000" spc="-1" strike="noStrike">
              <a:solidFill>
                <a:srgbClr val="ffffff"/>
              </a:solidFill>
              <a:latin typeface="Arial"/>
            </a:endParaRPr>
          </a:p>
        </p:txBody>
      </p:sp>
      <p:pic>
        <p:nvPicPr>
          <p:cNvPr id="115" name="" descr=""/>
          <p:cNvPicPr/>
          <p:nvPr/>
        </p:nvPicPr>
        <p:blipFill>
          <a:blip r:embed="rId2"/>
          <a:stretch/>
        </p:blipFill>
        <p:spPr>
          <a:xfrm>
            <a:off x="1258920" y="2205000"/>
            <a:ext cx="6121440" cy="436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sp>
        <p:nvSpPr>
          <p:cNvPr id="117" name=""/>
          <p:cNvSpPr/>
          <p:nvPr/>
        </p:nvSpPr>
        <p:spPr>
          <a:xfrm>
            <a:off x="684360" y="1628640"/>
            <a:ext cx="777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755640" y="1557360"/>
            <a:ext cx="7920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395280" y="1197000"/>
            <a:ext cx="8353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Zona interior de meandros. Energía de socavación y depositación. Velocidad interna es mayor que la externa.</a:t>
            </a:r>
            <a:endParaRPr b="0" lang="en-US" sz="2000" spc="-1" strike="noStrike">
              <a:solidFill>
                <a:srgbClr val="ffffff"/>
              </a:solidFill>
              <a:latin typeface="Arial"/>
            </a:endParaRPr>
          </a:p>
        </p:txBody>
      </p:sp>
      <p:pic>
        <p:nvPicPr>
          <p:cNvPr id="120" name="" descr=""/>
          <p:cNvPicPr/>
          <p:nvPr/>
        </p:nvPicPr>
        <p:blipFill>
          <a:blip r:embed="rId2"/>
          <a:stretch/>
        </p:blipFill>
        <p:spPr>
          <a:xfrm>
            <a:off x="1258920" y="2205000"/>
            <a:ext cx="6408720" cy="445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39640" y="333360"/>
            <a:ext cx="799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LACERES DE PLAYA</a:t>
            </a:r>
            <a:endParaRPr b="0" lang="en-US" sz="2800" spc="-1" strike="noStrike">
              <a:solidFill>
                <a:srgbClr val="ffffff"/>
              </a:solidFill>
              <a:latin typeface="Arial"/>
            </a:endParaRPr>
          </a:p>
        </p:txBody>
      </p:sp>
      <p:sp>
        <p:nvSpPr>
          <p:cNvPr id="122" name=""/>
          <p:cNvSpPr/>
          <p:nvPr/>
        </p:nvSpPr>
        <p:spPr>
          <a:xfrm>
            <a:off x="539640" y="1341360"/>
            <a:ext cx="806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468360" y="1268280"/>
            <a:ext cx="8497800" cy="49748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La concentración de minerales pesados se produce por el efecto de oleaje y/o corrientes costera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Las olas lanzan el material hacia las orillas y la resaca arrastra devuelta los minerales más livianos, concentrándose los más pesados a las afueras del mar, sobretodo durante tormenta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Importante también es la variación de nivel por mareas. Grandes mareas exponen mayor superficie de playa para la acción de ola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Los placeres de playa se forman en la actualidad en sectores donde los vientos dominantes son oblicuos a la costa y existen corrientes marina paralelas a la costa, puesto que ambos factores promueven la deriva a lo largo de la costa. Mientras más cercana esté la corriente a la costa, mayor espacio se crea para la depositació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333360"/>
            <a:ext cx="799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LACERES DE PLAYA</a:t>
            </a:r>
            <a:endParaRPr b="0" lang="en-US" sz="2800" spc="-1" strike="noStrike">
              <a:solidFill>
                <a:srgbClr val="ffffff"/>
              </a:solidFill>
              <a:latin typeface="Arial"/>
            </a:endParaRPr>
          </a:p>
        </p:txBody>
      </p:sp>
      <p:pic>
        <p:nvPicPr>
          <p:cNvPr id="125" name="" descr=""/>
          <p:cNvPicPr/>
          <p:nvPr/>
        </p:nvPicPr>
        <p:blipFill>
          <a:blip r:embed="rId2"/>
          <a:stretch/>
        </p:blipFill>
        <p:spPr>
          <a:xfrm>
            <a:off x="1116000" y="1195560"/>
            <a:ext cx="6732720" cy="3066840"/>
          </a:xfrm>
          <a:prstGeom prst="rect">
            <a:avLst/>
          </a:prstGeom>
          <a:ln w="0">
            <a:noFill/>
          </a:ln>
        </p:spPr>
      </p:pic>
      <p:sp>
        <p:nvSpPr>
          <p:cNvPr id="126" name=""/>
          <p:cNvSpPr/>
          <p:nvPr/>
        </p:nvSpPr>
        <p:spPr>
          <a:xfrm>
            <a:off x="826920" y="4581360"/>
            <a:ext cx="734544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leocanales: canales antiguos antes de la llegada del mar, o bien, canales que fluyen bajo las corrientes marin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jemplos: placeres de oro de Nome, Alaska, placeres de playa en costa occidental de la isla de Chiloé, Chi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231840" y="466560"/>
            <a:ext cx="8912160" cy="661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laceres Eólicos: </a:t>
            </a:r>
            <a:r>
              <a:rPr b="0" lang="es-MX" sz="2800" spc="-1" strike="noStrike">
                <a:solidFill>
                  <a:srgbClr val="ffffff"/>
                </a:solidFill>
                <a:latin typeface="Arial"/>
              </a:rPr>
              <a:t>Los mas importantes se produc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por el retrabajo de placeres de playa por el viento, y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que este arrastra con mayor facilidad los materiales livian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laceres Fósiles</a:t>
            </a:r>
            <a:r>
              <a:rPr b="0" lang="es-MX" sz="2800" spc="-1" strike="noStrike">
                <a:solidFill>
                  <a:srgbClr val="ffffff"/>
                </a:solidFill>
                <a:latin typeface="Arial"/>
              </a:rPr>
              <a:t>: Son aquellos formados en el pasado y luego sepultados fuera del alcance de agentes erosivos, generalmente en secuencias sedimentarias. </a:t>
            </a:r>
            <a:br>
              <a:rPr sz="20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ia de placeres de Au</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término 'el placer' es evidentemente de derivación española y se usó por los mineros españoles tempranos en ambos Norte y América del Sur como un nombre para los depósitos de oro encontrados en las arenas y gravas de arroyos. Originalmente, parece haber significado 'el banco de arena' o 'un lugar en un arroyo dónde oro se depositó'. Mientras se hay muchas otras definiciones para los depósitos residuales y en aluvión, ninguno realmente es tan sucinto y expresivo como 'el placer.' </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jemplos de Placeres Aurífero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Witwatersrand-Sudáfrica, de tipo Paleoplac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Costa occidental de la isla de Chiloé, placer de tipo play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alifornia, EEUU, de tipo aluvia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ome-Alaska, de tipo aluvi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sta Occidental de Chiloé.</a:t>
            </a:r>
            <a:endParaRPr b="0" lang="en-US" sz="3200" spc="-1" strike="noStrike">
              <a:solidFill>
                <a:srgbClr val="ffffff"/>
              </a:solidFill>
              <a:latin typeface="Tahoma"/>
            </a:endParaRPr>
          </a:p>
        </p:txBody>
      </p:sp>
      <p:pic>
        <p:nvPicPr>
          <p:cNvPr id="131" name="" descr=""/>
          <p:cNvPicPr/>
          <p:nvPr/>
        </p:nvPicPr>
        <p:blipFill>
          <a:blip r:embed="rId2"/>
          <a:stretch/>
        </p:blipFill>
        <p:spPr>
          <a:xfrm>
            <a:off x="2627280" y="1628640"/>
            <a:ext cx="3876840" cy="428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Paleoplaceres</a:t>
            </a:r>
            <a:endParaRPr b="0" lang="en-US" sz="4400" spc="-1" strike="noStrike">
              <a:solidFill>
                <a:srgbClr val="ffffff"/>
              </a:solidFill>
              <a:latin typeface="Tahoma"/>
            </a:endParaRPr>
          </a:p>
        </p:txBody>
      </p:sp>
      <p:sp>
        <p:nvSpPr>
          <p:cNvPr id="133" name="PlaceHolder 2"/>
          <p:cNvSpPr>
            <a:spLocks noGrp="1"/>
          </p:cNvSpPr>
          <p:nvPr>
            <p:ph/>
          </p:nvPr>
        </p:nvSpPr>
        <p:spPr>
          <a:xfrm>
            <a:off x="468360" y="1773000"/>
            <a:ext cx="8229600" cy="48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 lo largo de los tiempos geológicos, pueden existir concentraciones tipo placer y su conservación, su distribución, etc... van a depender, además de criterios sedimentológicos, de otros que podríamos clasificar de paleosedimentalógic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n primer lugar, después de que se produce la concentración dinámica de un mineral denso, por lo tanto, en general de una granulometría más fina que la de otros granos del depósito detrítico, se produce una migración interna dentro del depósito que hace que estos minerales migren desde su situación dispersa hacia el fondo impermeable más próximo (bed rock) en la vertical.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te proceso se ve favorecido por la continua vibración del sedimento por efecto del medio dinámic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Yacimiento tipo paleoplacer</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Ubicado en Sudáfrica</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rigen Endorréico</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istribución característica de oro en los conglomerado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dad entre 1900 a 2600 millones de año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eriodo Proteizoico - Arca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riginado por una cuenca o depresión continental donde desembocaban cursos fluviales endorreicos en forma de “deltas”, los cuales arrastraban y depositaban los metales pesados en el lugar.</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icha cuenca tenia formaciones de algas en sus orillas, lo que permitía atrapar los metales pesado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39" name="" descr=""/>
          <p:cNvPicPr/>
          <p:nvPr/>
        </p:nvPicPr>
        <p:blipFill>
          <a:blip r:embed="rId2"/>
          <a:stretch/>
        </p:blipFill>
        <p:spPr>
          <a:xfrm>
            <a:off x="1663560" y="1905120"/>
            <a:ext cx="581508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41" name="" descr=""/>
          <p:cNvPicPr/>
          <p:nvPr/>
        </p:nvPicPr>
        <p:blipFill>
          <a:blip r:embed="rId2"/>
          <a:stretch/>
        </p:blipFill>
        <p:spPr>
          <a:xfrm>
            <a:off x="1476360" y="1700280"/>
            <a:ext cx="6219720" cy="4016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43" name="" descr=""/>
          <p:cNvPicPr/>
          <p:nvPr/>
        </p:nvPicPr>
        <p:blipFill>
          <a:blip r:embed="rId2"/>
          <a:stretch/>
        </p:blipFill>
        <p:spPr>
          <a:xfrm>
            <a:off x="2050920" y="1773360"/>
            <a:ext cx="5000760" cy="398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45" name="" descr=""/>
          <p:cNvPicPr/>
          <p:nvPr/>
        </p:nvPicPr>
        <p:blipFill>
          <a:blip r:embed="rId2"/>
          <a:stretch/>
        </p:blipFill>
        <p:spPr>
          <a:xfrm>
            <a:off x="1801800" y="1905120"/>
            <a:ext cx="554040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el caso de Witwatersrand el oro esta asociado con sulfuros y además existen migraciones secundarias en vénulas que han sugerido a algunos autores la posibilidad de que se trate de un yacimiento epigenético, sin embargo, predominan las interpretaciones de este depósito como un paleoplac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826920" y="404280"/>
            <a:ext cx="7561440" cy="52340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homa"/>
              </a:rPr>
              <a:t>Lavaderos de Oro:</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lavaderos (placeres) más importantes y conocidos son las lavaderos fluviales de oro. Las propiedades del oro favorecen una acumulación por el agua. Se conocen Lavaderos de oro en Montana (EEUU), Sibiria (Rusia), España (Las Medulas), Alpes - Suiza, Brasil y muchos otros países. En Chile se conoce solamente pequeños depósitos por ejemplo en Inca de Oro o históricamente en la salida sur de Copiapó.</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tación Placeres de Au</a:t>
            </a:r>
            <a:endParaRPr b="0" lang="en-US" sz="3600" spc="-1" strike="noStrike">
              <a:solidFill>
                <a:srgbClr val="ffffff"/>
              </a:solidFill>
              <a:latin typeface="Tahoma"/>
            </a:endParaRPr>
          </a:p>
        </p:txBody>
      </p:sp>
      <p:pic>
        <p:nvPicPr>
          <p:cNvPr id="89" name="" descr=""/>
          <p:cNvPicPr/>
          <p:nvPr/>
        </p:nvPicPr>
        <p:blipFill>
          <a:blip r:embed="rId2"/>
          <a:stretch/>
        </p:blipFill>
        <p:spPr>
          <a:xfrm>
            <a:off x="611280" y="1413000"/>
            <a:ext cx="3168720" cy="4895640"/>
          </a:xfrm>
          <a:prstGeom prst="rect">
            <a:avLst/>
          </a:prstGeom>
          <a:ln w="0">
            <a:noFill/>
          </a:ln>
        </p:spPr>
      </p:pic>
      <p:pic>
        <p:nvPicPr>
          <p:cNvPr id="90" name="" descr=""/>
          <p:cNvPicPr/>
          <p:nvPr/>
        </p:nvPicPr>
        <p:blipFill>
          <a:blip r:embed="rId3"/>
          <a:stretch/>
        </p:blipFill>
        <p:spPr>
          <a:xfrm>
            <a:off x="3924360" y="1413000"/>
            <a:ext cx="4897440" cy="48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188640"/>
            <a:ext cx="8280360" cy="6669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rPr>
              <a:t>Propiedades de Oro:</a:t>
            </a:r>
            <a:r>
              <a:rPr b="0" lang="es-ES" sz="3200" spc="-1" strike="noStrike" u="sng">
                <a:solidFill>
                  <a:srgbClr val="ffffff"/>
                </a:solidFill>
                <a:uFillTx/>
                <a:latin typeface="Arial"/>
              </a:rPr>
              <a:t> </a:t>
            </a:r>
            <a:br>
              <a:rPr sz="3200"/>
            </a:br>
            <a:r>
              <a:rPr b="0" lang="es-ES" sz="3200" spc="-1" strike="noStrike" u="sng">
                <a:solidFill>
                  <a:srgbClr val="ffffff"/>
                </a:solidFill>
                <a:uFillTx/>
                <a:latin typeface="Arial"/>
              </a:rPr>
              <a:t>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Oro tiene un peso específico de 19,3 g/cm3. En comparación de un mineral común como cuarzo con 2,65 g/cm3 el oro tiene un comportamiento sedimentario totalmente diferente que el cuarzo.</a:t>
            </a:r>
            <a:br>
              <a:rPr sz="3200"/>
            </a:br>
            <a:r>
              <a:rPr b="0" lang="es-ES" sz="3200" spc="-1" strike="noStrike">
                <a:solidFill>
                  <a:srgbClr val="ffffff"/>
                </a:solidFill>
                <a:latin typeface="Arial"/>
              </a:rPr>
              <a:t>b) Oro casi no se disuelve en agua, no se oxida y no entra en reacciones con otros minerales (solo con plata).</a:t>
            </a:r>
            <a:br>
              <a:rPr sz="3200"/>
            </a:br>
            <a:r>
              <a:rPr b="0" lang="es-ES" sz="3200" spc="-1" strike="noStrike">
                <a:solidFill>
                  <a:srgbClr val="ffffff"/>
                </a:solidFill>
                <a:latin typeface="Arial"/>
              </a:rPr>
              <a:t>c) Oro es blando y se comporta plástico: Pequeños granos de oro pueden juntarse para formar un grano más grande (Nugg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formar un lavadero de oro se necesitan un sector donde aflora el oro en yacimientos primarios, puede ser con leyes muy bajas. Normalmente se encuentra este sector en las montañas. Los procesos sedimentarios transportan las partículas de oro hacia río abajo y de acuerdo de la energía del agua en un momento se descantan. Donde la velocidad (la energía) del agua es suficiente para transportar granos de cuarzo (y otros minerales comunes) en suspensión posiblemente el peso elevado del oro no permite eso. Las partículas se descantan y se acumulan.</a:t>
            </a:r>
            <a:r>
              <a:rPr b="1" lang="en-US" sz="2800" spc="-1" strike="noStrike">
                <a:solidFill>
                  <a:srgbClr val="ffffff"/>
                </a:solidFill>
                <a:latin typeface="Arial"/>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50920" y="404640"/>
            <a:ext cx="8893080" cy="572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 </a:t>
            </a:r>
            <a:r>
              <a:rPr b="1" lang="es-CL" sz="2800" spc="-1" strike="noStrike">
                <a:solidFill>
                  <a:srgbClr val="ffffff"/>
                </a:solidFill>
                <a:latin typeface="Arial"/>
              </a:rPr>
              <a:t>PLACERES</a:t>
            </a:r>
            <a:endParaRPr b="0" lang="en-US" sz="28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Se define como</a:t>
            </a:r>
            <a:r>
              <a:rPr b="1" lang="es-CL" sz="2000" spc="-1" strike="noStrike">
                <a:solidFill>
                  <a:srgbClr val="ffffff"/>
                </a:solidFill>
                <a:latin typeface="Arial"/>
              </a:rPr>
              <a:t> </a:t>
            </a:r>
            <a:r>
              <a:rPr b="0" lang="es-CL" sz="2200" spc="-1" strike="noStrike">
                <a:solidFill>
                  <a:srgbClr val="ffffff"/>
                </a:solidFill>
                <a:latin typeface="Arial"/>
              </a:rPr>
              <a:t>depósitos de concentración gravitacional de minerales pesados por fluidos en movimiento.</a:t>
            </a:r>
            <a:endParaRPr b="0" lang="en-US" sz="2200" spc="-1" strike="noStrike">
              <a:solidFill>
                <a:srgbClr val="ffffff"/>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Condiciones para que ocurra una concentración gravitacional:</a:t>
            </a:r>
            <a:endParaRPr b="0" lang="en-US" sz="2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1. Liberación de la fuente de roca original</a:t>
            </a:r>
            <a:endParaRPr b="0" lang="en-US" sz="2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2. Alta densidad de la fase mineral</a:t>
            </a:r>
            <a:endParaRPr b="0" lang="en-US" sz="2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3. Alta resistencia química a la meteorización</a:t>
            </a:r>
            <a:endParaRPr b="0" lang="en-US" sz="2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4. Durabilidad mecánic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0920" y="404640"/>
            <a:ext cx="8642160" cy="580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jemplos :Placeres Auríferos (que son los más comunes), Casiterita, Cromita, Columbita, Diamante, Ilmenita, Magnetita, Corindón-Rubí-Zafiro, Xenotima, Circó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A nivel mundial los placeres estaníferos y de diamantes son importantes económicamen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a  mayoría de los placeres son pequeños y efímeros, se encuentran en superficie, por lo tanto, se erosionan muy rapidocasos excepcionales de paleoplaceres</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Mayoría de Baja Ley, pero rentables, pues se pueden tratar en plantas de bajo costo.</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xplotación de paleoplaceres es más costosa, porque se encuentran litificados y bajo tierr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50920" y="260280"/>
            <a:ext cx="8893080" cy="584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LASIFICACIÓN DE PLACERES</a:t>
            </a:r>
            <a:endParaRPr b="0" lang="en-US" sz="28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residuales: acumulación in situ durante la meteorización.</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eluviales: acumulación en un medio sólido en movimiento.</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aluviales: concentración en un medio líquido (agua).</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eólicos: concentración en medio gaseoso en movimiento (viento).</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de playa: concentración por efectos del oleaje de playas.</a:t>
            </a:r>
            <a:endParaRPr b="0" lang="en-US" sz="2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1.-</a:t>
            </a:r>
            <a:r>
              <a:rPr b="1" lang="es-CL" sz="2400" spc="-1" strike="noStrike">
                <a:solidFill>
                  <a:srgbClr val="ffffff"/>
                </a:solidFill>
                <a:latin typeface="Arial"/>
              </a:rPr>
              <a:t>Placeres Residuales</a:t>
            </a:r>
            <a:r>
              <a:rPr b="0" lang="es-CL" sz="2400" spc="-1" strike="noStrike">
                <a:solidFill>
                  <a:srgbClr val="ffffff"/>
                </a:solidFill>
                <a:latin typeface="Arial"/>
              </a:rPr>
              <a:t>: acumulación inmediatamente encima de las rocas madres o fuentes, por descomposición y remoción de materiales más livianos de la roca, estos pueden gradar hacia abajo a vetas meteoriz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22:52:56Z</dcterms:created>
  <dc:creator>CASA</dc:creator>
  <dc:description/>
  <dc:language>en-US</dc:language>
  <cp:lastModifiedBy>Catedra de Pirometalurgia</cp:lastModifiedBy>
  <dcterms:modified xsi:type="dcterms:W3CDTF">2006-06-20T21:57:55Z</dcterms:modified>
  <cp:revision>34</cp:revision>
  <dc:subject/>
  <dc:title>Depósitos de Oro Sedimentario</dc:title>
</cp:coreProperties>
</file>