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301F-A0A5-45FD-A5F7-F6994E6C0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3D18-8464-468E-A90A-4422F570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E9D3-79F4-49AE-AC7E-0DD1D1C5F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22E9-67E9-44E6-B335-DF1431F20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8F65-B2F0-4CEC-A309-9EFE0F960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44ED-788C-490E-803D-CC8BE1AD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7E0B-F1DC-4AC7-B2ED-2738970A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8206-A9AD-4B88-8BA7-AD2C5B30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C5B3-76A2-421F-98B3-2F332646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0B88-4EC8-40F5-8230-E5D36465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C7C4-D186-4888-B4FE-E5A34183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2F54-AC2A-40D0-8782-AAB411F9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D6B4-00F7-4F96-85B4-2F5D2B3A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350C-260A-424D-8ADF-C49D4B71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0D31-4670-4B8A-ABDE-AF5EEF45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3997-7448-4515-A6A6-2B45CEE34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E509-4517-486E-A529-5A87F27A7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5CFE-E30A-4342-9DC9-E7387F4D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AEF5-7E5A-473C-999A-C911FE65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B596-C774-4FBE-86F4-0AF0D71C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C74F-F734-4A05-B4E7-834DA17D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5BD7-D723-4B0F-B799-862BC78B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3DE8-ADA1-4084-B830-0708F190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C5DE-3C3F-4DB4-B840-68D3EEF6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18D6-550E-4A0A-91BE-397871D9BF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9F42-B0E9-411B-A74B-BA99730789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9144000" cy="6915240"/>
            <a:chOff x="0" y="0"/>
            <a:chExt cx="9144000" cy="6915240"/>
          </a:xfrm>
        </p:grpSpPr>
        <p:pic>
          <p:nvPicPr>
            <p:cNvPr id="85" name="" descr=""/>
            <p:cNvPicPr/>
            <p:nvPr/>
          </p:nvPicPr>
          <p:blipFill>
            <a:blip r:embed="rId2">
              <a:lum bright="-40000"/>
            </a:blip>
            <a:srcRect l="0" t="0" r="0" b="50004"/>
            <a:stretch/>
          </p:blipFill>
          <p:spPr>
            <a:xfrm>
              <a:off x="0" y="0"/>
              <a:ext cx="91440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3"/>
            <a:stretch/>
          </p:blipFill>
          <p:spPr>
            <a:xfrm>
              <a:off x="0" y="3429000"/>
              <a:ext cx="44956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4"/>
            <a:stretch/>
          </p:blipFill>
          <p:spPr>
            <a:xfrm>
              <a:off x="4495680" y="3429000"/>
              <a:ext cx="4648320" cy="348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/>
          <p:cNvSpPr/>
          <p:nvPr/>
        </p:nvSpPr>
        <p:spPr>
          <a:xfrm>
            <a:off x="1476360" y="1341360"/>
            <a:ext cx="6840720" cy="47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cc00"/>
                </a:solidFill>
                <a:latin typeface="Arial"/>
              </a:rPr>
              <a:t>Métodos de Explotación Subterráneo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Luis Castil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Alvaro De la Quint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Patricio Prie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Alfredo Riv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23880" y="274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e5ffff"/>
                </a:solidFill>
                <a:latin typeface="Tahoma"/>
              </a:rPr>
              <a:t>Longhole and Sublevel Open Stop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3665520" cy="4267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7680" y="160020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Longhole Open Stop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04800" y="1600200"/>
            <a:ext cx="26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Sublevel Open Stop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995720" y="1989000"/>
            <a:ext cx="3686400" cy="4248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523880" y="274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e5ffff"/>
                </a:solidFill>
                <a:latin typeface="Tahoma"/>
              </a:rPr>
              <a:t>Longhole and Sublevel Open Stop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160020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El cuerpo mineralizado es dividido en diferentes caserones separados por losas y mur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a productividad del caserón es proporcional a su tamañ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a estabilidad y dilución de un caserón es inversamente proporcional a su tamañ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Se utiliza open stoping en las siguientes condicion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La inclinación del cuerpo mineralizado excede el ángulo de reposo del miner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Roca de caja y mineral competente (2B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Cuerpo mineralizado de paredes regula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El método de longhole open stoping posee una mayor productividad pudiendo lograrse subniveles de perforación en el intervalo 60-100m con martillos ITH de 140 -165mm de diámet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onghole open stoping requiere una mayor regularidad que el sub level stop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Actualmente se prefiere operar con el equipo de carguío en la zanja de producción las estocadas de carguío y puntos de extracción.  Esta variante se debe operar con equipo telecomanda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Baja dilución, menor a 8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Baja recuperación menor a 7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osto 12-25 $/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En algunos casos se deben rellenar los caserones luego de extraído el miner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4724280" y="1752480"/>
            <a:ext cx="4419720" cy="4213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523880" y="274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ut and Fill Mi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1600200"/>
            <a:ext cx="4038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uerpos mineralizados con orientación vertical y potencias de 3 a 10 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a roca de caja es generalmente de baja competencia (4A) y la roca mineral de baja a media (3B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Se realiza por subniveles de manera ascend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os caserones en explotación se pueden separar por muros y losas de modo de aumentar la estabilidad del sistema mine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llenos: hidráulicos colas de relave, material estéril, ambos más cemento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Método altamente selectivo, por lo tanto permite explotar cuerpos de baja regularidad y continuidad espac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Baja dilución menor a 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Alta recuperación mayor a 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Alto costo de producción 40-150 $/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Baja productividad 200 a 4500 tp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523880" y="274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Post Room and Pilar Mi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1600200"/>
            <a:ext cx="4038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Variación del método de Room and Pi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uerpos con potencias mayores a 30m e inclinados (menor a 20 grad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omienza en la parte inferior del cuerpo mineralizado y se extiende en la vertical por sub-nive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Una vez realizada la perforación, tronadura, carguío y transporte del mineral se procede a rellenar el caserón típicamente con colas de relaves mezcladas con cemen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l relleno aumenta el confinamiento permitiendo diseñar con un menor factor de seguridad y por lo tanto maximizando la recuper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572000" y="1498680"/>
            <a:ext cx="4410000" cy="318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23880" y="274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ertical Crater Retreat con Relleno VC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rcRect l="0" t="272" r="0" b="0"/>
          <a:stretch/>
        </p:blipFill>
        <p:spPr>
          <a:xfrm>
            <a:off x="533520" y="2057400"/>
            <a:ext cx="3835440" cy="3973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rcRect l="0" t="0" r="0" b="259"/>
          <a:stretch/>
        </p:blipFill>
        <p:spPr>
          <a:xfrm>
            <a:off x="5105520" y="1981080"/>
            <a:ext cx="3563640" cy="3886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748440" y="171288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VCR Caserón Primari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6280" y="1600200"/>
            <a:ext cx="29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VCR Caserón Secund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523880" y="274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ertical Crater Retreat VCR con Relle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160020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Se utiliza en cuerpos mineralizados de baja a mediana potencia y en rocas de mediana competencia (3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Se utiliza la técnica de cargas controladas en que el largo de la carga explosiva es menor a 6 veces el diámetro de perforación. Carga esfé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ste sistema de explotación requiere la construcción de estocadas y puntos de extrac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 secuencia de construcción es la sigu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Nivel de transpor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Arreglo de galerias de produc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orte bas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Nivel de perfor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Perforación de tiros largos menor a 40 m en caso VC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os disparos generan cortes de hasta 3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osto 15-45 $/t dependiendo si se rellena o 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Dilución 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ecuperación menor a 8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826920" y="2602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ublevel Cav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1600200"/>
            <a:ext cx="4038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Se utiliza en cuerpos mineralizados con orientación vertical y alta potencia mayor a 40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a roca de caja es de baja competencia y la roca mineral competente a media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Se explota por subniveles donde se realizan en ciclo las operaciones unitarias de perforación, tronadura, carguío y transpor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onsiste en hundir la roca de caja y la pared colgante de esta manera el mineral queda en contacto con el estéril facilitando el acceso de LHDs a través de las galerías de produc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Productividad 4000 a 20000 tp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osto 7-12 $/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Dilución es alta hasta un 1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cuperación 7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397400" y="1484280"/>
            <a:ext cx="4746600" cy="489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23880" y="274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lock Cav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600200"/>
            <a:ext cx="4038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uerpos masivos con una proyección en planta suficiente para inducir el hundimiento de la ro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a roca mineralizada a hundir debe ser medianamente competente 3A-4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a roca estéril de techo debe ser hundi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a roca de caja puede ser competente como en el caso de pipas diamantifer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Se induce el hundimiento de la roca a través del corte basal 4-12 m. El hundimiento se propaga en la medida que la roca es extraída del hundimiento utilizando la infraestructura de produc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Productividad 12000 a 48000 tp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Dilución 2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cuperación 7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osto 2.1-5$/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572000" y="1844640"/>
            <a:ext cx="4475160" cy="3625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Familia Boomer"/>
          <p:cNvPicPr/>
          <p:nvPr/>
        </p:nvPicPr>
        <p:blipFill>
          <a:blip r:embed="rId2"/>
          <a:stretch/>
        </p:blipFill>
        <p:spPr>
          <a:xfrm>
            <a:off x="1403280" y="2492280"/>
            <a:ext cx="6424560" cy="3114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55640" y="549360"/>
            <a:ext cx="770580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Equipos de Perforación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Jumbo de Avance (tiros frontales)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Familia Simba"/>
          <p:cNvPicPr/>
          <p:nvPr/>
        </p:nvPicPr>
        <p:blipFill>
          <a:blip r:embed="rId2"/>
          <a:stretch/>
        </p:blipFill>
        <p:spPr>
          <a:xfrm>
            <a:off x="1979640" y="2760840"/>
            <a:ext cx="5057640" cy="2971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00000" y="549360"/>
            <a:ext cx="755964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"/>
              </a:rPr>
              <a:t>Equipos de Perforación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"/>
              </a:rPr>
              <a:t>Equipo Simba (Tiros Radiales)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arguío y Transporte de Material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4" name="" descr="Equipo Wagner"/>
          <p:cNvPicPr/>
          <p:nvPr/>
        </p:nvPicPr>
        <p:blipFill>
          <a:blip r:embed="rId2"/>
          <a:stretch/>
        </p:blipFill>
        <p:spPr>
          <a:xfrm>
            <a:off x="901800" y="3186000"/>
            <a:ext cx="7448400" cy="2343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5761080" cy="4608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11280" y="189000"/>
            <a:ext cx="770400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"/>
              </a:rPr>
              <a:t>Equipo de Carguio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"/>
              </a:rPr>
              <a:t>LHD (Load, Haul, Dump)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Equipo Transporte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amión Bajo Perfil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03520" y="1981080"/>
            <a:ext cx="573696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138400" y="395280"/>
            <a:ext cx="4867200" cy="6067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304920"/>
            <a:ext cx="4267080" cy="8380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e5ffff"/>
                </a:solidFill>
                <a:latin typeface="Tahoma"/>
              </a:rPr>
              <a:t>Métodos de Explotación Subterráne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371600"/>
            <a:ext cx="220968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Soport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or Pila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1371600"/>
            <a:ext cx="221004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Artificialmen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Soportad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con Relle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00800" y="1371600"/>
            <a:ext cx="220968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Sin soporte 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Hundi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3276720"/>
            <a:ext cx="1371600" cy="7617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Room and Pi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3276720"/>
            <a:ext cx="1371600" cy="7617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Sublevel an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Longho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stop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4952880"/>
            <a:ext cx="137160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Bench and Fi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stop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104" idx="2"/>
            <a:endCxn id="107" idx="0"/>
          </p:cNvCxnSpPr>
          <p:nvPr/>
        </p:nvCxnSpPr>
        <p:spPr>
          <a:xfrm rot="5400000">
            <a:off x="856440" y="2495160"/>
            <a:ext cx="762840" cy="801000"/>
          </a:xfrm>
          <a:prstGeom prst="bentConnector3">
            <a:avLst>
              <a:gd name="adj1" fmla="val 50000"/>
            </a:avLst>
          </a:prstGeom>
          <a:ln w="5724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4" idx="2"/>
            <a:endCxn id="108" idx="0"/>
          </p:cNvCxnSpPr>
          <p:nvPr/>
        </p:nvCxnSpPr>
        <p:spPr>
          <a:xfrm flipH="1" rot="16200000">
            <a:off x="1695240" y="2457000"/>
            <a:ext cx="762840" cy="876960"/>
          </a:xfrm>
          <a:prstGeom prst="bentConnector3">
            <a:avLst>
              <a:gd name="adj1" fmla="val 50000"/>
            </a:avLst>
          </a:prstGeom>
          <a:ln w="5724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2"/>
            <a:endCxn id="109" idx="0"/>
          </p:cNvCxnSpPr>
          <p:nvPr/>
        </p:nvCxnSpPr>
        <p:spPr>
          <a:xfrm rot="5400000">
            <a:off x="2076120" y="2571480"/>
            <a:ext cx="2439000" cy="2324880"/>
          </a:xfrm>
          <a:prstGeom prst="bentConnector3">
            <a:avLst>
              <a:gd name="adj1" fmla="val 80454"/>
            </a:avLst>
          </a:prstGeom>
          <a:ln w="5724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124080" y="4952880"/>
            <a:ext cx="1371600" cy="533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Cut and Fil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Stop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10160" y="4952880"/>
            <a:ext cx="137160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Shrinkag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Stop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4952880"/>
            <a:ext cx="1371600" cy="533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VC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Stop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5" idx="2"/>
            <a:endCxn id="113" idx="0"/>
          </p:cNvCxnSpPr>
          <p:nvPr/>
        </p:nvCxnSpPr>
        <p:spPr>
          <a:xfrm rot="5400000">
            <a:off x="2914560" y="3409560"/>
            <a:ext cx="2439000" cy="648360"/>
          </a:xfrm>
          <a:prstGeom prst="bentConnector3">
            <a:avLst>
              <a:gd name="adj1" fmla="val 79672"/>
            </a:avLst>
          </a:prstGeom>
          <a:ln w="5724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5" idx="2"/>
            <a:endCxn id="114" idx="0"/>
          </p:cNvCxnSpPr>
          <p:nvPr/>
        </p:nvCxnSpPr>
        <p:spPr>
          <a:xfrm flipH="1" rot="16200000">
            <a:off x="3657600" y="3314160"/>
            <a:ext cx="2439000" cy="838800"/>
          </a:xfrm>
          <a:prstGeom prst="bentConnector3">
            <a:avLst>
              <a:gd name="adj1" fmla="val 80336"/>
            </a:avLst>
          </a:prstGeom>
          <a:ln w="5724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5" idx="2"/>
            <a:endCxn id="115" idx="0"/>
          </p:cNvCxnSpPr>
          <p:nvPr/>
        </p:nvCxnSpPr>
        <p:spPr>
          <a:xfrm flipH="1" rot="16200000">
            <a:off x="4437720" y="2533320"/>
            <a:ext cx="2439000" cy="2400840"/>
          </a:xfrm>
          <a:prstGeom prst="bentConnector3">
            <a:avLst>
              <a:gd name="adj1" fmla="val 79613"/>
            </a:avLst>
          </a:prstGeom>
          <a:ln w="5724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4648320" y="3124080"/>
            <a:ext cx="137160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Lonw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Min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10360" y="3124080"/>
            <a:ext cx="1371600" cy="533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Sub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Cav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734240" y="3124080"/>
            <a:ext cx="1371600" cy="533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Bloc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Cav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2" name=""/>
          <p:cNvCxnSpPr>
            <a:stCxn id="106" idx="2"/>
            <a:endCxn id="119" idx="0"/>
          </p:cNvCxnSpPr>
          <p:nvPr/>
        </p:nvCxnSpPr>
        <p:spPr>
          <a:xfrm rot="5400000">
            <a:off x="6114960" y="1733400"/>
            <a:ext cx="610200" cy="2171880"/>
          </a:xfrm>
          <a:prstGeom prst="bentConnector3">
            <a:avLst>
              <a:gd name="adj1" fmla="val 50000"/>
            </a:avLst>
          </a:prstGeom>
          <a:ln w="5724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6" idx="2"/>
            <a:endCxn id="120" idx="0"/>
          </p:cNvCxnSpPr>
          <p:nvPr/>
        </p:nvCxnSpPr>
        <p:spPr>
          <a:xfrm rot="5400000">
            <a:off x="6895440" y="2514240"/>
            <a:ext cx="610200" cy="610200"/>
          </a:xfrm>
          <a:prstGeom prst="bentConnector3">
            <a:avLst>
              <a:gd name="adj1" fmla="val 50000"/>
            </a:avLst>
          </a:prstGeom>
          <a:ln w="5724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06" idx="2"/>
            <a:endCxn id="121" idx="0"/>
          </p:cNvCxnSpPr>
          <p:nvPr/>
        </p:nvCxnSpPr>
        <p:spPr>
          <a:xfrm flipH="1" rot="16200000">
            <a:off x="7657920" y="2361600"/>
            <a:ext cx="610200" cy="915120"/>
          </a:xfrm>
          <a:prstGeom prst="bentConnector3">
            <a:avLst>
              <a:gd name="adj1" fmla="val 50000"/>
            </a:avLst>
          </a:prstGeom>
          <a:ln w="5724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457200" y="5791320"/>
            <a:ext cx="7924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71800" y="556272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Desplazamiento de la roca de caj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09120" y="6248520"/>
            <a:ext cx="7620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09760" y="5981760"/>
            <a:ext cx="647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Energía de deformación almacenada en las proximidades de una excav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523880" y="274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e5ffff"/>
                </a:solidFill>
                <a:latin typeface="Tahoma"/>
              </a:rPr>
              <a:t>Room and Pil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600200"/>
            <a:ext cx="4038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uerpos mineralizados mantiformes y de baja po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a calidad de la roca de caja y mineral deben ser competentes (2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Se dejan pilares para mantener el techo y las paredes estab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Se deben diseñar los pilares y los caserones para maximizar la recuperación de miner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uerpos mineralizados con potencias mayores a 10m y menores a 30 m se explotan por sub-niveles desde el techo al pis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Baja dilución menor a 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cuperación baja menor a 7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osto de producción 10-20$-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497480" y="2209680"/>
            <a:ext cx="4646520" cy="3097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9T17:03:14Z</dcterms:created>
  <dc:creator>Ing Minas</dc:creator>
  <dc:description/>
  <dc:language>en-US</dc:language>
  <cp:lastModifiedBy>Ing Minas</cp:lastModifiedBy>
  <dcterms:modified xsi:type="dcterms:W3CDTF">2006-06-13T21:46:08Z</dcterms:modified>
  <cp:revision>5</cp:revision>
  <dc:subject/>
  <dc:title>Diapositiva 1</dc:title>
</cp:coreProperties>
</file>