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FCC-BB68-4E6A-B7D3-EC94DA8B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7CD-7B20-401A-8BC5-EF2E8109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8BF-0B28-431C-AB7B-9A6E0298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5B0-1AFE-408D-B213-AB137669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7DF7-FD0A-4D5B-8E11-CC9A9FBF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016A-6D11-43EF-813A-CB3AB6B4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0286-FE51-4F61-B073-5E06A1CC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6F20-0CBF-4175-9098-3B5AD6A5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03C7-84D5-41E3-B63B-9035649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D20D-A370-4750-A031-4D205205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45F2-232F-4594-B419-E21E19C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58B-2BE0-46B4-93CB-3FE8BCC0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5253-FA09-4EF9-AB2B-FC1F61D9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11BB-3249-498E-B68D-09935AA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E6D7-F1B3-4911-BD89-92C23E9E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4378-BBCB-4CA8-ADD8-5949AB30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6F7A-2990-4A7A-9C6A-ECB68F41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196-4761-4077-862F-83D399C2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418-C34F-4BD9-8A63-27F9ADC9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9260-9CAC-4B90-8FDD-4DB6399A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E1E-0041-490A-AC83-7A4108B3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89E-7916-4077-9CDB-50594CC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09D-B07B-4951-BF12-7D3C839E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0D2-A22C-4B86-B169-7CF7B1E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E15-92EE-4ED6-9774-140313DBB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59FF-FD5B-4956-8FA4-85D4020E3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eec94"/>
                </a:solidFill>
                <a:latin typeface="Times New Roman"/>
              </a:rPr>
              <a:t>Depósitos Estratoligado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cimiento Mantos Blan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ral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responden a cuerpos subhorizontales tipo ma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bién como cuerpo de brechas y ve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ojados, limitados y hospedados por cuerpos subvolcánicos y la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nores sedimentos continentales, lacustres y de playa, pero siempre intercados entre rocas volcán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os yacimientos ocurren en cuencas tectónicas o sedimentarias de subsidencia a lo largo de cinturones volcánicos calcoalcalinos en corteza continental (arco volcánico continental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eec94"/>
                </a:solidFill>
                <a:latin typeface="TimesNewRoman"/>
              </a:rPr>
              <a:t>Alteración y Mineralización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de carácter déb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de ser indistinguible de las asociaciones de metamorfismo regional de la roca huésp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itización, alteración sericítica o argílica débil y propilitiz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neralizació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rnita, calcosina y calcopirita, asociada con pirita, hematita y/o magneti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tribución Geológica y génes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ociado a las tres franjas de arcos volcán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urásico-&gt; Norte de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etácico Inferior -&gt; Norte-Centro de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etácico Superior-Paleoceno -&gt; Norte-Centro de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 modelos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olcano-Exhal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delo Epigenético relacionado a fallas e intrusivos subvolcánic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asif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 tip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ósitos hospedados en rocas volcán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Tipo Buena Espera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Tipo Carolina de Michil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Tipo Mantos Blanc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ósitos hospedados en rocas plutónicas (vetiformes): a) Tipo Montecris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ósitos hospedados en rocas sedimentarias (estratoligados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Mantos Blanc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22:24:36Z</dcterms:created>
  <dc:creator>César Arriagada</dc:creator>
  <dc:description/>
  <dc:language>en-US</dc:language>
  <cp:lastModifiedBy>César Arriagada</cp:lastModifiedBy>
  <dcterms:modified xsi:type="dcterms:W3CDTF">2006-06-26T22:53:02Z</dcterms:modified>
  <cp:revision>1</cp:revision>
  <dc:subject/>
  <dc:title>Depósitos Estratoligados</dc:title>
</cp:coreProperties>
</file>