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F39-D465-4DB8-91D8-3680EC74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F7F-A691-472E-A110-3AF0D2EB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8E0-FECF-408F-BC70-FE89693B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F9D-6B8C-4473-82BF-FCA7E4F2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A9BB-5941-49AB-BF3C-BB9C0915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873-7922-434E-9402-EB295FDD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BC1A-EC66-4A89-A4D2-10110D91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563-1C17-46BD-ABEE-EEB4C0A0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1F0F-0099-493C-9C48-DCB2BBF7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CB69-F48D-4429-97E9-07A272A7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EC72-BDD4-4CB3-AC8F-8963D74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071B-861D-44D4-B75C-F2FCACC0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A03F-A738-4A58-A746-FE28ECF7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1409-8630-47D2-8C36-F1D14F4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231B-B8A3-4FA6-803E-31F7D29F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5F81-9CA2-4DEE-814A-FB0EF023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4C7B-3ACE-4B7B-937A-B1523FCD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43B1-7E40-449D-A380-866D57A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2FD-1E51-4F73-A6DD-317DFEB2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66D-C77E-4C77-AA93-2E0755D5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615-8425-4088-A1D9-8824FFDC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935-1D97-410F-A027-2E98C93C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85F-5D08-4576-BC44-2CF104B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4C3-E702-4F8D-93C1-F4D809F9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727-2445-499B-8F59-0736B39D2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018-9BCD-430D-A084-C9A2115C13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eec94"/>
                </a:solidFill>
                <a:latin typeface="Times New Roman"/>
              </a:rPr>
              <a:t>Depósitos Estratoligado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cimiento Mantos Blan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neral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esponden a cuerpos subhorizontales tipo ma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bién como cuerpo de brechas y ve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ojados, limitados y hospedados por cuerpos subvolcánicos y lav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nores sedimentos continentales, lacustres y de playa, pero siempre intercados entre rocas volcán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os yacimientos ocurren en cuencas tectónicas o sedimentarias de subsidencia a lo largo de cinturones volcánicos calcoalcalinos en corteza continental (arco volcánico continental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eec94"/>
                </a:solidFill>
                <a:latin typeface="TimesNewRoman"/>
              </a:rPr>
              <a:t>Alteración y Mineralización 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de carácter déb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de ser indistinguible de las asociaciones de metamorfismo regional de la roca huésp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bitización, alteración sericítica o argílica débil y propilitiz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neralizació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rnita, calcosina y calcopirita, asociada con pirita, hematita y/o magneti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istribución Geológica y génes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ociado a las tres franjas de arcos volcánic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Jurásico-&gt; Norte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tácico Inferior -&gt; Norte-Centro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tácico Superior-Paleoceno -&gt; Norte-Centro de Ch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 modelos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olcano-Exhal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delo Epigenético relacionado a fallas e intrusivos subvolcánico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as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 tip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ósitos hospedados en rocas volcánic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) Tipo Buena Esperan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Tipo Carolina de Michil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) Tipo Mantos Blanc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ósitos hospedados en rocas plutónicas (vetiformes): a) Tipo Montecris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ósitos hospedados en rocas sedimentarias (estratoligados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Mantos Blanc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6T22:24:36Z</dcterms:created>
  <dc:creator>César Arriagada</dc:creator>
  <dc:description/>
  <dc:language>en-US</dc:language>
  <cp:lastModifiedBy>César Arriagada</cp:lastModifiedBy>
  <dcterms:modified xsi:type="dcterms:W3CDTF">2006-06-26T22:53:02Z</dcterms:modified>
  <cp:revision>1</cp:revision>
  <dc:subject/>
  <dc:title>Depósitos Estratoligados</dc:title>
</cp:coreProperties>
</file>