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A1C-CB45-42C4-A893-0A98A837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230-E27F-41CB-AABA-169617BC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629-42E0-4CE2-9096-83980C84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974-BC2F-46EE-B54D-2BF1D558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971C-0328-4BF1-803A-975B1D91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6883-FE5C-4A85-8D69-4E5465BF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574-8248-4134-851F-A0D4CCB2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21D3-CC8B-406B-A0B6-25080D0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8C19-39B1-4106-A57E-A327BB8B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18ED-EEBF-4D6C-9173-9377FC79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52A5-99C9-4B44-B07C-C4D7C596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41F-B4EB-4847-9BBA-AF10FB76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B747-42CB-4F64-824A-9C5AD94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96EA-BA5E-44EE-8056-EEA2AF3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CE0D-5A68-4F68-92A5-5ECA9EA3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055E-79BD-47D9-8334-E19AD4A2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D656-2828-4319-B6BF-58AE3B13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2F6-D469-412D-81F2-7729423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307-6F28-42DE-BEE6-FAEE4C37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31E-BF0B-4C54-B501-9F576D94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A9F-F244-4EB9-AADC-71CC2F79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A92-823B-4653-B988-1CFEA49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488-D0F4-40DF-B1D6-86A63818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492-BB77-406F-B011-9303D1F7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0555-5401-4D48-A6EA-8CC00061AAAB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CEB6-64E8-48F0-89E6-698497EA06F1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3366"/>
                </a:solidFill>
                <a:latin typeface="Times New Roman"/>
              </a:rPr>
              <a:t>Pórfidos Aurífero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3657600"/>
            <a:ext cx="666288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illaray Farias Villeg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anuel Muñoz Corder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. Carolina Soto Cabre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Paula Castillo Gonzale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gunas consideraciones 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Pórfidos ricos en oro están presentes en arcos cordilleranos sobre corteza continental o corteza oceánica (arcos de isla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existe una conexión estricta entre pórfidos ricos en Au con ambientes oceánicos y pórfidos ricos en Mo con ambientes continenta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hay una clara relación entre pórfidos ricos en oro y una alta anomalía de oro en la roca cortical subyac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Pórfidos adyacentes pueden tener contenidos de oro muy diferentes, pero hay una tendencia a estar concentrados en cinturones geográficamente restringidos. (Ej: Cinturón de Cajamarca, Cinturón de Maricunga, etc.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hay un lugar estructural específico que favorezca la localización de estos pórfidos ricos en oro, pero algunos están ubicados en zonas de fall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738036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66"/>
                </a:solidFill>
                <a:latin typeface="Times New Roman"/>
              </a:rPr>
              <a:t>Modelo Descriptiv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547640" y="-9360"/>
            <a:ext cx="5689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Silicatos de Ca-N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Son los eventos más tempranos en las partes más profundas del pórfido. Asociaciones de Anfíbola, Albita y Magnetita reemplazando a feldespatos o en vetillas. Puede haber diópsido y venas de Qz-Mgt-An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otás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Presente en casi todos los pórfidos ricos en Au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aracterizada por la presencia de biotita (flogopita), acompañada por feldK y/o actinol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Variedad de vetillas de Qz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p y Py son los típicos sulfuros hipógen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ropilít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Halos externos. Clorita, epidota, calcita, c/s albita, actinolita y magnet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Halos de Py principalmente, también Cp, tetrahedrita, esfalerita y galena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59280" y="2060640"/>
            <a:ext cx="390384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Argílica Intermedi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Sericita, illita, clorita, calcita, smectita, hemat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Fíl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Qz, sericita, Py (típica en vena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rgílica avanzad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alcedonia, alunita, pirofilita, diásporo, dickita y caolini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ineral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La mayoría del Au introducido con Cu durante alteración potásic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También en alteración argílica intermedia y sericític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e presenta como granos finos y con alta fine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Asociado con Cu-Fe y sulfuros de Fe (P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Modelo Gené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42920" y="2693520"/>
            <a:ext cx="741672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n ciertas consideraciones, el modelo genético aplicado a pórfidos de cobre ricos en oro es el mismo aplicado a pórfidos cuprífer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luidos responsables de la mineralización poseerían temperaturas y salinidad compatibles con un origen magmático, al igual que los metales contenid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7820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Definició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gún Sillitoe, (1979) Son pórfidos ricos en Au todos aquellos que poseen una ley media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gt; o = a 0,4 ppm Au. Ejemplos: Bajo de La Alumbrera, Argentina; Saindak, Pakistán; Ok tedi y Panguna, Papúa-Nueva Guine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gún Cox y Singer (1988) la división entre pórfidos cupríferos ricos y pobres en oro deben  tomar en cuenta la ley de Mo, basado en la relación Au(ppm)/Mo(%) &gt; o = 30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stancamiento del fluido magmático puede ser un requisito para el desarrollo de pórfidos ricos en A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Rocas de caja impermeables ayudan al estancamiento pues minimizan disipación lateral y vertical de los flui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Formación de diatremas evento típicamente tardío en la evolución del cuerp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Generación de fluidos magmáticos enriquecidos en met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ormación de grandes pórfidos ricos en Au depende de factores externos que causan expulsión del fluid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mplazamiento de un cuerpo más calien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Despresurización por deslizamiento o colapso volcánic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rupciones volcánic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ventos sísm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ormación de depósitos ricos en Au requiere que el Cu y Au particionen eficientemente al fluido magmático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→ fluido debe ser liberado antes que los elementos calcófilos sean secuestrados por el fundi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e proceso se ve favorecido por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Alto contenido de agu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Estado de alta oxidación del magm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Magma empobrecido en sulfur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390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otásic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oro introducido por salmuera magmática. Éste puede ser removido junto con el Cu y ser depositado en alteraciones posterior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Ca-N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producida por fluidos magmáticos ricos en sales. Cantidad de Na en exceso produce albitización. Puede haber mineralización pero típicamente son deficientes en Au-C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Argílica avanzad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mineralización de oro debida a remoción en alteración potásica o fluidos magmáticos de baja salinidad y temperatur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xploració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Ya que estos modelos genéticos son muy estudiados y por ende muy conocidos se utilizan con mayor frecuencia en la explorac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xploración de pórfidos ricos en oro en zonas de arco volcanoplutónicos, típicamente en cintur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Búsqueda de rocas alteradas o zonaciones de alterac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Enriquecimiento en magnetita es un signo de que el sistema es rico en A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Telescop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Geoquímica y geofísic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Porfidos de Au en Chile </a:t>
            </a:r>
            <a:br>
              <a:rPr sz="4400"/>
            </a:b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(y un poco en el mundo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Times New Roman"/>
              </a:rPr>
              <a:t>Franja Maricung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Times New Roman"/>
              </a:rPr>
              <a:t>Ubic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39052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Norte de Chil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Provincia Metalogénica (Au, Ag, Cu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MIOCEN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27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0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y 28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0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S =&gt; Z. de Transi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Litologia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adena de Volcanes de composición  andesítica a dacítica (N-N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=&gt; Arco volcanoplutonico de margen continental =&gt;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ranja Maricung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041720" y="1125360"/>
          <a:ext cx="4911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1720" y="1125360"/>
                    <a:ext cx="4911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Zonas Mineralizada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tipos de Ven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Distritos (Depositos de Au-(Cu)): Refugio (Verde, Pancho), Aldebarán ( Cerro Casale, Zona de Vena, Cerro Catedral), La Pepa (Cavancha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4 tipos de venas =&gt;textura, estructura y + - mineralogia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nas-A: T. de entrampamiento ~ 315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675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Salinidades de 35 y 84 %wt NaCl eq. Fuerte correlacion entre Cu Hipogeno con Au. Cu 0.1 a 0.4 % wt            y Au &lt; 1 ppm. Bajas concentraciones de Ag (Ag/Au 0.3 a 1.4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inlets bandeadas de Qz: T. de entrampamiento ~ 220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350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Salinidades de 3.4 a 34 %wt NaCl eq. Au 0.5 a 2 ppm, Cu &lt; 0.1 % wt. No hay correlacion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nas-D: T. de entrampamiento &lt; 400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edges de Qz-Alunita: (epitermales)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Zonas Mineralizada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tipos de Ven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Refugio (23.24 Ma): Dep. Verde(101 Mt de 1.02 g/t) y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</a:rPr>
              <a:t>Pancho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(68 Mt de 0.96 g/t) . En rxs.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α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y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δ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, y rxs. intrusiv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Aldebaran (13.90 Ma):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Cerro Casale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, Zona de vena, Cerro Catedr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La Pepa(23.50 Ma):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Cavancha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(Au 0.5 a 1 ppm, Cu &lt;0.15 % wt) y epiterm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3366"/>
                </a:solidFill>
                <a:latin typeface="Times New Roman"/>
              </a:rPr>
              <a:t>Transporte de Or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xploración =&gt; Solo en franja Maricunga (dep. de Au relacionado con a dep. epiT. De Au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en el mundo?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cas convergentes =&gt;Anillo de fuego circumpacifico (Chile, Peru, Filipinas, etc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os super: Bingham(Utah) y Grasberg(Indonesia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Ligantes del o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igantes principales: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HS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H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HS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N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CN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l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Cl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7164360" y="5805360"/>
            <a:ext cx="1114560" cy="360360"/>
          </a:xfrm>
          <a:custGeom>
            <a:avLst/>
            <a:gdLst>
              <a:gd name="textAreaLeft" fmla="*/ 23040 w 1114560"/>
              <a:gd name="textAreaRight" fmla="*/ 1091520 w 111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762" h="21600">
                <a:moveTo>
                  <a:pt x="0" y="0"/>
                </a:moveTo>
                <a:lnTo>
                  <a:pt x="66762" y="0"/>
                </a:lnTo>
                <a:lnTo>
                  <a:pt x="66762" y="21600"/>
                </a:lnTo>
                <a:lnTo>
                  <a:pt x="0" y="21600"/>
                </a:lnTo>
                <a:close/>
              </a:path>
              <a:path fill="lightenLess" w="66762" h="21600">
                <a:moveTo>
                  <a:pt x="0" y="0"/>
                </a:moveTo>
                <a:lnTo>
                  <a:pt x="66762" y="0"/>
                </a:lnTo>
                <a:lnTo>
                  <a:pt x="65362" y="1400"/>
                </a:lnTo>
                <a:lnTo>
                  <a:pt x="1400" y="1400"/>
                </a:lnTo>
                <a:close/>
              </a:path>
              <a:path fill="darken" w="66762" h="21600">
                <a:moveTo>
                  <a:pt x="66762" y="0"/>
                </a:moveTo>
                <a:lnTo>
                  <a:pt x="66762" y="21600"/>
                </a:lnTo>
                <a:lnTo>
                  <a:pt x="65362" y="20200"/>
                </a:lnTo>
                <a:lnTo>
                  <a:pt x="65362" y="1400"/>
                </a:lnTo>
                <a:close/>
              </a:path>
              <a:path fill="darkenLess" w="66762" h="21600">
                <a:moveTo>
                  <a:pt x="66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62" y="20200"/>
                </a:lnTo>
                <a:close/>
              </a:path>
              <a:path fill="lighten" w="66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762" h="21600">
                <a:moveTo>
                  <a:pt x="36880" y="10800"/>
                </a:moveTo>
                <a:lnTo>
                  <a:pt x="26374" y="17806"/>
                </a:lnTo>
                <a:lnTo>
                  <a:pt x="26374" y="3794"/>
                </a:lnTo>
                <a:close/>
              </a:path>
              <a:path fill="darken" w="66762" h="21600">
                <a:moveTo>
                  <a:pt x="38725" y="3794"/>
                </a:moveTo>
                <a:lnTo>
                  <a:pt x="38725" y="17806"/>
                </a:lnTo>
                <a:lnTo>
                  <a:pt x="40387" y="17806"/>
                </a:lnTo>
                <a:lnTo>
                  <a:pt x="40387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Transporte del o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aja solubilidad en agu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ajo condiciones ácidas el oro se transporta en el complejo [AuCl2]-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ajo las condiciones alcalinas los complejos de oros [Au(S2O3)]- y [Au(CN)2]- son móvi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n los Pórfidos el Au se introdujo por fluidos de alta salinidad y temperatu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lasificación de Lew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clase 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med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clase 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+, Li+, Na+, K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de transició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u+, Ag+, Au+, Au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e3+, Ca2+, Mg2+,</a:t>
                      </a: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r2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ivalentes, incluyend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g2+, Cd2+, Sn2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3+, Fe3+, Cr3+,La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Zn2+, Pb2+ y Bi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l+, Tl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ntes clase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med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ntes clase 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-, OH-, NH3, NO3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-, Br-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-, HS-, S2O32-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O3-, CO32-, HSO3-, SO42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N-, CN-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3SiO4-, HPO42-, PO43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3COO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7451640" y="6021360"/>
            <a:ext cx="1042920" cy="287280"/>
          </a:xfrm>
          <a:custGeom>
            <a:avLst/>
            <a:gdLst>
              <a:gd name="textAreaLeft" fmla="*/ 18360 w 1042920"/>
              <a:gd name="textAreaRight" fmla="*/ 1024560 w 104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8344" h="21600">
                <a:moveTo>
                  <a:pt x="0" y="0"/>
                </a:moveTo>
                <a:lnTo>
                  <a:pt x="78344" y="0"/>
                </a:lnTo>
                <a:lnTo>
                  <a:pt x="78344" y="21600"/>
                </a:lnTo>
                <a:lnTo>
                  <a:pt x="0" y="21600"/>
                </a:lnTo>
                <a:close/>
              </a:path>
              <a:path fill="lightenLess" w="78344" h="21600">
                <a:moveTo>
                  <a:pt x="0" y="0"/>
                </a:moveTo>
                <a:lnTo>
                  <a:pt x="78344" y="0"/>
                </a:lnTo>
                <a:lnTo>
                  <a:pt x="76944" y="1400"/>
                </a:lnTo>
                <a:lnTo>
                  <a:pt x="1400" y="1400"/>
                </a:lnTo>
                <a:close/>
              </a:path>
              <a:path fill="darken" w="78344" h="21600">
                <a:moveTo>
                  <a:pt x="78344" y="0"/>
                </a:moveTo>
                <a:lnTo>
                  <a:pt x="78344" y="21600"/>
                </a:lnTo>
                <a:lnTo>
                  <a:pt x="76944" y="20200"/>
                </a:lnTo>
                <a:lnTo>
                  <a:pt x="76944" y="1400"/>
                </a:lnTo>
                <a:close/>
              </a:path>
              <a:path fill="darkenLess" w="78344" h="21600">
                <a:moveTo>
                  <a:pt x="78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944" y="20200"/>
                </a:lnTo>
                <a:close/>
              </a:path>
              <a:path fill="lighten" w="78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344" h="21600">
                <a:moveTo>
                  <a:pt x="35673" y="10800"/>
                </a:moveTo>
                <a:lnTo>
                  <a:pt x="46178" y="3794"/>
                </a:lnTo>
                <a:lnTo>
                  <a:pt x="46178" y="17806"/>
                </a:lnTo>
                <a:close/>
              </a:path>
              <a:path fill="darken" w="78344" h="21600">
                <a:moveTo>
                  <a:pt x="32165" y="3794"/>
                </a:moveTo>
                <a:lnTo>
                  <a:pt x="33828" y="3794"/>
                </a:lnTo>
                <a:lnTo>
                  <a:pt x="33828" y="17806"/>
                </a:lnTo>
                <a:lnTo>
                  <a:pt x="3216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mbiente Tectónico Region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09600" y="1700280"/>
            <a:ext cx="8834400" cy="490356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1650960" y="2647800"/>
            <a:ext cx="6454800" cy="2521080"/>
            <a:chOff x="1650960" y="2647800"/>
            <a:chExt cx="6454800" cy="2521080"/>
          </a:xfrm>
        </p:grpSpPr>
        <p:sp>
          <p:nvSpPr>
            <p:cNvPr id="307" name=""/>
            <p:cNvSpPr/>
            <p:nvPr/>
          </p:nvSpPr>
          <p:spPr>
            <a:xfrm>
              <a:off x="7288200" y="3684600"/>
              <a:ext cx="817560" cy="1165320"/>
            </a:xfrm>
            <a:custGeom>
              <a:avLst/>
              <a:gdLst/>
              <a:ahLst/>
              <a:rect l="l" t="t" r="r" b="b"/>
              <a:pathLst>
                <a:path w="515" h="734">
                  <a:moveTo>
                    <a:pt x="17" y="0"/>
                  </a:moveTo>
                  <a:cubicBezTo>
                    <a:pt x="12" y="14"/>
                    <a:pt x="0" y="48"/>
                    <a:pt x="0" y="62"/>
                  </a:cubicBezTo>
                  <a:cubicBezTo>
                    <a:pt x="0" y="135"/>
                    <a:pt x="0" y="208"/>
                    <a:pt x="8" y="280"/>
                  </a:cubicBezTo>
                  <a:cubicBezTo>
                    <a:pt x="9" y="291"/>
                    <a:pt x="53" y="324"/>
                    <a:pt x="61" y="332"/>
                  </a:cubicBezTo>
                  <a:cubicBezTo>
                    <a:pt x="126" y="397"/>
                    <a:pt x="310" y="404"/>
                    <a:pt x="392" y="419"/>
                  </a:cubicBezTo>
                  <a:cubicBezTo>
                    <a:pt x="398" y="437"/>
                    <a:pt x="404" y="454"/>
                    <a:pt x="410" y="472"/>
                  </a:cubicBezTo>
                  <a:cubicBezTo>
                    <a:pt x="413" y="481"/>
                    <a:pt x="412" y="492"/>
                    <a:pt x="418" y="498"/>
                  </a:cubicBezTo>
                  <a:cubicBezTo>
                    <a:pt x="425" y="505"/>
                    <a:pt x="436" y="503"/>
                    <a:pt x="445" y="507"/>
                  </a:cubicBezTo>
                  <a:cubicBezTo>
                    <a:pt x="468" y="519"/>
                    <a:pt x="471" y="524"/>
                    <a:pt x="488" y="542"/>
                  </a:cubicBezTo>
                  <a:cubicBezTo>
                    <a:pt x="515" y="620"/>
                    <a:pt x="497" y="559"/>
                    <a:pt x="497" y="73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14680" y="4432320"/>
              <a:ext cx="236520" cy="736560"/>
            </a:xfrm>
            <a:custGeom>
              <a:avLst/>
              <a:gdLst/>
              <a:ahLst/>
              <a:rect l="l" t="t" r="r" b="b"/>
              <a:pathLst>
                <a:path w="149" h="464">
                  <a:moveTo>
                    <a:pt x="1" y="0"/>
                  </a:moveTo>
                  <a:cubicBezTo>
                    <a:pt x="4" y="32"/>
                    <a:pt x="0" y="65"/>
                    <a:pt x="9" y="96"/>
                  </a:cubicBezTo>
                  <a:cubicBezTo>
                    <a:pt x="11" y="104"/>
                    <a:pt x="27" y="98"/>
                    <a:pt x="33" y="104"/>
                  </a:cubicBezTo>
                  <a:cubicBezTo>
                    <a:pt x="48" y="119"/>
                    <a:pt x="50" y="161"/>
                    <a:pt x="65" y="176"/>
                  </a:cubicBezTo>
                  <a:cubicBezTo>
                    <a:pt x="71" y="182"/>
                    <a:pt x="126" y="204"/>
                    <a:pt x="137" y="208"/>
                  </a:cubicBezTo>
                  <a:cubicBezTo>
                    <a:pt x="149" y="357"/>
                    <a:pt x="145" y="272"/>
                    <a:pt x="145" y="46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0960" y="2647800"/>
              <a:ext cx="263520" cy="730440"/>
            </a:xfrm>
            <a:custGeom>
              <a:avLst/>
              <a:gdLst/>
              <a:ahLst/>
              <a:rect l="l" t="t" r="r" b="b"/>
              <a:pathLst>
                <a:path w="166" h="460">
                  <a:moveTo>
                    <a:pt x="0" y="28"/>
                  </a:moveTo>
                  <a:cubicBezTo>
                    <a:pt x="42" y="0"/>
                    <a:pt x="87" y="9"/>
                    <a:pt x="128" y="36"/>
                  </a:cubicBezTo>
                  <a:cubicBezTo>
                    <a:pt x="133" y="52"/>
                    <a:pt x="139" y="68"/>
                    <a:pt x="144" y="84"/>
                  </a:cubicBezTo>
                  <a:cubicBezTo>
                    <a:pt x="147" y="92"/>
                    <a:pt x="152" y="108"/>
                    <a:pt x="152" y="108"/>
                  </a:cubicBezTo>
                  <a:cubicBezTo>
                    <a:pt x="166" y="294"/>
                    <a:pt x="160" y="177"/>
                    <a:pt x="160" y="46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16360" y="3789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32360" y="3141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32360" y="2997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40360" y="3141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3357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12000" y="508464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40720" y="5013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rcos volcánicos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relacionados a subducción. Chile, Perú y Filipin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Tras Arco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. Bingham (Utah), Bajo la Alumbrera (Argentina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Los depósitos más grandes son típicamente emplazados durante compresión regiona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63960" y="234936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Bajo la Alumbrer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751280" y="1989000"/>
            <a:ext cx="439272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754440" y="2060640"/>
            <a:ext cx="5389560" cy="3503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846600" cy="5127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6091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66"/>
                </a:solidFill>
                <a:latin typeface="Times New Roman"/>
              </a:rPr>
              <a:t>El Depósito Gigante Bingham, generado durante extensión inmediatamente despues de una prolongada compresión tectónic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01:07:32Z</dcterms:created>
  <dc:creator>carola</dc:creator>
  <dc:description/>
  <dc:language>en-US</dc:language>
  <cp:lastModifiedBy> Paula Castillo</cp:lastModifiedBy>
  <dcterms:modified xsi:type="dcterms:W3CDTF">2006-06-27T21:48:40Z</dcterms:modified>
  <cp:revision>8</cp:revision>
  <dc:subject/>
  <dc:title>Pórfidos Auríferos</dc:title>
</cp:coreProperties>
</file>