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30A-A3D6-4FAB-86DB-044E5287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209-6923-4859-846C-F6D6329D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1C1-5635-4155-8BF5-E0CB73E2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39A-49BE-4BD5-B184-8F9A619F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7D90-A138-44EA-992C-B5761D69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B33-DE62-41BC-A602-93E5828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D94E-38B7-4D78-A361-545569F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991-9676-42EC-898B-31012648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38A-924F-4DEC-B024-872B67D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BA2A-7A9F-4D60-9C7B-9CC25F8E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8A75-965E-44B7-B6F8-D2EEEEA7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93C-E36B-4C69-B0A0-52F04952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8238-F57B-4361-8ED7-1C10E96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AE01-842A-426D-9EC7-7621EAA6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35DC-72A5-4A33-AC9E-10585B3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78DA-10A3-4298-A1F9-4A047EBC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9DF2-30F0-4525-A3DE-8BF66A70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5B2-DB43-4874-B858-B612791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CEC-B335-445A-9B46-19263189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057-FB1A-4ABF-AA9E-4F408D60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D89-D80E-4A81-8239-E353B6C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4D4-24CB-4F90-854B-9071A83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C4E-27A9-4FF8-BE7D-92FD438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869-39A7-41C1-B264-1776B36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5862-92AD-4A20-B47C-12BE8B14795E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52E-56B6-4E73-8591-C06BFE1DDAFD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3366"/>
                </a:solidFill>
                <a:latin typeface="Times New Roman"/>
              </a:rPr>
              <a:t>Pórfidos Aurífer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3657600"/>
            <a:ext cx="666288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illaray Farias Villeg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anuel Muñoz Corde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M. Carolina Soto Cabre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imes New Roman"/>
              </a:rPr>
              <a:t>Paula Castillo Gonzal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gunas consideraciones 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ricos en oro están presentes en arcos cordilleranos sobre corteza continental o corteza oceánica (arcos de isla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existe una conexión estricta entre pórfidos ricos en Au con ambientes oceánicos y pórfidos ricos en Mo con ambientes continental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a clara relación entre pórfidos ricos en oro y una alta anomalía de oro en la roca cortical subyac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Pórfidos adyacentes pueden tener contenidos de oro muy diferentes, pero hay una tendencia a estar concentrados en cinturones geográficamente restringidos. (Ej: Cinturón de Cajamarca, Cinturón de Maricunga, etc.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imes New Roman"/>
              </a:rPr>
              <a:t>No hay un lugar estructural específico que favorezca la localización de estos pórfidos ricos en oro, pero algunos están ubicados en zonas de fall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738036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66"/>
                </a:solidFill>
                <a:latin typeface="Times New Roman"/>
              </a:rPr>
              <a:t>Modelo Descriptiv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47640" y="-9360"/>
            <a:ext cx="568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Silicatos de Ca-N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on los eventos más tempranos en las partes más profundas del pórfido. Asociaciones de Anfíbola, Albita y Magnetita reemplazando a feldespatos o en vetillas. Puede haber diópsido y venas de Qz-Mgt-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Presente en casi todos los pórfidos ricos en Au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racterizada por la presencia de biotita (flogopita), acompañada por feldK y/o actinol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Variedad de vetillas de Qz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p y Py son los típicos sulfuros hipógen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63960" y="2214720"/>
            <a:ext cx="39038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ropilít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externos. Clorita, epidota, calcita, c/s albita, actinolita y magne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Halos de Py principalmente, también Cp, tetrahedrita, esfalerita y galena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lteraciones Hidroterm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59280" y="2060640"/>
            <a:ext cx="390384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Intermed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Sericita, illita, clorita, calcita, smectita, hemati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Fílic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Qz, sericita, Py (típica en vena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gílica avanzad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Calcedonia, alunita, pirofilita, diásporo, dickita y caolini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52360" y="2214720"/>
            <a:ext cx="32148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Miner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a mayoría del Au introducido con Cu durante alteración potás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También en alteración argílica intermedia y sericític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e presenta como granos finos y con alta fine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sociado con Cu-Fe y sulfuros de Fe (P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Modelo Gené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42920" y="2693520"/>
            <a:ext cx="74167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on ciertas consideraciones, el modelo genético aplicado a pórfidos de cobre ricos en oro es el mismo aplicado a pórfidos cuprífe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uidos responsables de la mineralización poseerían temperaturas y salinidad compatibles con un origen magmático, al igual que los metales conteni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8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Defini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gún Sillitoe, (1979) Son pórfidos ricos en Au todos aquellos que poseen una ley media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 o = a 0,4 ppm Au. Ejemplos: Bajo de La Alumbrera, Argentina; Saindak, Pakistán; Ok tedi y Panguna, Papúa-Nueva Guine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gún Cox y Singer (1988) la división entre pórfidos cupríferos ricos y pobres en oro deben  tomar en cuenta la ley de Mo, basado en la relación Au(ppm)/Mo(%) &gt; o = 30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tancamiento del fluido magmático puede ser un requisito para el desarrollo de pórfidos ricos en A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Rocas de caja impermeables ayudan al estancamiento pues minimizan disipación lateral y vertical de los flui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Formación de diatremas evento típicamente tardío en la evolución del cuerp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Generación de fluidos magmáticos enriquecidos en met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grandes pórfidos ricos en Au depende de factores externos que causan expulsión del fluid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mplazamiento de un cuerpo más cali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Despresurización por deslizamiento o colapso volcánic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rupciones volcánica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entos sísm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ormación de depósitos ricos en Au requiere que el Cu y Au particionen eficientemente al fluido magmático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→ fluido debe ser liberado antes que los elementos calcófilos sean secuestrados por el fundi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e proceso se ve favorecido p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Alto contenido de agu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Estado de alta oxidación de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Magma empobrecido en sulfur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390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potásic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oro introducido por salmuera magmática. Éste puede ser removido junto con el Cu y ser depositado en alteraciones posterior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Ca-N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producida por fluidos magmáticos ricos en sales. Cantidad de Na en exceso produce albitización. Puede haber mineralización pero típicamente son deficientes en Au-C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lteración Argílica avanzada: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mineralización de oro debida a remoción en alteración potásica o fluidos magmáticos de baja salinidad y temperatur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xploració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Ya que estos modelos genéticos son muy estudiados y por ende muy conocidos se utilizan con mayor frecuencia en la explo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xploración de pórfidos ricos en oro en zonas de arco volcanoplutónicos, típicamente en cintur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Búsqueda de rocas alteradas o zonaciones de alteració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Enriquecimiento en magnetita es un signo de que el sistema es rico en 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Telescop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Geoquímica y geofís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Porfidos de Au en Chile </a:t>
            </a:r>
            <a:br>
              <a:rPr sz="4400"/>
            </a:br>
            <a:r>
              <a:rPr b="1" lang="es-ES" sz="4400" spc="-1" strike="noStrike">
                <a:solidFill>
                  <a:srgbClr val="003366"/>
                </a:solidFill>
                <a:latin typeface="Times New Roman"/>
              </a:rPr>
              <a:t>(y un poco en el mund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Times New Roman"/>
              </a:rPr>
              <a:t>Ubic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Norte de Chile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Provincia Metalogénica (Au, Ag, Cu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MIOCE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27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y 28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S =&gt; Z. de Transi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Lito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adena de Volcanes de composición  andesítica a dacítica (N-N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=&gt; Arco volcanoplutonico de margen continental =&gt; 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ranja Maricung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041720" y="1125360"/>
          <a:ext cx="4911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1720" y="1125360"/>
                    <a:ext cx="4911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Distritos (Depositos de Au-(Cu)): Refugio (Verde, Pancho), Aldebarán ( Cerro Casale, Zona de Vena, Cerro Catedral), La Pepa (Cavancha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4 tipos de venas =&gt;textura, estructura y + - mineralogia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A: T. de entrampamiento ~ 315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675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5 y 84 %wt NaCl eq. Fuerte correlacion entre Cu Hipogeno con Au. Cu 0.1 a 0.4 % wt            y Au &lt; 1 ppm. Bajas concentraciones de Ag (Ag/Au 0.3 a 1.4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inlets bandeadas de Qz: T. de entrampamiento ~ 220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35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 y Salinidades de 3.4 a 34 %wt NaCl eq. Au 0.5 a 2 ppm, Cu &lt; 0.1 % wt. No hay correlacion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Venas-D: T. de entrampamiento &lt; 400 </a:t>
            </a:r>
            <a:r>
              <a:rPr b="0" lang="es-ES" sz="16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edges de Qz-Alunita: (epitermales)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Zonas Mineralizadas</a:t>
            </a:r>
            <a:br>
              <a:rPr sz="4000"/>
            </a:b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tipos de Ven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Refugio (23.24 Ma): Dep. Verde(101 Mt de 1.02 g/t) y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</a:rPr>
              <a:t>Pancho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(68 Mt de 0.96 g/t) . En rxs.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α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y </a:t>
            </a:r>
            <a:r>
              <a:rPr b="0" lang="el-GR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δ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y rxs. intrusiv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Aldebaran (13.9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erro Casale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, Zona de vena, Cerro Catedr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La Pepa(23.50 Ma): </a:t>
            </a:r>
            <a:r>
              <a:rPr b="1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Cavancha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(Au 0.5 a 1 ppm, Cu &lt;0.15 % wt) y epiterm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Transporte de Or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Exploración =&gt; Solo en franja Maricunga (dep. de Au relacionado con a dep. epiT. De Au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Y en el mundo?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cas convergentes =&gt;Anillo de fuego circumpacifico (Chile, Peru, Filipinas, etc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Los super: Bingham(Utah) y Grasberg(Indonesi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Ligantes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igantes principales: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HS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HS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N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N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l-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(Cl)-</a:t>
            </a:r>
            <a:r>
              <a:rPr b="0" lang="es-ES_tradnl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7164360" y="5805360"/>
            <a:ext cx="1114560" cy="360360"/>
          </a:xfrm>
          <a:custGeom>
            <a:avLst/>
            <a:gdLst>
              <a:gd name="textAreaLeft" fmla="*/ 23040 w 1114560"/>
              <a:gd name="textAreaRight" fmla="*/ 1091520 w 111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362" y="1400"/>
                </a:lnTo>
                <a:lnTo>
                  <a:pt x="1400" y="140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362" y="20200"/>
                </a:lnTo>
                <a:lnTo>
                  <a:pt x="65362" y="140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62" y="2020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762" h="21600">
                <a:moveTo>
                  <a:pt x="36880" y="10800"/>
                </a:moveTo>
                <a:lnTo>
                  <a:pt x="26374" y="17806"/>
                </a:lnTo>
                <a:lnTo>
                  <a:pt x="26374" y="3794"/>
                </a:lnTo>
                <a:close/>
              </a:path>
              <a:path fill="darken" w="66762" h="21600">
                <a:moveTo>
                  <a:pt x="38725" y="3794"/>
                </a:moveTo>
                <a:lnTo>
                  <a:pt x="38725" y="17806"/>
                </a:lnTo>
                <a:lnTo>
                  <a:pt x="40387" y="17806"/>
                </a:lnTo>
                <a:lnTo>
                  <a:pt x="40387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ransporte del o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aja solubilidad en agu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condiciones ácidas el oro se transporta en el complejo [AuCl2]-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ajo las condiciones alcalinas los complejos de oros [Au(S2O3)]- y [Au(CN)2]- son móvi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n los Pórfidos el Au se introdujo por fluidos de alta salinidad y temperatu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lasificación de Lew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+, Li+, Na+, K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etales de transició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u+, Ag+, Au+, Au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e3+, Ca2+, Mg2+,</a:t>
                      </a: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r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ivalentes, incluyen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g2+, Cd2+, Sn2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3+, Fe3+, Cr3+,La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Zn2+, Pb2+ y Bi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l+, Tl3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termedio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gantes clase 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-, OH-, NH3, NO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-, Br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-, HS-, S2O32-</a:t>
                      </a:r>
                      <a:r>
                        <a:rPr b="0" lang="es-E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O3-, CO32-, HSO3-, SO42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N-, CN-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3SiO4-, HPO42-, PO43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3COO-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451640" y="6021360"/>
            <a:ext cx="1042920" cy="287280"/>
          </a:xfrm>
          <a:custGeom>
            <a:avLst/>
            <a:gdLst>
              <a:gd name="textAreaLeft" fmla="*/ 18360 w 1042920"/>
              <a:gd name="textAreaRight" fmla="*/ 1024560 w 104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8344" h="21600">
                <a:moveTo>
                  <a:pt x="0" y="0"/>
                </a:moveTo>
                <a:lnTo>
                  <a:pt x="78344" y="0"/>
                </a:lnTo>
                <a:lnTo>
                  <a:pt x="78344" y="21600"/>
                </a:lnTo>
                <a:lnTo>
                  <a:pt x="0" y="21600"/>
                </a:lnTo>
                <a:close/>
              </a:path>
              <a:path fill="lightenLess" w="78344" h="21600">
                <a:moveTo>
                  <a:pt x="0" y="0"/>
                </a:moveTo>
                <a:lnTo>
                  <a:pt x="78344" y="0"/>
                </a:lnTo>
                <a:lnTo>
                  <a:pt x="76944" y="1400"/>
                </a:lnTo>
                <a:lnTo>
                  <a:pt x="1400" y="1400"/>
                </a:lnTo>
                <a:close/>
              </a:path>
              <a:path fill="darken" w="78344" h="21600">
                <a:moveTo>
                  <a:pt x="78344" y="0"/>
                </a:moveTo>
                <a:lnTo>
                  <a:pt x="78344" y="21600"/>
                </a:lnTo>
                <a:lnTo>
                  <a:pt x="76944" y="20200"/>
                </a:lnTo>
                <a:lnTo>
                  <a:pt x="76944" y="1400"/>
                </a:lnTo>
                <a:close/>
              </a:path>
              <a:path fill="darkenLess" w="78344" h="21600">
                <a:moveTo>
                  <a:pt x="78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44" y="20200"/>
                </a:lnTo>
                <a:close/>
              </a:path>
              <a:path fill="lighten" w="78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44" h="21600">
                <a:moveTo>
                  <a:pt x="35673" y="10800"/>
                </a:moveTo>
                <a:lnTo>
                  <a:pt x="46178" y="3794"/>
                </a:lnTo>
                <a:lnTo>
                  <a:pt x="46178" y="17806"/>
                </a:lnTo>
                <a:close/>
              </a:path>
              <a:path fill="darken" w="78344" h="21600">
                <a:moveTo>
                  <a:pt x="32165" y="3794"/>
                </a:moveTo>
                <a:lnTo>
                  <a:pt x="33828" y="3794"/>
                </a:lnTo>
                <a:lnTo>
                  <a:pt x="33828" y="17806"/>
                </a:lnTo>
                <a:lnTo>
                  <a:pt x="3216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Ambiente Tectónico Regi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9600" y="1700280"/>
            <a:ext cx="8834400" cy="49035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650960" y="2647800"/>
            <a:ext cx="6454800" cy="2521080"/>
            <a:chOff x="1650960" y="2647800"/>
            <a:chExt cx="6454800" cy="2521080"/>
          </a:xfrm>
        </p:grpSpPr>
        <p:sp>
          <p:nvSpPr>
            <p:cNvPr id="307" name=""/>
            <p:cNvSpPr/>
            <p:nvPr/>
          </p:nvSpPr>
          <p:spPr>
            <a:xfrm>
              <a:off x="7288200" y="3684600"/>
              <a:ext cx="817560" cy="1165320"/>
            </a:xfrm>
            <a:custGeom>
              <a:avLst/>
              <a:gdLst/>
              <a:ahLst/>
              <a:rect l="l" t="t" r="r" b="b"/>
              <a:pathLst>
                <a:path w="515" h="734">
                  <a:moveTo>
                    <a:pt x="17" y="0"/>
                  </a:moveTo>
                  <a:cubicBezTo>
                    <a:pt x="12" y="14"/>
                    <a:pt x="0" y="48"/>
                    <a:pt x="0" y="62"/>
                  </a:cubicBezTo>
                  <a:cubicBezTo>
                    <a:pt x="0" y="135"/>
                    <a:pt x="0" y="208"/>
                    <a:pt x="8" y="280"/>
                  </a:cubicBezTo>
                  <a:cubicBezTo>
                    <a:pt x="9" y="291"/>
                    <a:pt x="53" y="324"/>
                    <a:pt x="61" y="332"/>
                  </a:cubicBezTo>
                  <a:cubicBezTo>
                    <a:pt x="126" y="397"/>
                    <a:pt x="310" y="404"/>
                    <a:pt x="392" y="419"/>
                  </a:cubicBezTo>
                  <a:cubicBezTo>
                    <a:pt x="398" y="437"/>
                    <a:pt x="404" y="454"/>
                    <a:pt x="410" y="472"/>
                  </a:cubicBezTo>
                  <a:cubicBezTo>
                    <a:pt x="413" y="481"/>
                    <a:pt x="412" y="492"/>
                    <a:pt x="418" y="498"/>
                  </a:cubicBezTo>
                  <a:cubicBezTo>
                    <a:pt x="425" y="505"/>
                    <a:pt x="436" y="503"/>
                    <a:pt x="445" y="507"/>
                  </a:cubicBezTo>
                  <a:cubicBezTo>
                    <a:pt x="468" y="519"/>
                    <a:pt x="471" y="524"/>
                    <a:pt x="488" y="542"/>
                  </a:cubicBezTo>
                  <a:cubicBezTo>
                    <a:pt x="515" y="620"/>
                    <a:pt x="497" y="559"/>
                    <a:pt x="497" y="73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4680" y="4432320"/>
              <a:ext cx="236520" cy="736560"/>
            </a:xfrm>
            <a:custGeom>
              <a:avLst/>
              <a:gdLst/>
              <a:ahLst/>
              <a:rect l="l" t="t" r="r" b="b"/>
              <a:pathLst>
                <a:path w="149" h="464">
                  <a:moveTo>
                    <a:pt x="1" y="0"/>
                  </a:moveTo>
                  <a:cubicBezTo>
                    <a:pt x="4" y="32"/>
                    <a:pt x="0" y="65"/>
                    <a:pt x="9" y="96"/>
                  </a:cubicBezTo>
                  <a:cubicBezTo>
                    <a:pt x="11" y="104"/>
                    <a:pt x="27" y="98"/>
                    <a:pt x="33" y="104"/>
                  </a:cubicBezTo>
                  <a:cubicBezTo>
                    <a:pt x="48" y="119"/>
                    <a:pt x="50" y="161"/>
                    <a:pt x="65" y="176"/>
                  </a:cubicBezTo>
                  <a:cubicBezTo>
                    <a:pt x="71" y="182"/>
                    <a:pt x="126" y="204"/>
                    <a:pt x="137" y="208"/>
                  </a:cubicBezTo>
                  <a:cubicBezTo>
                    <a:pt x="149" y="357"/>
                    <a:pt x="145" y="272"/>
                    <a:pt x="145" y="46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0960" y="2647800"/>
              <a:ext cx="263520" cy="730440"/>
            </a:xfrm>
            <a:custGeom>
              <a:avLst/>
              <a:gdLst/>
              <a:ahLst/>
              <a:rect l="l" t="t" r="r" b="b"/>
              <a:pathLst>
                <a:path w="166" h="460">
                  <a:moveTo>
                    <a:pt x="0" y="28"/>
                  </a:moveTo>
                  <a:cubicBezTo>
                    <a:pt x="42" y="0"/>
                    <a:pt x="87" y="9"/>
                    <a:pt x="128" y="36"/>
                  </a:cubicBezTo>
                  <a:cubicBezTo>
                    <a:pt x="133" y="52"/>
                    <a:pt x="139" y="68"/>
                    <a:pt x="144" y="84"/>
                  </a:cubicBezTo>
                  <a:cubicBezTo>
                    <a:pt x="147" y="92"/>
                    <a:pt x="152" y="108"/>
                    <a:pt x="152" y="108"/>
                  </a:cubicBezTo>
                  <a:cubicBezTo>
                    <a:pt x="166" y="294"/>
                    <a:pt x="160" y="177"/>
                    <a:pt x="160" y="46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3789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32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32360" y="2997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0360" y="3141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335772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12000" y="508464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40720" y="5013360"/>
              <a:ext cx="698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Arcos volcánicos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 relacionados a subducción. Chile, Perú y Filipin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Times New Roman"/>
              </a:rPr>
              <a:t>Tras Arco</a:t>
            </a: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. Bingham (Utah), Bajo la Alumbrera (Argentina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imes New Roman"/>
              </a:rPr>
              <a:t>Los depósitos más grandes son típicamente emplazados durante compresión regiona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34936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Bajo la Alumbre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751280" y="1989000"/>
            <a:ext cx="439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754440" y="2060640"/>
            <a:ext cx="5389560" cy="3503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846600" cy="5127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6091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66"/>
                </a:solidFill>
                <a:latin typeface="Times New Roman"/>
              </a:rPr>
              <a:t>El Depósito Gigante Bingham, generado durante extensión inmediatamente despues de una prolongada compresión tectónica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1:07:32Z</dcterms:created>
  <dc:creator>carola</dc:creator>
  <dc:description/>
  <dc:language>en-US</dc:language>
  <cp:lastModifiedBy> Paula Castillo</cp:lastModifiedBy>
  <dcterms:modified xsi:type="dcterms:W3CDTF">2006-06-27T21:48:40Z</dcterms:modified>
  <cp:revision>8</cp:revision>
  <dc:subject/>
  <dc:title>Pórfidos Auríferos</dc:title>
</cp:coreProperties>
</file>