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453-FED9-4672-A3D4-9FA35925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E26-B82C-47BD-8153-46123FEA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52F-CA45-46C5-8D0B-16CC4E5B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DC6-4B2C-4DD6-8399-C380DC93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8D0-74B3-4DE5-9FD3-FD184027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9FE-6DF9-4121-A4DE-D4027A7F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CFE-806B-4ED2-817B-CB91D9C2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EEB-AA5A-4106-80DD-0D9796AD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98E-027F-4AB8-9398-AF130D6D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5A9-F177-45B5-A3E2-D69C3952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2EF-A15E-443B-AC97-8F05B947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B69-2625-4A99-B11F-BBA2AE90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584C-D929-4728-B503-0CE57E74B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Una introducción a Skarn y depósitos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800" y="6172200"/>
            <a:ext cx="848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c17"/>
                </a:solidFill>
                <a:latin typeface="Times New Roman"/>
              </a:rPr>
              <a:t>Black limestone cut by green garnet veins with pyroxene ± wollastonite envelopes - Antamina, 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c17"/>
                </a:solidFill>
                <a:latin typeface="Times New Roman"/>
              </a:rPr>
              <a:t>http://www.wsu.edu:8080/~meinert/skarnHP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9688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Skarns infiltra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968560"/>
            <a:ext cx="8382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igados a intrusión --&gt; skarns cont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Metamórfiicos --&gt; skarns regional (mayormente skarns W-Au: e.g., Bindal, Norway; Blacklite Prospect, New Mexico; Navachab, Namib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19720" y="2209680"/>
            <a:ext cx="4724280" cy="837720"/>
            <a:chOff x="4419720" y="2209680"/>
            <a:chExt cx="4724280" cy="837720"/>
          </a:xfrm>
        </p:grpSpPr>
        <p:sp>
          <p:nvSpPr>
            <p:cNvPr id="61" name=""/>
            <p:cNvSpPr/>
            <p:nvPr/>
          </p:nvSpPr>
          <p:spPr>
            <a:xfrm>
              <a:off x="4419720" y="22096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c17"/>
                  </a:solidFill>
                  <a:latin typeface="Times New Roman"/>
                </a:rPr>
                <a:t>Proximal (&lt;300 m desde intrus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324840" y="2742480"/>
              <a:ext cx="609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419720" y="3429000"/>
            <a:ext cx="4724280" cy="916920"/>
            <a:chOff x="4419720" y="3429000"/>
            <a:chExt cx="4724280" cy="916920"/>
          </a:xfrm>
        </p:grpSpPr>
        <p:sp>
          <p:nvSpPr>
            <p:cNvPr id="64" name=""/>
            <p:cNvSpPr/>
            <p:nvPr/>
          </p:nvSpPr>
          <p:spPr>
            <a:xfrm>
              <a:off x="4419720" y="38862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63ff38"/>
                  </a:solidFill>
                  <a:latin typeface="Times New Roman"/>
                </a:rPr>
                <a:t>Distal (&gt;300 m desde intrus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840" y="3429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Depósitos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371600"/>
            <a:ext cx="8915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Depósitos de Skarn están  formados en asociación con procesos de difusión e infiltración, no con procesos isoquím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Mayoría de ellos asociados con skarns de infilt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emperatura 600°–650°C. Más baja en skarns de Pb-Z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resión: algunos kilómet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sociados con pórfidos cupríferos sugiere relativamente niveles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poco profun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295280"/>
            <a:ext cx="8588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ada en el metal económico dominante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-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ro incluyen: F, C, BA, Pt, U, RE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040" y="272880"/>
            <a:ext cx="876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e957"/>
                </a:solidFill>
                <a:latin typeface="Times New Roman"/>
              </a:rPr>
              <a:t>Clasificación Económica de Skarn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Interacción Magma- roca de caj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entamiento de roca de caja y sus fluídos --&gt; gradiente T alrededor de la intr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atilizacion de componentes de la roca de caja (mayormente  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también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, 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acción y reacción de fluidos magmáticos exsueltos con la roca de caja y sus fluidos, así como con fluidos meteoricos infilt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9400" y="762120"/>
            <a:ext cx="740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Estados de formacion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mor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tro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3200400" cy="3276720"/>
          </a:xfrm>
          <a:prstGeom prst="rect">
            <a:avLst/>
          </a:prstGeom>
          <a:noFill/>
          <a:ln w="76320">
            <a:solidFill>
              <a:srgbClr val="ff3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0" y="0"/>
            <a:ext cx="6629400" cy="6705720"/>
            <a:chOff x="0" y="0"/>
            <a:chExt cx="6629400" cy="6705720"/>
          </a:xfrm>
        </p:grpSpPr>
        <p:sp>
          <p:nvSpPr>
            <p:cNvPr id="78" name=""/>
            <p:cNvSpPr/>
            <p:nvPr/>
          </p:nvSpPr>
          <p:spPr>
            <a:xfrm>
              <a:off x="3429000" y="0"/>
              <a:ext cx="3200400" cy="3276720"/>
            </a:xfrm>
            <a:prstGeom prst="rect">
              <a:avLst/>
            </a:prstGeom>
            <a:noFill/>
            <a:ln w="76320">
              <a:solidFill>
                <a:srgbClr val="ff3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429000"/>
              <a:ext cx="3200400" cy="3276720"/>
            </a:xfrm>
            <a:prstGeom prst="rect">
              <a:avLst/>
            </a:prstGeom>
            <a:noFill/>
            <a:ln w="76320">
              <a:solidFill>
                <a:srgbClr val="ff3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273320"/>
            <a:ext cx="86104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id exsolution from cooling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ion of the magmatic fluid, usually Si- and Fe-rich, with carbo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Fe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--&gt; CaFeSi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Ca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ion of anhydrous Ca-silicates (mostly garnet, pyroxene) at T ~750°-400°C. Magnetite forms in magnesian ska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eralogical z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id salinities &gt;30% eq. NaCl in garnet and pyrox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ygen isotopes of garnet and pyroxene compatible with magmatic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182880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karn alteration of the country rock, generally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be classified according to the dominant miner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of the world’s major skarn deposits are in calcic exo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ually show a zoning of both silicate and ore min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35280" y="549360"/>
            <a:ext cx="534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o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400" y="609120"/>
            <a:ext cx="74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Definición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67984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oca granular consistente en silicatos de Ca (e.g., granate, piroxeno, anfíbola); no implica presencia o ausencia de mi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Si mineralization --&gt; depósitos 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1616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arn alteration of intrusive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classic carbonate intrusive contact, this would be the intrusive rock altered to calc-sil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show zoning from potassic minerals (primary?) to calcic at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tite -&gt; amphibole -&gt; pyroxene -&gt; garnet (towards mar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merge with the exosk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4136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ndo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Prograde stage mineral zo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85080" y="182880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c17"/>
                </a:solidFill>
                <a:latin typeface="Times New Roman"/>
              </a:rPr>
              <a:t>Cu ska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160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034"/>
                </a:solidFill>
                <a:latin typeface="Times New Roman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732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fff9"/>
                </a:solidFill>
                <a:latin typeface="Times New Roman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2240" y="3352680"/>
            <a:ext cx="7543080" cy="870840"/>
            <a:chOff x="912240" y="3352680"/>
            <a:chExt cx="7543080" cy="870840"/>
          </a:xfrm>
        </p:grpSpPr>
        <p:sp>
          <p:nvSpPr>
            <p:cNvPr id="91" name=""/>
            <p:cNvSpPr/>
            <p:nvPr/>
          </p:nvSpPr>
          <p:spPr>
            <a:xfrm>
              <a:off x="1562040" y="33526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03680" y="3763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12240" y="3763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c6136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13560" y="37638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3ff38"/>
                  </a:solidFill>
                  <a:latin typeface="Times New Roman"/>
                </a:rPr>
                <a:t>green-yel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69240" y="5181480"/>
            <a:ext cx="7637400" cy="1046160"/>
            <a:chOff x="669240" y="5181480"/>
            <a:chExt cx="7637400" cy="1046160"/>
          </a:xfrm>
        </p:grpSpPr>
        <p:sp>
          <p:nvSpPr>
            <p:cNvPr id="96" name=""/>
            <p:cNvSpPr/>
            <p:nvPr/>
          </p:nvSpPr>
          <p:spPr>
            <a:xfrm>
              <a:off x="1562040" y="51814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9280" y="55846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YROX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9240" y="540216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ght co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high-M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61880" y="5402160"/>
              <a:ext cx="154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dark co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(high-F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52680" y="3429000"/>
            <a:ext cx="3200400" cy="3276720"/>
          </a:xfrm>
          <a:prstGeom prst="rect">
            <a:avLst/>
          </a:prstGeom>
          <a:noFill/>
          <a:ln w="76320">
            <a:solidFill>
              <a:srgbClr val="ff3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t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943280"/>
            <a:ext cx="891540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ling, involvement of meteoric fluids, oxidizing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rich prograde anhydrous minerals substituted by hydrous silicates (e.g., chlorite, epidote, amphibole), iron oxides (magnetite, hematite), calcite, quar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 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actin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1/2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6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magne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hema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47116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ental Mine (New Mexico, USA). Intense retrograde envelopes on veins cutting through prograde garnet (red-brown color) and pyroxene (light tan color) skarn. In more widespread retrograde alteration, the vein envelopes would coalesce and completely obliterate the prograde garnet and pyrox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6324480" cy="352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152280"/>
            <a:ext cx="603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trograde Alter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Ret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2465280"/>
            <a:ext cx="809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&lt;40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linities &lt;25% eq. Na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ygen and hydrogen isotopes of retrograde minerals indicate participation of meteoric fl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regular geometry, often larger volume than prograde 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typ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604960"/>
            <a:ext cx="899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ff38"/>
                </a:solidFill>
                <a:latin typeface="Times New Roman"/>
              </a:rPr>
              <a:t>Calcic skar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- and Ca-Fe(-Mg)-silicates (wollastonite, vesuvianite, andradite, hedenberg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Magnesian skar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g- and Ca-Mg(-Fe)-silicates and oxides/hydroxides (forsterite, diopside, talc, brucite, periclase, magnet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typ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2651040"/>
            <a:ext cx="89913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Reduced 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earing silicates (hedenbergite&gt;&gt;andrad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Fe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Ca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--&gt; CaFeSi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+ 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op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034"/>
                </a:solidFill>
                <a:latin typeface="Times New Roman"/>
              </a:rPr>
              <a:t>Oxidized 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earing silicates (andradite&gt;&gt; hedenberg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2Fe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+ 1/2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Características generales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83996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Formados durante metamorfismo de contacto o regional por procesos metasomáticos involucrando fluidos magmáticos, metamórficos, meteóricos y/o ma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Encontrado cerca de una intrusión, a lo largo de  fallas y zonas de cizalle, en sistemas geotermales superficiales, en el fondo de océ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odos estos skarns están relacionados por su mineralogía, caracterizada por la presencia de una variedad de silicatos-Ca, especialmente granates y pirox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152280"/>
            <a:ext cx="8153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Reduced vs. oxidized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2365200"/>
            <a:ext cx="899136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ic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Ca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Fe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2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--&gt; 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6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                  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3Ca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2Fe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3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1/2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--&gt; 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(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3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                          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ma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gma f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19640" y="2361960"/>
            <a:ext cx="3925800" cy="3934800"/>
            <a:chOff x="719640" y="2361960"/>
            <a:chExt cx="3925800" cy="3934800"/>
          </a:xfrm>
        </p:grpSpPr>
        <p:sp>
          <p:nvSpPr>
            <p:cNvPr id="120" name=""/>
            <p:cNvSpPr/>
            <p:nvPr/>
          </p:nvSpPr>
          <p:spPr>
            <a:xfrm>
              <a:off x="719640" y="3581280"/>
              <a:ext cx="9669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b0f"/>
                  </a:solidFill>
                  <a:latin typeface="Times New Roman"/>
                </a:rPr>
                <a:t>f</a:t>
              </a:r>
              <a:r>
                <a:rPr b="0" lang="en-US" sz="4800" spc="-1" strike="noStrike">
                  <a:solidFill>
                    <a:srgbClr val="fffb0f"/>
                  </a:solidFill>
                  <a:latin typeface="Times New Roman"/>
                </a:rPr>
                <a:t>O</a:t>
              </a:r>
              <a:r>
                <a:rPr b="0" lang="en-US" sz="4800" spc="-1" strike="noStrike" baseline="-25000">
                  <a:solidFill>
                    <a:srgbClr val="fffb0f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133720" y="2361960"/>
              <a:ext cx="2511720" cy="3934800"/>
              <a:chOff x="2133720" y="2361960"/>
              <a:chExt cx="2511720" cy="3934800"/>
            </a:xfrm>
          </p:grpSpPr>
          <p:sp>
            <p:nvSpPr>
              <p:cNvPr id="122" name=""/>
              <p:cNvSpPr/>
              <p:nvPr/>
            </p:nvSpPr>
            <p:spPr>
              <a:xfrm>
                <a:off x="2612880" y="2362320"/>
                <a:ext cx="2032560" cy="39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Hemat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Titan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Magnet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Ilmen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133720" y="2361960"/>
                <a:ext cx="0" cy="3886200"/>
              </a:xfrm>
              <a:prstGeom prst="line">
                <a:avLst/>
              </a:prstGeom>
              <a:ln w="57240">
                <a:solidFill>
                  <a:srgbClr val="fffb0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4648320" y="2286000"/>
            <a:ext cx="4267080" cy="1068840"/>
            <a:chOff x="4648320" y="2286000"/>
            <a:chExt cx="4267080" cy="1068840"/>
          </a:xfrm>
        </p:grpSpPr>
        <p:sp>
          <p:nvSpPr>
            <p:cNvPr id="125" name=""/>
            <p:cNvSpPr/>
            <p:nvPr/>
          </p:nvSpPr>
          <p:spPr>
            <a:xfrm>
              <a:off x="5486400" y="2286000"/>
              <a:ext cx="3429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c19"/>
                  </a:solidFill>
                  <a:latin typeface="Times New Roman"/>
                </a:rPr>
                <a:t>Most porphyry-Cu plut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648320" y="2666880"/>
              <a:ext cx="914400" cy="0"/>
            </a:xfrm>
            <a:prstGeom prst="line">
              <a:avLst/>
            </a:prstGeom>
            <a:ln w="57240">
              <a:solidFill>
                <a:srgbClr val="ff0c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71600"/>
            <a:ext cx="9144000" cy="2338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710160"/>
            <a:ext cx="9144000" cy="1528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65768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2000" y="1371600"/>
            <a:ext cx="4926600" cy="2338560"/>
            <a:chOff x="2502000" y="1371600"/>
            <a:chExt cx="4926600" cy="2338560"/>
          </a:xfrm>
        </p:grpSpPr>
        <p:grpSp>
          <p:nvGrpSpPr>
            <p:cNvPr id="132" name=""/>
            <p:cNvGrpSpPr/>
            <p:nvPr/>
          </p:nvGrpSpPr>
          <p:grpSpPr>
            <a:xfrm>
              <a:off x="2502000" y="1371600"/>
              <a:ext cx="2155680" cy="2338560"/>
              <a:chOff x="2502000" y="1371600"/>
              <a:chExt cx="2155680" cy="2338560"/>
            </a:xfrm>
          </p:grpSpPr>
          <p:sp>
            <p:nvSpPr>
              <p:cNvPr id="133" name=""/>
              <p:cNvSpPr/>
              <p:nvPr/>
            </p:nvSpPr>
            <p:spPr>
              <a:xfrm>
                <a:off x="2502000" y="1371600"/>
                <a:ext cx="2155680" cy="2338560"/>
              </a:xfrm>
              <a:prstGeom prst="rect">
                <a:avLst/>
              </a:prstGeom>
              <a:solidFill>
                <a:srgbClr val="ffe95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67960" y="1752480"/>
                <a:ext cx="102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Bio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124680" y="1371600"/>
              <a:ext cx="1303920" cy="2338560"/>
              <a:chOff x="6124680" y="1371600"/>
              <a:chExt cx="1303920" cy="2338560"/>
            </a:xfrm>
          </p:grpSpPr>
          <p:sp>
            <p:nvSpPr>
              <p:cNvPr id="136" name=""/>
              <p:cNvSpPr/>
              <p:nvPr/>
            </p:nvSpPr>
            <p:spPr>
              <a:xfrm>
                <a:off x="6124680" y="1371600"/>
                <a:ext cx="1293840" cy="2338560"/>
              </a:xfrm>
              <a:prstGeom prst="rect">
                <a:avLst/>
              </a:prstGeom>
              <a:solidFill>
                <a:srgbClr val="5b3d2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78200" y="190512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39520" y="20574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a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lt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0" y="4267080"/>
            <a:ext cx="1108800" cy="368280"/>
          </a:xfrm>
          <a:prstGeom prst="rect">
            <a:avLst/>
          </a:prstGeom>
          <a:solidFill>
            <a:srgbClr val="2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ime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5791320"/>
            <a:ext cx="103248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lo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46040" y="3699720"/>
            <a:ext cx="3064320" cy="1539000"/>
            <a:chOff x="3146040" y="3699720"/>
            <a:chExt cx="3064320" cy="1539000"/>
          </a:xfrm>
        </p:grpSpPr>
        <p:grpSp>
          <p:nvGrpSpPr>
            <p:cNvPr id="142" name=""/>
            <p:cNvGrpSpPr/>
            <p:nvPr/>
          </p:nvGrpSpPr>
          <p:grpSpPr>
            <a:xfrm>
              <a:off x="4830840" y="3710160"/>
              <a:ext cx="1379520" cy="1528560"/>
              <a:chOff x="4830840" y="3710160"/>
              <a:chExt cx="1379520" cy="1528560"/>
            </a:xfrm>
          </p:grpSpPr>
          <p:sp>
            <p:nvSpPr>
              <p:cNvPr id="143" name=""/>
              <p:cNvSpPr/>
              <p:nvPr/>
            </p:nvSpPr>
            <p:spPr>
              <a:xfrm>
                <a:off x="4830840" y="3710160"/>
                <a:ext cx="1379520" cy="152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40120" y="426708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g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146040" y="3699720"/>
              <a:ext cx="1081440" cy="1539000"/>
              <a:chOff x="3146040" y="3699720"/>
              <a:chExt cx="1081440" cy="1539000"/>
            </a:xfrm>
          </p:grpSpPr>
          <p:sp>
            <p:nvSpPr>
              <p:cNvPr id="146" name=""/>
              <p:cNvSpPr/>
              <p:nvPr/>
            </p:nvSpPr>
            <p:spPr>
              <a:xfrm>
                <a:off x="3200400" y="3710160"/>
                <a:ext cx="1027080" cy="152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7007600">
                <a:off x="3128760" y="380700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g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360520" y="3710160"/>
            <a:ext cx="4610520" cy="1528560"/>
            <a:chOff x="2360520" y="3710160"/>
            <a:chExt cx="4610520" cy="1528560"/>
          </a:xfrm>
        </p:grpSpPr>
        <p:grpSp>
          <p:nvGrpSpPr>
            <p:cNvPr id="149" name=""/>
            <p:cNvGrpSpPr/>
            <p:nvPr/>
          </p:nvGrpSpPr>
          <p:grpSpPr>
            <a:xfrm>
              <a:off x="6599160" y="3710160"/>
              <a:ext cx="371880" cy="1528560"/>
              <a:chOff x="6599160" y="3710160"/>
              <a:chExt cx="371880" cy="1528560"/>
            </a:xfrm>
          </p:grpSpPr>
          <p:sp>
            <p:nvSpPr>
              <p:cNvPr id="150" name=""/>
              <p:cNvSpPr/>
              <p:nvPr/>
            </p:nvSpPr>
            <p:spPr>
              <a:xfrm>
                <a:off x="6642000" y="3710160"/>
                <a:ext cx="258840" cy="1528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225800">
                <a:off x="6554880" y="449568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w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360520" y="3710160"/>
              <a:ext cx="409680" cy="1528560"/>
              <a:chOff x="2360520" y="3710160"/>
              <a:chExt cx="409680" cy="1528560"/>
            </a:xfrm>
          </p:grpSpPr>
          <p:sp>
            <p:nvSpPr>
              <p:cNvPr id="153" name=""/>
              <p:cNvSpPr/>
              <p:nvPr/>
            </p:nvSpPr>
            <p:spPr>
              <a:xfrm>
                <a:off x="2438280" y="3710160"/>
                <a:ext cx="331920" cy="1528560"/>
              </a:xfrm>
              <a:prstGeom prst="rect">
                <a:avLst/>
              </a:prstGeom>
              <a:solidFill>
                <a:srgbClr val="6876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6217400">
                <a:off x="2177280" y="422568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amp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2745000" y="3710160"/>
            <a:ext cx="3897000" cy="1528560"/>
            <a:chOff x="2745000" y="3710160"/>
            <a:chExt cx="3897000" cy="1528560"/>
          </a:xfrm>
        </p:grpSpPr>
        <p:grpSp>
          <p:nvGrpSpPr>
            <p:cNvPr id="156" name=""/>
            <p:cNvGrpSpPr/>
            <p:nvPr/>
          </p:nvGrpSpPr>
          <p:grpSpPr>
            <a:xfrm>
              <a:off x="6210360" y="3710160"/>
              <a:ext cx="431640" cy="1528560"/>
              <a:chOff x="6210360" y="3710160"/>
              <a:chExt cx="431640" cy="1528560"/>
            </a:xfrm>
          </p:grpSpPr>
          <p:sp>
            <p:nvSpPr>
              <p:cNvPr id="157" name=""/>
              <p:cNvSpPr/>
              <p:nvPr/>
            </p:nvSpPr>
            <p:spPr>
              <a:xfrm>
                <a:off x="6210360" y="3710160"/>
                <a:ext cx="431640" cy="1528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18280" y="388620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745000" y="3710160"/>
              <a:ext cx="455400" cy="1528560"/>
              <a:chOff x="2745000" y="3710160"/>
              <a:chExt cx="455400" cy="1528560"/>
            </a:xfrm>
          </p:grpSpPr>
          <p:sp>
            <p:nvSpPr>
              <p:cNvPr id="160" name=""/>
              <p:cNvSpPr/>
              <p:nvPr/>
            </p:nvSpPr>
            <p:spPr>
              <a:xfrm>
                <a:off x="2770200" y="3710160"/>
                <a:ext cx="430200" cy="1528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745000" y="449568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2760840" y="5238720"/>
            <a:ext cx="4054320" cy="1619280"/>
            <a:chOff x="2760840" y="5238720"/>
            <a:chExt cx="4054320" cy="1619280"/>
          </a:xfrm>
        </p:grpSpPr>
        <p:grpSp>
          <p:nvGrpSpPr>
            <p:cNvPr id="163" name=""/>
            <p:cNvGrpSpPr/>
            <p:nvPr/>
          </p:nvGrpSpPr>
          <p:grpSpPr>
            <a:xfrm>
              <a:off x="2760840" y="5238720"/>
              <a:ext cx="1035000" cy="1619280"/>
              <a:chOff x="2760840" y="5238720"/>
              <a:chExt cx="1035000" cy="1619280"/>
            </a:xfrm>
          </p:grpSpPr>
          <p:sp>
            <p:nvSpPr>
              <p:cNvPr id="164" name=""/>
              <p:cNvSpPr/>
              <p:nvPr/>
            </p:nvSpPr>
            <p:spPr>
              <a:xfrm>
                <a:off x="2760840" y="5238720"/>
                <a:ext cx="1035000" cy="1619280"/>
              </a:xfrm>
              <a:prstGeom prst="rect">
                <a:avLst/>
              </a:prstGeom>
              <a:solidFill>
                <a:srgbClr val="2f8b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6920" y="57150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607000" y="5238720"/>
              <a:ext cx="1208160" cy="1619280"/>
              <a:chOff x="5607000" y="5238720"/>
              <a:chExt cx="1208160" cy="1619280"/>
            </a:xfrm>
          </p:grpSpPr>
          <p:sp>
            <p:nvSpPr>
              <p:cNvPr id="167" name=""/>
              <p:cNvSpPr/>
              <p:nvPr/>
            </p:nvSpPr>
            <p:spPr>
              <a:xfrm>
                <a:off x="5607000" y="5238720"/>
                <a:ext cx="1208160" cy="1619280"/>
              </a:xfrm>
              <a:prstGeom prst="rect">
                <a:avLst/>
              </a:prstGeom>
              <a:solidFill>
                <a:srgbClr val="2f8b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49960" y="56386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2325600" y="5238720"/>
            <a:ext cx="4943880" cy="1619280"/>
            <a:chOff x="2325600" y="5238720"/>
            <a:chExt cx="4943880" cy="1619280"/>
          </a:xfrm>
        </p:grpSpPr>
        <p:grpSp>
          <p:nvGrpSpPr>
            <p:cNvPr id="170" name=""/>
            <p:cNvGrpSpPr/>
            <p:nvPr/>
          </p:nvGrpSpPr>
          <p:grpSpPr>
            <a:xfrm>
              <a:off x="2325600" y="5238720"/>
              <a:ext cx="435240" cy="1619280"/>
              <a:chOff x="2325600" y="5238720"/>
              <a:chExt cx="435240" cy="1619280"/>
            </a:xfrm>
          </p:grpSpPr>
          <p:sp>
            <p:nvSpPr>
              <p:cNvPr id="171" name=""/>
              <p:cNvSpPr/>
              <p:nvPr/>
            </p:nvSpPr>
            <p:spPr>
              <a:xfrm>
                <a:off x="2328840" y="5238720"/>
                <a:ext cx="432000" cy="1619280"/>
              </a:xfrm>
              <a:prstGeom prst="rect">
                <a:avLst/>
              </a:prstGeom>
              <a:solidFill>
                <a:srgbClr val="bad4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221000">
                <a:off x="2211480" y="579096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815160" y="5238720"/>
              <a:ext cx="454320" cy="1619280"/>
              <a:chOff x="6815160" y="5238720"/>
              <a:chExt cx="454320" cy="1619280"/>
            </a:xfrm>
          </p:grpSpPr>
          <p:sp>
            <p:nvSpPr>
              <p:cNvPr id="174" name=""/>
              <p:cNvSpPr/>
              <p:nvPr/>
            </p:nvSpPr>
            <p:spPr>
              <a:xfrm>
                <a:off x="6815160" y="5238720"/>
                <a:ext cx="431640" cy="1619280"/>
              </a:xfrm>
              <a:prstGeom prst="rect">
                <a:avLst/>
              </a:prstGeom>
              <a:solidFill>
                <a:srgbClr val="bad4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6221000">
                <a:off x="6783480" y="586728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3105000" y="1371600"/>
            <a:ext cx="3795840" cy="2357640"/>
            <a:chOff x="3105000" y="1371600"/>
            <a:chExt cx="3795840" cy="2357640"/>
          </a:xfrm>
        </p:grpSpPr>
        <p:grpSp>
          <p:nvGrpSpPr>
            <p:cNvPr id="177" name=""/>
            <p:cNvGrpSpPr/>
            <p:nvPr/>
          </p:nvGrpSpPr>
          <p:grpSpPr>
            <a:xfrm>
              <a:off x="4657680" y="1371600"/>
              <a:ext cx="2243160" cy="2338560"/>
              <a:chOff x="4657680" y="1371600"/>
              <a:chExt cx="2243160" cy="2338560"/>
            </a:xfrm>
          </p:grpSpPr>
          <p:sp>
            <p:nvSpPr>
              <p:cNvPr id="178" name=""/>
              <p:cNvSpPr/>
              <p:nvPr/>
            </p:nvSpPr>
            <p:spPr>
              <a:xfrm>
                <a:off x="4657680" y="1371600"/>
                <a:ext cx="2243160" cy="2338560"/>
              </a:xfrm>
              <a:custGeom>
                <a:avLst/>
                <a:gdLst/>
                <a:ahLst/>
                <a:rect l="l" t="t" r="r" b="b"/>
                <a:pathLst>
                  <a:path w="1248" h="1248">
                    <a:moveTo>
                      <a:pt x="1200" y="1248"/>
                    </a:moveTo>
                    <a:lnTo>
                      <a:pt x="0" y="1248"/>
                    </a:lnTo>
                    <a:lnTo>
                      <a:pt x="0" y="0"/>
                    </a:lnTo>
                    <a:lnTo>
                      <a:pt x="912" y="0"/>
                    </a:lnTo>
                    <a:lnTo>
                      <a:pt x="1008" y="144"/>
                    </a:lnTo>
                    <a:lnTo>
                      <a:pt x="1008" y="432"/>
                    </a:lnTo>
                    <a:lnTo>
                      <a:pt x="960" y="624"/>
                    </a:lnTo>
                    <a:lnTo>
                      <a:pt x="1104" y="864"/>
                    </a:lnTo>
                    <a:lnTo>
                      <a:pt x="1200" y="1008"/>
                    </a:lnTo>
                    <a:lnTo>
                      <a:pt x="1200" y="1104"/>
                    </a:lnTo>
                    <a:lnTo>
                      <a:pt x="1248" y="1152"/>
                    </a:lnTo>
                    <a:lnTo>
                      <a:pt x="1200" y="1248"/>
                    </a:lnTo>
                    <a:close/>
                  </a:path>
                </a:pathLst>
              </a:custGeom>
              <a:solidFill>
                <a:srgbClr val="5918b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78000" y="1676520"/>
                <a:ext cx="129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a-sil (ga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05000" y="1911240"/>
              <a:ext cx="1552680" cy="1818000"/>
              <a:chOff x="3105000" y="1911240"/>
              <a:chExt cx="1552680" cy="1818000"/>
            </a:xfrm>
          </p:grpSpPr>
          <p:sp>
            <p:nvSpPr>
              <p:cNvPr id="181" name=""/>
              <p:cNvSpPr/>
              <p:nvPr/>
            </p:nvSpPr>
            <p:spPr>
              <a:xfrm>
                <a:off x="3105000" y="1911240"/>
                <a:ext cx="1552680" cy="1798920"/>
              </a:xfrm>
              <a:custGeom>
                <a:avLst/>
                <a:gdLst/>
                <a:ahLst/>
                <a:rect l="l" t="t" r="r" b="b"/>
                <a:pathLst>
                  <a:path w="864" h="960">
                    <a:moveTo>
                      <a:pt x="0" y="960"/>
                    </a:moveTo>
                    <a:lnTo>
                      <a:pt x="864" y="960"/>
                    </a:lnTo>
                    <a:lnTo>
                      <a:pt x="864" y="0"/>
                    </a:lnTo>
                    <a:lnTo>
                      <a:pt x="768" y="48"/>
                    </a:lnTo>
                    <a:lnTo>
                      <a:pt x="624" y="96"/>
                    </a:lnTo>
                    <a:lnTo>
                      <a:pt x="432" y="144"/>
                    </a:lnTo>
                    <a:lnTo>
                      <a:pt x="336" y="240"/>
                    </a:lnTo>
                    <a:lnTo>
                      <a:pt x="288" y="432"/>
                    </a:lnTo>
                    <a:lnTo>
                      <a:pt x="144" y="624"/>
                    </a:lnTo>
                    <a:lnTo>
                      <a:pt x="0" y="768"/>
                    </a:lnTo>
                    <a:lnTo>
                      <a:pt x="0" y="960"/>
                    </a:lnTo>
                    <a:close/>
                  </a:path>
                </a:pathLst>
              </a:custGeom>
              <a:solidFill>
                <a:srgbClr val="88888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371800">
                <a:off x="3061440" y="303552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3192480" y="2271600"/>
            <a:ext cx="3190680" cy="4586400"/>
          </a:xfrm>
          <a:custGeom>
            <a:avLst/>
            <a:gdLst/>
            <a:ahLst/>
            <a:rect l="l" t="t" r="r" b="b"/>
            <a:pathLst>
              <a:path w="1776" h="2448">
                <a:moveTo>
                  <a:pt x="0" y="2448"/>
                </a:moveTo>
                <a:lnTo>
                  <a:pt x="48" y="2208"/>
                </a:lnTo>
                <a:lnTo>
                  <a:pt x="96" y="2064"/>
                </a:lnTo>
                <a:lnTo>
                  <a:pt x="96" y="1920"/>
                </a:lnTo>
                <a:lnTo>
                  <a:pt x="144" y="1680"/>
                </a:lnTo>
                <a:lnTo>
                  <a:pt x="144" y="1392"/>
                </a:lnTo>
                <a:lnTo>
                  <a:pt x="144" y="1104"/>
                </a:lnTo>
                <a:lnTo>
                  <a:pt x="240" y="816"/>
                </a:lnTo>
                <a:lnTo>
                  <a:pt x="288" y="576"/>
                </a:lnTo>
                <a:lnTo>
                  <a:pt x="384" y="336"/>
                </a:lnTo>
                <a:lnTo>
                  <a:pt x="528" y="96"/>
                </a:lnTo>
                <a:lnTo>
                  <a:pt x="672" y="96"/>
                </a:lnTo>
                <a:lnTo>
                  <a:pt x="816" y="0"/>
                </a:lnTo>
                <a:lnTo>
                  <a:pt x="1008" y="144"/>
                </a:lnTo>
                <a:lnTo>
                  <a:pt x="1200" y="288"/>
                </a:lnTo>
                <a:lnTo>
                  <a:pt x="1248" y="576"/>
                </a:lnTo>
                <a:lnTo>
                  <a:pt x="1392" y="864"/>
                </a:lnTo>
                <a:lnTo>
                  <a:pt x="1344" y="1200"/>
                </a:lnTo>
                <a:lnTo>
                  <a:pt x="1440" y="1536"/>
                </a:lnTo>
                <a:lnTo>
                  <a:pt x="1584" y="1776"/>
                </a:lnTo>
                <a:lnTo>
                  <a:pt x="1776" y="2208"/>
                </a:lnTo>
                <a:lnTo>
                  <a:pt x="1776" y="2304"/>
                </a:lnTo>
                <a:lnTo>
                  <a:pt x="1776" y="2448"/>
                </a:lnTo>
              </a:path>
            </a:pathLst>
          </a:custGeom>
          <a:solidFill>
            <a:srgbClr val="ff140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3200" y="8380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d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09000" y="83808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idized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2960" y="15228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ZONATION AND HOST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pace-Time zon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0f"/>
                </a:solidFill>
                <a:latin typeface="Times New Roman"/>
              </a:rPr>
              <a:t>Minera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/px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 color +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x color +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l pyroxenoid-vesuvia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00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0f"/>
                </a:solidFill>
                <a:latin typeface="Times New Roman"/>
              </a:rPr>
              <a:t>Metal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ximal: Cu±Mo±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l: Mn-Pb-Zn-Ag-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63880" y="2030400"/>
            <a:ext cx="37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in almost all ska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yrox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hib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rtz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0600" y="2030400"/>
            <a:ext cx="223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last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d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nolit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54920" y="2030400"/>
            <a:ext cx="1697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p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gio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46840" y="365040"/>
            <a:ext cx="61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Mineralogy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4382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re stages in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de stage: scheelite, magnetite (magnesian skarns), sulfides (after scheelit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-&gt; CaW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+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rograde stage: most sulfides, gold and 2nd generation schee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09160" y="1719360"/>
            <a:ext cx="691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(associated with porphyry copper depos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-alka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odiorite to monzogranite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ental mar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ozoic and tertiary western Ame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oniferous arcs in western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land 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rtz diorite to monzo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43040" y="334800"/>
            <a:ext cx="48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opper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4680" y="1523880"/>
            <a:ext cx="8597880" cy="4953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10720" y="244440"/>
            <a:ext cx="598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u skarn zon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ocidos mayormente asociados a cali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eden formarse también cuando las calizas están ausentes, virtualmente en cualquier tipo de roca: arenisca, siltstone, granito, basalto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Características generales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31920" y="127008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221120" y="243000"/>
            <a:ext cx="65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Skarn geotectonic se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Metales extraídos desde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, W, Cu, Zn, Pb, Mo, Ag, Au, Sn ± U, REE, F,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a de las más importantes fuentes de Cu y  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ás importante fuente de W (50% de la producción mund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320" y="380880"/>
            <a:ext cx="8305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Dirección de formación de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15364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ecrystallización metamórfica (isoquímica con pérdida de CO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, H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O, SO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, etc) --&gt; hornfels calco-silica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ifusión de elementos en fluidos estacionarios (gradientes concentración) --&gt; skarn reacción(mm a varios m ancho) con  zonación mineral típ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ipica infiltración fluidos porque los fluidos cargan especies «exóticas» (e.g., Si, Fe) respecto a la litología infiltrada (e.g., limestone) --&gt; skarn infiltración (algunas decenas de metros de anch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80880"/>
            <a:ext cx="82296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Skarnoide</a:t>
            </a:r>
            <a:r>
              <a:rPr b="1" lang="en-US" sz="1600" spc="-1" strike="noStrike">
                <a:solidFill>
                  <a:srgbClr val="ffe957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karnoide resulta del metamorfismo de litologías impuras con algo de transferencia de masa por movimiento de fluidos a pequeña  escala. Los controles para los fluidos metasomáticos son típicamente la litología (grano grueso del skarn) y no reflejan la composición de las rocas circund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8:09:43Z</dcterms:created>
  <dc:creator>Massimo Chiaradia</dc:creator>
  <dc:description/>
  <dc:language>en-US</dc:language>
  <cp:lastModifiedBy>Lissette Wäckerling</cp:lastModifiedBy>
  <dcterms:modified xsi:type="dcterms:W3CDTF">2004-10-04T07:20:18Z</dcterms:modified>
  <cp:revision>185</cp:revision>
  <dc:subject/>
  <dc:title>PowerPoint Presentation</dc:title>
</cp:coreProperties>
</file>