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D24-2F7A-4F22-BA48-872CEBCE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BB9-F16A-4FC4-8D7F-48D8CD7E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B74-AF22-4250-9D75-84C6980B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4DB-58C0-454A-966F-7011D707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DA8-05B2-4E7C-A0ED-2CF85E0A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40B-3FAA-4149-81FB-09F817A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CFE-F26D-4F1D-A5A0-8FA49CB3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3C2-7F40-4CB7-A7B1-4C22651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464-BBAE-4956-9672-9112F003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A4C-3FD0-4887-A6F9-13FDF20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1C5-E18D-4603-B040-18813563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473-9139-4BB8-92CA-2AA9F45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B2A-92CA-4FCB-996E-FE698416099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ansporte de Me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7280" y="1197000"/>
            <a:ext cx="885672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8893080" cy="96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4724280"/>
            <a:ext cx="64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mplejos Clorurados, Complejos Sulf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421000"/>
            <a:ext cx="81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s metales son insolubles como iones simples y consecuentemente son transportados como comple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 debidos a la alteración hidrot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Depositación directa: minerales se depositan directamente a partir de soluciones hidrotermal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emplazo: Minerales de las rocas inestables a ambiente hidrotermal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Lixiviación: Componentes químicos de las roca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Textura cuarzo Oquerosa (Vuggy Silica): condensación vapor acidificado por oxidación de H2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cciones de 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 de feldespatos, micas y arcillas en procesos de alteración hidrotermal es comúnmente controlada por hidról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erales a solucion: K + , Na + , Ca 2+ , y otros catio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+: fases sólidas rema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hidrólisis 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da por un ambiente de creciente acidez (menor 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s en procesos de alteración hidrotermal 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 d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esina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 Na2CaAl4Si8O24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K + = KAl3Si3O10(OH)2 +1.5 Na+ + 0.75 Ca 2+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3Si3O10(OH)2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2CaAl4Si8O24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H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H2O = 2 Al2Si2O5(OH)4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iO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3Si3O10(OH)2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H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SO 2- = KAl3(SO4)2(OH)6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asificación de Alteración Hidrot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 más simpl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utilización del mineral más abundante y más obvio en roca alte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nominación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(Meyer y Hemley, 1967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tásic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teración de plagioclasas y minerales máficos a feldespato potásico y/o biotita. Intercambio catiónico (cambio de base) con la adición de K. Ocurre en condiciones de pH neutro o alcalino a altas temperaturas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teración Tardimagmáti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lítica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pidot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/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lorita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únmente se presentan tambié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bita, calcita y piri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. Bajo grado de hidrólisis de los minerales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ricític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rzo-sericíti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Afecta a ambos feldespatos transformados principalmente 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icita y cuar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, con cantidades menores de caolin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lasificación de Alteración Hidrotermal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(Meyer y Hemley, 1967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gílica Intermedia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mportantes cantidades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olinita, Montmorillonita, smectit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cilla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gílica avanzada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inerales transforma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dickita, caolinita, pirofilita, diásporo,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lunit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y cuarz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Ataque hidrolítico extremo de las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lasificación de Alteración Hidrot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eración tipo skarn:  transformación de rocascarbonatadas (calizas, dolomitas) a minerales calcosilicatados en zonas adyacentes a intrusivos. Presencia de granates (andradita y grosularita), wollastonita, epidota, diópsido, idocrasa, clorita, actinolita. Carbonatos Magnésicos (dolomitas): incluye: forsterita, serpentina, talco,tremolita, clori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alteración tipo greissen caracterizada por la asociación: muscovita, feldespato, cuarzo, topacio y/o turmalina. Se asocia a facies neumatolíticas de rocas graníticas y ocurre a temperaturas mayores a 250°C, generalmente en porciones apicales o cúpulas de batolitos graníticos, donde se atribuye a la acumulación de volátiles provenientes del magma o por incorporación de fluidos provenientes de la deshidratación de rocas intru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352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50840"/>
            <a:ext cx="770580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4356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762120" y="762120"/>
            <a:ext cx="7695720" cy="6095520"/>
            <a:chOff x="762120" y="762120"/>
            <a:chExt cx="7695720" cy="6095520"/>
          </a:xfrm>
        </p:grpSpPr>
        <p:pic>
          <p:nvPicPr>
            <p:cNvPr id="79" name="Copia de fig29_A_B" descr=""/>
            <p:cNvPicPr/>
            <p:nvPr/>
          </p:nvPicPr>
          <p:blipFill>
            <a:blip r:embed="rId1"/>
            <a:srcRect l="0" t="0" r="0" b="8759"/>
            <a:stretch/>
          </p:blipFill>
          <p:spPr>
            <a:xfrm>
              <a:off x="762120" y="762120"/>
              <a:ext cx="7695720" cy="29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Copia de fig29_C_D" descr=""/>
            <p:cNvPicPr/>
            <p:nvPr/>
          </p:nvPicPr>
          <p:blipFill>
            <a:blip r:embed="rId2"/>
            <a:srcRect l="0" t="0" r="0" b="8446"/>
            <a:stretch/>
          </p:blipFill>
          <p:spPr>
            <a:xfrm>
              <a:off x="762120" y="3741840"/>
              <a:ext cx="7695720" cy="31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lteración potá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5311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pia de fig30_A_B" descr=""/>
          <p:cNvPicPr/>
          <p:nvPr/>
        </p:nvPicPr>
        <p:blipFill>
          <a:blip r:embed="rId1"/>
          <a:srcRect l="0" t="0" r="0" b="3279"/>
          <a:stretch/>
        </p:blipFill>
        <p:spPr>
          <a:xfrm>
            <a:off x="52560" y="1905120"/>
            <a:ext cx="8939160" cy="488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lteración fílica o cuarzo-seric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7880" y="1190520"/>
            <a:ext cx="29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Zonación de alt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Bajo de la Alumbr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609480"/>
            <a:ext cx="198108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085760" cy="91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1177920" cy="61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184932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28600" y="5638680"/>
            <a:ext cx="861048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286000" y="0"/>
            <a:ext cx="6553080" cy="586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720" y="40752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bett y Lea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99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tion N°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entes de Fluidos Hidrote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mayoría de depósitos de origen hidrotermal se sabe hoy en día que los fluidos hidrotermales participantes son en su mayoría de origen magmático, y que son los que contienen metales a ser depositados según las condiciones termodinámicas de é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regunta obvia entonces es en que momento y por qué se separa o fracciona una fase hidrotermal de una fase magmática y como y por qué es capaz de secuestrar metales desde el mag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a Ebull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219320"/>
            <a:ext cx="4724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condiciones de alta presión y temperatura, el agua es altamente soluble en un magma, solubilidad que decrece fuertemente con el descenso de pr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gmas máficos son capaces de disolver menor cantidad de agua que los magmas féls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érdida de solubilidad en el  magma y la consecuente exsolución (separación) del agua desde la fase magmática es denominada "primera ebullición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1447920"/>
            <a:ext cx="3457440" cy="4647960"/>
            <a:chOff x="457200" y="1447920"/>
            <a:chExt cx="3457440" cy="46479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345744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57200" y="1447920"/>
              <a:ext cx="3457440" cy="464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nda Ebullición (Ebullición Retrogr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 proceso de exsolución de agua más relevante para la formación de depósitos minerales es la denominada “segunda ebullición", la cual ocurre durante la cristalización de un mag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e denomina segunda ebullición porque ocurre durante enfriamiento del magma que conduce a su crist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proceso será más rápido y violento a mayor velocidad de cristalización/enfr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ase hidrotermal exsuelta está inicialmente en un estado supercrítico a temperaturas magmáticas, pero al enfriarse e intersectar su solvus se separará en una fase vapor y una fase líquida salina (salmuera), con altos contenidos de Na y 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iendo de las condiciones físico-químicas imperantes en el magma en cristalización, los metales como el Cu, Zn, Pb, Au, Ag, etc. tendrán un comportamiento compatible o in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u comportamiento es compatible serán incorporados a la fase cristalina como trazas en minerales formadores de ro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mportan como incompatibles, como ocurre en magmas oxidados, se particionarán a la fase fluida y estarán disponibles para participar en los procesos hidrotermales formadores de depósitos mi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nda Ebullición y Generación de Fluidos Hidrote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ción masiva y violenta de una fase hidrotermal será capaz de secuestrar metales antes de que entren a formar parte de minerales formadores de r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implica que mientras menos cristalizado este un magma antes de que comience cristalización masiva y rápida, mejor probabilidad de extraer altos contenidos de metal ex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vergencia de parámetros geológicos, tectónicos y termodinámicos durante el emplazamiento de magmas será de gran relevancia en la optimización de procesos hidrotermales capaces de secuestrar metales desde un magm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entes de Agua e Hidratación de Magmas Par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2362320"/>
            <a:ext cx="2057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aguas magmáticas de tipo arco en sistemas volcánicos y geote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200" y="1309680"/>
            <a:ext cx="7634160" cy="327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5640" y="4664160"/>
            <a:ext cx="77709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553080" cy="400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65530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33280"/>
            <a:ext cx="861048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olucra presencia de fluidos calientes (endógenos o exóg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 mineralógica: Cambio Textural y/o Quí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de cambio: Temperatura, Metasoma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transformación de fases mine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crecimiento de nuevos minerales, disolución de minerales y/o precip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acciones de intercambio iónico entre los minerales constituyentes de una roca y el fluido caliente que circuló por la mis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277640"/>
            <a:ext cx="845964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 litológic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fluencia en la mineralogía hidrotermal: efecto menor que permeabilidad, temperatura y composición del fl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º y pH del fluid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odos los minerales responden igual ante determinadas condiciones hidrotermales (p.e. El olivino y el Qz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 AH: 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100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ucra circulación de volúmenes relativamente grandes de fluidos calientes atravesando las rocas permeabl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cia de fisuras o poros interconec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id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derablemente fuera de equilibrio termodinámico con las rocas adyacent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ificaciones en la composición mineralógica original de las ro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ERA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s caliente &gt; efecto sobre la mineralogía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OSICIÓN DEL FLUIDO (pH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nor pH, mayor efecto (hidróli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MEABILIDA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luid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acturamiento hidráulico de las roc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MEABILIDAD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URACIÓN Y VARIACIONES INTERACCIÓN AGUA/RO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or volumen circulación aguas calientes y mayor tiemp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ificaciones mineralógicas más 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OSICIÓN DE LA RO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tos minerales tienen susceptibilid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er alterados. Alteraciones intens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eralogía resultante esencialmente independiente del tipo de roca original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literació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textura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 y composición del fluido hidrotermal son los factores más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ación Pervasi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fiere a aquella en que una roca está completamente alterada en todo su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23:36:38Z</dcterms:created>
  <dc:creator>valeria</dc:creator>
  <dc:description/>
  <dc:language>en-US</dc:language>
  <cp:lastModifiedBy>Germán</cp:lastModifiedBy>
  <dcterms:modified xsi:type="dcterms:W3CDTF">2006-03-21T19:00:50Z</dcterms:modified>
  <cp:revision>6</cp:revision>
  <dc:subject/>
  <dc:title>Transporte de Metales</dc:title>
</cp:coreProperties>
</file>