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D5B-B788-49E3-B72D-BC1494E0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220-175C-4E7F-AB26-B7CBF28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B8C4-6AD9-4E38-8EB8-4231CC4C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E7B-A193-4CDF-B9EC-E0E694AB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F3B-50AE-429A-B7F2-E276FEB9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7AD-1F6F-4E9F-8B42-574DB86C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3B0-3564-4F24-941A-FE90BDA3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B42-5275-4B30-85CF-8A0A4217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9DA-0DCE-447E-95DE-4F5B9714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88E-C1E3-499C-BCCF-18AB643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EA4-D150-45A1-BA74-9C12214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11F-0FB8-48FB-8027-F58AA84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CFD0-5ED2-4876-956D-CE0BE5BC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KIMBERL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052720" y="-1328760"/>
            <a:ext cx="13230360" cy="95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nos signific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ov de elementos químicos en migración de solu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crecimiento de mxx más densos productos de metamorf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s signific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toping: xenolitos, asimilación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Doming: levantamiento flexural y fall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Balloning: ascenso forzado y leva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Invasión de magma a zonas con características favorables: z de ciz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164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umna subvertical  de rocas magmáticas intrusiva, comúnmente emplazado en corteza superior frág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una sección transversal elíptica o circular cuyo diámetro es generalmente &lt;1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están unidos a profundidades con diques y sill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32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sencia de deformación de roca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ura y composición mineral indica una sobresaturación del magm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bundancia de xenolitos de la roca de caja en la pip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iatr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pas de brecha: forma de chimenea, aparentemente emplazados a baja temper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a concentración de fragmentos derivados del manto y/o la cortez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sobreyacen un cráter explosivo superficial y con forma de plato llamad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rodeada por una anillo de pirocla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2880" y="306864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rat Shamah, A.Saudita 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7848360" cy="265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06720" y="380844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kja, 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gmas asociados a 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9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260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14320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riginan de magmas alkalinos, magmas kimberlíticos máficos a ultramáficos que son excepcionalmente ricos en H2O y CO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plejidad de las diatremas  y su relación entre el cráter y la “raiz” hace difícil su generaliz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M.W. Skinner 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alisis en diamantes y su ori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ones mine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eridotitico, Eclogitico/Websteritico, ultraprofundo y des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mbientes mantelitos (Litosfera, Astenosfera y posiblemente man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ótopos de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eclogiticos amplio rango d1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peridotiticos ultraprofundo tipico d13C mante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nido de nitrógenos y estados de agregación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os grupos de diamantes: libres de nitrogeno/efecto de nitrogeno y baj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Bajo estado de agregacion de nitrogeno y alt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I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aA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82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20574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84440"/>
          <a:ext cx="4195800" cy="43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84440"/>
                    <a:ext cx="41958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2840" y="5335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668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36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05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8 – 10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africa1" descr=""/>
          <p:cNvPicPr/>
          <p:nvPr/>
        </p:nvPicPr>
        <p:blipFill>
          <a:blip r:embed="rId1"/>
          <a:stretch/>
        </p:blipFill>
        <p:spPr>
          <a:xfrm>
            <a:off x="4653000" y="1808280"/>
            <a:ext cx="40338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ximo productor entre los siglos XVIII y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.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nico productor de diamantes hasta mediados del siglo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21 mill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20 m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india1" descr=""/>
          <p:cNvPicPr/>
          <p:nvPr/>
        </p:nvPicPr>
        <p:blipFill>
          <a:blip r:embed="rId1"/>
          <a:stretch/>
        </p:blipFill>
        <p:spPr>
          <a:xfrm>
            <a:off x="5176800" y="1600200"/>
            <a:ext cx="298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xisten tres “familias” de rocas relacionadas con los Diam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angitas, Lamproitas y Kimberli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stas rocas se las llama por Clan, pues no están encasilladas química, mineralógica ni textur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s Lamproitas, Orangitas y Kimberlitas no contiene Plg ni nefelina, subsaturadas en Si, bajas en Al2O3 y enriquecidas en elementos incompati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 El diamante no es un mineral índice, solo esta presente a veces y en concentraciones mín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U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ladimir Sobol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332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0 – 12,5 mill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8russia1" descr=""/>
          <p:cNvPicPr/>
          <p:nvPr/>
        </p:nvPicPr>
        <p:blipFill>
          <a:blip r:embed="rId1"/>
          <a:stretch/>
        </p:blipFill>
        <p:spPr>
          <a:xfrm>
            <a:off x="5094360" y="1600200"/>
            <a:ext cx="315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ás prolifico productor de diam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428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35 – 4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EUU: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kansas y Col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ADA: Últimos descubr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318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668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ig09-38" descr=""/>
          <p:cNvPicPr/>
          <p:nvPr/>
        </p:nvPicPr>
        <p:blipFill>
          <a:blip r:embed="rId2"/>
          <a:stretch/>
        </p:blipFill>
        <p:spPr>
          <a:xfrm>
            <a:off x="4653000" y="1789200"/>
            <a:ext cx="4033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8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inga21" descr=""/>
          <p:cNvPicPr/>
          <p:nvPr/>
        </p:nvPicPr>
        <p:blipFill>
          <a:blip r:embed="rId1"/>
          <a:stretch/>
        </p:blipFill>
        <p:spPr>
          <a:xfrm>
            <a:off x="4653000" y="1724040"/>
            <a:ext cx="4033800" cy="4276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0% uso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xima dureza: cortar, triturar y pu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o condición de maquinaria existe desgaste por aumento de temperatura; fie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a crear grandes presió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traordinaria conductividad 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a fricción super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arencia óp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796 Diamante=Carb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&gt;150 años para método, Suizos y 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5000 atm y 14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6880" y="1600200"/>
            <a:ext cx="375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$$$$$ PRECIO $$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rolada por consorcio internacional, DE BEERS, 80% de calidad g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or, peso, pureza, calidad de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5 mi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7mil d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3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6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 DIAM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; transacción ilicita y conflicto a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rupos armados; UNITA, R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rigen en areas controladas por fuerzas opuestas al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do de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-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396216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828800"/>
                    <a:ext cx="3962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lan de Lamproit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Ubicadas al interior de placas tectónicamente est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Ocurren en forma de pipas llegan a la superficie en forma de un cráter subcir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Comparadas frente a las Orangitas y Kimberlitas, son relativamente ricas en SiO2, TiO2 y Ba; pobres en CO2 (&lt; 0,5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Son rocas ultra potásicas (K2O/Na2O &gt;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AS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530,2 ktes tallado en pera, en bruto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3,106 ktes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D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e él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,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mas de 100 diamantes de tamaño inferior. Se encuentra en la Torre de Londres entre las Joyas de la Cor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 II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317,4 ktes, el Gran Mogol de 280, el Nizam de 277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Hay que tener en cuenta que antes de tallados su volumen era much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PLAUSOS, POR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5768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2138400"/>
          <a:ext cx="7772400" cy="38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8400"/>
                    <a:ext cx="77724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lan de Orangitas y Kimberlitas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e emplazan como brechas en forma de zanah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on ricas en CO2 + H2O &gt;1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gran diferencia química entre Orangitas y Kimberlitas es la gran razón de K2O/TiO2 en la primera. Y también en la relación Sr-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verdadera composición de estos magmas es incierta debido a la diferenciación y alteración de estos, además de la contaminación por xenolitos y xeno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4530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Kimberlitas y Orangitas, ocurren solo en cratones del Arqueano (&gt;2,5 Ga), mientras que las Kimberlitas estériles están en terrenos periféricos sujetos al tectonismo post-arque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Lamproitas se encuentran en cratones del Arqueano y del Proterozo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as inclusiones que poseen los diamantes pueden entregar info acerca tanto de su origen como del tect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í se conoce que los diamantes cristaliz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y se mantienen guardados en la bas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atones a profundidades entre los 120-200 Km y a temperaturas 1200 -1500°C. Así despué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r Stand-by en un manto no convectivo, los diamantes son atrapados y ascendidos por un magma bastante más joven y sin una relación genética comú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 las rocas donde estos estaban alojados ahora pasan a ser xenolitos de peridotita y eclogita princip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-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El patrón tanto de las Lamproitas como de las Kimberlitas es similar al de los OIB, pero bastante más rico en elementos incompatibles, lo que sugiere derivació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 Fuente de OIB fundido en menor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27:33Z</dcterms:created>
  <dc:creator>Walter</dc:creator>
  <dc:description/>
  <dc:language>en-US</dc:language>
  <cp:lastModifiedBy>Walter</cp:lastModifiedBy>
  <dcterms:modified xsi:type="dcterms:W3CDTF">2006-06-13T22:09:33Z</dcterms:modified>
  <cp:revision>16</cp:revision>
  <dc:subject/>
  <dc:title>Magmas asociados a Diamantes</dc:title>
</cp:coreProperties>
</file>