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0DD-C21F-4DF2-A177-5BDBFFCC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E1D-0C56-4FB7-B540-593652C4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2B9-12B3-4773-B4A8-39B66F44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79B-D946-4525-983A-C4180829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B5E-F185-4DD8-A34E-60B258E2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C6F-C0B8-4680-8FCD-E11C7BE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112-8C46-42FA-AC36-F0A0F757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969-12FC-4F7D-BEF0-824A882E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D4D-0389-48F5-BF9E-CD7829B5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084-739C-49BE-AEE9-EEE0119B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996-3EA5-4EFC-B04D-4565AC51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050-C080-4610-860A-E726E8DC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C897-5630-4E40-AF09-D82F8B3A2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KIMBERLI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2052720" y="-1328760"/>
            <a:ext cx="13230360" cy="95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69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Procesos de emplazamiento y</a:t>
            </a:r>
            <a:br>
              <a:rPr sz="4000"/>
            </a:b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nos signific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mov de elementos químicos en migración de solu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crecimiento de mxx más densos productos de metamorf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Procesos de emplazamiento y</a:t>
            </a:r>
            <a:br>
              <a:rPr sz="4000"/>
            </a:b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ás signific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Stoping: xenolitos, asimilación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Doming: levantamiento flexural y fall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Balloning: ascenso forzado y levant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Invasión de magma a zonas con características favorables: z de ciza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Procesos de emplazamiento y</a:t>
            </a:r>
            <a:br>
              <a:rPr sz="4000"/>
            </a:b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164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Brech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lumna subvertical  de rocas magmáticas intrusiva, comúnmente emplazado en corteza superior frág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n una sección transversal elíptica o circular cuyo diámetro es generalmente &lt;1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están unidos a profundidades con diques y sill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Brech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32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00000"/>
                </a:solidFill>
                <a:uFillTx/>
                <a:latin typeface="Arial"/>
              </a:rPr>
              <a:t>Característic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sencia de deformación de roca de c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xtura y composición mineral indica una sobresaturación del magm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bundancia de xenolitos de la roca de caja en la pip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Diatr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pas de brecha: forma de chimenea, aparentemente emplazados a baja tempera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ta concentración de fragmentos derivados del manto y/o la cortez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sobreyacen un cráter explosivo superficial y con forma de plato llamad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rodeada por una anillo de piroclas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302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2880" y="306864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ar,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rrat Shamah, A.Saudita N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7848360" cy="2659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06720" y="3808440"/>
            <a:ext cx="22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ar,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kja, Ic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gmas asociados a Diam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0908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76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16360" y="26028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14320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riginan de magmas alkalinos, magmas kimberlíticos máficos a ultramáficos que son excepcionalmente ricos en H2O y CO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mplejidad de las diatremas  y su relación entre el cráter y la “raiz” hace difícil su generaliz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.M.W. Skinner (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ipa cl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ipa cl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ipa cl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alisis en diamantes y su ori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ones miner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eridotitico, Eclogitico/Websteritico, ultraprofundo y desconoc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Ambientes mantelitos (Litosfera, Astenosfera y posiblemente manto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sótopos de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iamantes eclogiticos amplio rango d1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iamantes peridotiticos ultraprofundo tipico d13C mantel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enido de nitrógenos y estados de agregación de nit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os grupos de diamantes: libres de nitrogeno/efecto de nitrogeno y bajo contenido de nit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Bajo estado de agregacion de nitrogeno y alto contenido de nitro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c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Tipo II y Tipo I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Tipo IaA y Tipo I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AM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776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4820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48320" y="2057400"/>
          <a:ext cx="38098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38098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98160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84440"/>
          <a:ext cx="4195800" cy="43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84440"/>
                    <a:ext cx="419580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chart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6858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2840" y="5335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6688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772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36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09480"/>
                    <a:ext cx="7772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D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505 millones de qui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8 – 10 millones de qui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640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africa1" descr=""/>
          <p:cNvPicPr/>
          <p:nvPr/>
        </p:nvPicPr>
        <p:blipFill>
          <a:blip r:embed="rId1"/>
          <a:stretch/>
        </p:blipFill>
        <p:spPr>
          <a:xfrm>
            <a:off x="4653000" y="1808280"/>
            <a:ext cx="40338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ximo productor entre los siglos XVIII y X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55 mil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1.5 mil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nico productor de diamantes hasta mediados del siglo 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21 mill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20 m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2india1" descr=""/>
          <p:cNvPicPr/>
          <p:nvPr/>
        </p:nvPicPr>
        <p:blipFill>
          <a:blip r:embed="rId1"/>
          <a:stretch/>
        </p:blipFill>
        <p:spPr>
          <a:xfrm>
            <a:off x="5176800" y="1600200"/>
            <a:ext cx="298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0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Existen tres “familias” de rocas relacionadas con los Diam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angitas, Lamproitas y Kimberli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Estas rocas se las llama por Clan, pues no están encasilladas química, mineralógica ni textur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as Lamproitas, Orangitas y Kimberlitas no contiene Plg ni nefelina, subsaturadas en Si, bajas en Al2O3 y enriquecidas en elementos incompati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 El diamante no es un mineral índice, solo esta presente a veces y en concentraciones mín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U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ladimir Sobol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332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10 – 12,5 mill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8russia1" descr=""/>
          <p:cNvPicPr/>
          <p:nvPr/>
        </p:nvPicPr>
        <p:blipFill>
          <a:blip r:embed="rId1"/>
          <a:stretch/>
        </p:blipFill>
        <p:spPr>
          <a:xfrm>
            <a:off x="5094360" y="1600200"/>
            <a:ext cx="3151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ás prolifico productor de diama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Total: 428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ción Anual: 35 – 4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EUU: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kansas y Col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ADA: Últimos descubr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31880"/>
            <a:ext cx="4033800" cy="446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6688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fig09-38" descr=""/>
          <p:cNvPicPr/>
          <p:nvPr/>
        </p:nvPicPr>
        <p:blipFill>
          <a:blip r:embed="rId2"/>
          <a:stretch/>
        </p:blipFill>
        <p:spPr>
          <a:xfrm>
            <a:off x="4653000" y="1789200"/>
            <a:ext cx="403380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85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inga21" descr=""/>
          <p:cNvPicPr/>
          <p:nvPr/>
        </p:nvPicPr>
        <p:blipFill>
          <a:blip r:embed="rId1"/>
          <a:stretch/>
        </p:blipFill>
        <p:spPr>
          <a:xfrm>
            <a:off x="4653000" y="1724040"/>
            <a:ext cx="4033800" cy="4276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768320"/>
            <a:ext cx="403380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80% uso 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áxima dureza: cortar, triturar y pu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ajo condición de maquinaria existe desgaste por aumento de temperatura; fier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a crear grandes presió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traordinaria conductividad t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aja fricción super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arencia óp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RTIF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796 Diamante=Carb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&gt;150 años para método, Suizos y EE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55000 atm y 1400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6880" y="1600200"/>
            <a:ext cx="3754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$$$$$ PRECIO $$$$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trolada por consorcio internacional, DE BEERS, 80% de calidad g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lor, peso, pureza, calidad de t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5 mil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7mil do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 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1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 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7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 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2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 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 k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30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 -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6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FLICT DIAM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768320"/>
          <a:ext cx="403380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8320"/>
                    <a:ext cx="403380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; transacción ilicita y conflicto arm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rupos armados; UNITA, R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rigen en areas controladas por fuerzas opuestas al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rtificado de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-7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396216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828800"/>
                    <a:ext cx="39621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lan de Lamproit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Ubicadas al interior de placas tectónicamente est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Ocurren en forma de pipas llegan a la superficie en forma de un cráter subcir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Comparadas frente a las Orangitas y Kimberlitas, son relativamente ricas en SiO2, TiO2 y Ba; pobres en CO2 (&lt; 0,5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Son rocas ultra potásicas (K2O/Na2O &gt;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AS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Cullinan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: 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530,2 ktes tallado en pera, en bruto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3,106 ktes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. D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e él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, 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mas de 100 diamantes de tamaño inferior. Se encuentra en la Torre de Londres entre las Joyas de la Cor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Cullinan II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:</a:t>
            </a: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 317,4 ktes, el Gran Mogol de 280, el Nizam de 277</a:t>
            </a:r>
            <a:r>
              <a:rPr b="1" lang="es-MX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33"/>
                </a:solidFill>
                <a:latin typeface="Arial"/>
                <a:ea typeface="Times New Roman"/>
              </a:rPr>
              <a:t>Hay que tener en cuenta que antes de tallados su volumen era mucho ma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PLAUSOS, PORFAV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768320"/>
          <a:ext cx="403380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8320"/>
                    <a:ext cx="403380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5768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2138400"/>
          <a:ext cx="7772400" cy="38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138400"/>
                    <a:ext cx="777240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lan de Orangitas y Kimberlitas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Se emplazan como brechas en forma de zanah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Son ricas en CO2 + H2O &gt;1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a gran diferencia química entre Orangitas y Kimberlitas es la gran razón de K2O/TiO2 en la primera. Y también en la relación Sr-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a verdadera composición de estos magmas es incierta debido a la diferenciación y alteración de estos, además de la contaminación por xenolitos y xenocris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45306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Los Diamantes que se encuentran en las Kimberlitas y Orangitas, ocurren solo en cratones del Arqueano (&gt;2,5 Ga), mientras que las Kimberlitas estériles están en terrenos periféricos sujetos al tectonismo post-arque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Los Diamantes que se encuentran en las Lamproitas se encuentran en cratones del Arqueano y del Proterozo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Las inclusiones que poseen los diamantes pueden entregar info acerca tanto de su origen como del tecto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sí se conoce que los diamantes cristaliz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y se mantienen guardados en la base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atones a profundidades entre los 120-200 Km y a temperaturas 1200 -1500°C. Así despué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ar Stand-by en un manto no convectivo, los diamantes son atrapados y ascendidos por un magma bastante más joven y sin una relación genética comú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onces las rocas donde estos estaban alojados ahora pasan a ser xenolitos de peridotita y eclogita princip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-Or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-El patrón tanto de las Lamproitas como de las Kimberlitas es similar al de los OIB, pero bastante más rico en elementos incompatibles, lo que sugiere derivació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- Fuente de OIB fundido en menor 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9:27:33Z</dcterms:created>
  <dc:creator>Walter</dc:creator>
  <dc:description/>
  <dc:language>en-US</dc:language>
  <cp:lastModifiedBy>Walter</cp:lastModifiedBy>
  <dcterms:modified xsi:type="dcterms:W3CDTF">2006-06-13T22:09:33Z</dcterms:modified>
  <cp:revision>16</cp:revision>
  <dc:subject/>
  <dc:title>Magmas asociados a Diamantes</dc:title>
</cp:coreProperties>
</file>