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BFE3A-FEE7-4113-AE71-2056FBE45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F8422-3C00-41C0-9976-764CDE260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33104-2E85-41FC-B269-BF176EE1B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D327D-FB6B-4AA5-94E1-B08547996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6D94A-7B44-4487-92BB-2EE436315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C039D-9946-4E1B-9F24-430182545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A133F-F8CD-42A9-BEA5-4224E9925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BF809-AFF1-47D3-B557-5A8BF6FB6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B8158-E7DF-420C-AE49-89DDBFB0E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41F9E-1046-4CB6-9E39-3D5103763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0156E-2350-4633-B15A-35CB7DD5F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1E5A6-166E-4DA8-8D4C-0583D666B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672C1-6BC5-42ED-8C65-3BD7100E6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89ABE-33DE-498E-9FBF-8E394C8F2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44B75-43FA-4A5E-98C3-BDCDE9736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2E225-49DF-498C-B16E-EC9F1F34F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68120-141A-42D5-A60A-B78478332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CAB3B-CBC9-45B1-9B03-CF2F374E7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F7D66-1E0F-4A16-ADEC-8C060496C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4B171-CB62-4D03-98F2-A1A3E8CF9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36D16-39D8-44CD-B6FD-566E659FE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F0EE1-DE0E-47A1-8753-6BD339080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4098D-4561-40CC-B5A0-9067393AD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B6469-445C-42A1-91DC-815BD7DE9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8C3CD-C7AF-4476-BB25-2CDFEABCFEC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ED380-3C2C-4855-A2A0-BC13BD0844E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0" y="0"/>
            <a:ext cx="9144000" cy="6915240"/>
            <a:chOff x="0" y="0"/>
            <a:chExt cx="9144000" cy="6915240"/>
          </a:xfrm>
        </p:grpSpPr>
        <p:pic>
          <p:nvPicPr>
            <p:cNvPr id="85" name="" descr=""/>
            <p:cNvPicPr/>
            <p:nvPr/>
          </p:nvPicPr>
          <p:blipFill>
            <a:blip r:embed="rId2">
              <a:lum bright="-40000"/>
            </a:blip>
            <a:srcRect l="0" t="0" r="0" b="50004"/>
            <a:stretch/>
          </p:blipFill>
          <p:spPr>
            <a:xfrm>
              <a:off x="0" y="0"/>
              <a:ext cx="9144000" cy="342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" descr=""/>
            <p:cNvPicPr/>
            <p:nvPr/>
          </p:nvPicPr>
          <p:blipFill>
            <a:blip r:embed="rId3"/>
            <a:stretch/>
          </p:blipFill>
          <p:spPr>
            <a:xfrm>
              <a:off x="0" y="3429000"/>
              <a:ext cx="4495680" cy="342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" name="" descr=""/>
            <p:cNvPicPr/>
            <p:nvPr/>
          </p:nvPicPr>
          <p:blipFill>
            <a:blip r:embed="rId4"/>
            <a:stretch/>
          </p:blipFill>
          <p:spPr>
            <a:xfrm>
              <a:off x="4495680" y="3429000"/>
              <a:ext cx="4648320" cy="3486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8" name=""/>
          <p:cNvSpPr/>
          <p:nvPr/>
        </p:nvSpPr>
        <p:spPr>
          <a:xfrm>
            <a:off x="1476360" y="1341360"/>
            <a:ext cx="6840720" cy="475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500" spc="-1" strike="noStrike">
                <a:solidFill>
                  <a:srgbClr val="ffcc00"/>
                </a:solidFill>
                <a:latin typeface="Arial"/>
              </a:rPr>
              <a:t>Métodos de Explotación Subterráneos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</a:rPr>
              <a:t>Luis Castill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</a:rPr>
              <a:t>Alvaro De la Quinta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</a:rPr>
              <a:t>Patricio Prie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</a:rPr>
              <a:t>Alfredo River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1523880" y="274680"/>
            <a:ext cx="716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e5ffff"/>
                </a:solidFill>
                <a:latin typeface="Tahoma"/>
              </a:rPr>
              <a:t>Longhole and Sublevel Open Stop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3665520" cy="426744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7680" y="1600200"/>
            <a:ext cx="27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Longhole Open Stop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104800" y="1600200"/>
            <a:ext cx="268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Sublevel Open Stop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4995720" y="1989000"/>
            <a:ext cx="3686400" cy="42483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523880" y="274680"/>
            <a:ext cx="716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e5ffff"/>
                </a:solidFill>
                <a:latin typeface="Tahoma"/>
              </a:rPr>
              <a:t>Longhole and Sublevel Open Stop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57200" y="1600200"/>
            <a:ext cx="82296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ahoma"/>
              </a:rPr>
              <a:t>El cuerpo mineralizado es dividido en diferentes caserones separados por losas y mur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ahoma"/>
              </a:rPr>
              <a:t>La productividad del caserón es proporcional a su tamañ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ahoma"/>
              </a:rPr>
              <a:t>La estabilidad y dilución de un caserón es inversamente proporcional a su tamañ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ahoma"/>
              </a:rPr>
              <a:t>Se utiliza open stoping en las siguientes condiciones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Tahoma"/>
              </a:rPr>
              <a:t>La inclinación del cuerpo mineralizado excede el ángulo de reposo del miner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Tahoma"/>
              </a:rPr>
              <a:t>Roca de caja y mineral competente (2B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Tahoma"/>
              </a:rPr>
              <a:t>Cuerpo mineralizado de paredes regular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ahoma"/>
              </a:rPr>
              <a:t>El método de longhole open stoping posee una mayor productividad pudiendo lograrse subniveles de perforación en el intervalo 60-100m con martillos ITH de 140 -165mm de diámetr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ahoma"/>
              </a:rPr>
              <a:t>Longhole open stoping requiere una mayor regularidad que el sub level stopin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ahoma"/>
              </a:rPr>
              <a:t>Actualmente se prefiere operar con el equipo de carguío en la zanja de producción las estocadas de carguío y puntos de extracción.  Esta variante se debe operar con equipo telecomandad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ahoma"/>
              </a:rPr>
              <a:t>Baja dilución, menor a 8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ahoma"/>
              </a:rPr>
              <a:t>Baja recuperación menor a 75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ahoma"/>
              </a:rPr>
              <a:t>Costo 12-25 $/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ahoma"/>
              </a:rPr>
              <a:t>En algunos casos se deben rellenar los caserones luego de extraído el minera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2">
            <a:lum bright="-10000"/>
          </a:blip>
          <a:stretch/>
        </p:blipFill>
        <p:spPr>
          <a:xfrm>
            <a:off x="4724280" y="1752480"/>
            <a:ext cx="4419720" cy="421344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1523880" y="274680"/>
            <a:ext cx="716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ut and Fill Min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57200" y="1600200"/>
            <a:ext cx="403848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ahoma"/>
              </a:rPr>
              <a:t>Cuerpos mineralizados con orientación vertical y potencias de 3 a 10 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ahoma"/>
              </a:rPr>
              <a:t>La roca de caja es generalmente de baja competencia (4A) y la roca mineral de baja a media (3B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ahoma"/>
              </a:rPr>
              <a:t>Se realiza por subniveles de manera ascendent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ahoma"/>
              </a:rPr>
              <a:t>Los caserones en explotación se pueden separar por muros y losas de modo de aumentar la estabilidad del sistema miner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ahoma"/>
              </a:rPr>
              <a:t>Rellenos: hidráulicos colas de relave, material estéril, ambos más cemento, et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ahoma"/>
              </a:rPr>
              <a:t>Método altamente selectivo, por lo tanto permite explotar cuerpos de baja regularidad y continuidad espacia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ahoma"/>
              </a:rPr>
              <a:t>Baja dilución menor a 2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ahoma"/>
              </a:rPr>
              <a:t>Alta recuperación mayor a 90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ahoma"/>
              </a:rPr>
              <a:t>Alto costo de producción 40-150 $/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ahoma"/>
              </a:rPr>
              <a:t>Baja productividad 200 a 4500 tp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523880" y="274680"/>
            <a:ext cx="716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e5ffff"/>
                </a:solidFill>
                <a:latin typeface="Tahoma"/>
              </a:rPr>
              <a:t>Post Room and Pilar Min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57200" y="1600200"/>
            <a:ext cx="403848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Variación del método de Room and Pil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Cuerpos con potencias mayores a 30m e inclinados (menor a 20 grado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Comienza en la parte inferior del cuerpo mineralizado y se extiende en la vertical por sub-nive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Una vez realizada la perforación, tronadura, carguío y transporte del mineral se procede a rellenar el caserón típicamente con colas de relaves mezcladas con cement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El relleno aumenta el confinamiento permitiendo diseñar con un menor factor de seguridad y por lo tanto maximizando la recuperac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4572000" y="1498680"/>
            <a:ext cx="4410000" cy="31845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1523880" y="274680"/>
            <a:ext cx="716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Vertical Crater Retreat con Relleno VC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rcRect l="0" t="272" r="0" b="0"/>
          <a:stretch/>
        </p:blipFill>
        <p:spPr>
          <a:xfrm>
            <a:off x="533520" y="2057400"/>
            <a:ext cx="3835440" cy="397368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3"/>
          <a:srcRect l="0" t="0" r="0" b="259"/>
          <a:stretch/>
        </p:blipFill>
        <p:spPr>
          <a:xfrm>
            <a:off x="5105520" y="1981080"/>
            <a:ext cx="3563640" cy="388620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748440" y="1712880"/>
            <a:ext cx="269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VCR Caserón Primario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336280" y="1600200"/>
            <a:ext cx="294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VCR Caserón Secundari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1523880" y="274680"/>
            <a:ext cx="716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Vertical Crater Retreat VCR con Rellen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57200" y="1600200"/>
            <a:ext cx="82296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Se utiliza en cuerpos mineralizados de baja a mediana potencia y en rocas de mediana competencia (3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Se utiliza la técnica de cargas controladas en que el largo de la carga explosiva es menor a 6 veces el diámetro de perforación. Carga esféric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Este sistema de explotación requiere la construcción de estocadas y puntos de extracc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La secuencia de construcción es la siguien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ahoma"/>
              </a:rPr>
              <a:t>Nivel de transport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ahoma"/>
              </a:rPr>
              <a:t>Arreglo de galerias de producció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ahoma"/>
              </a:rPr>
              <a:t>Corte basa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ahoma"/>
              </a:rPr>
              <a:t>Nivel de perforació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ahoma"/>
              </a:rPr>
              <a:t>Perforación de tiros largos menor a 40 m en caso VC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Los disparos generan cortes de hasta 3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Costo 15-45 $/t dependiendo si se rellena o n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Dilución 1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Recuperación menor a 8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826920" y="260280"/>
            <a:ext cx="716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ublevel Cav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57200" y="1600200"/>
            <a:ext cx="403848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ahoma"/>
              </a:rPr>
              <a:t>Se utiliza en cuerpos mineralizados con orientación vertical y alta potencia mayor a 40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ahoma"/>
              </a:rPr>
              <a:t>La roca de caja es de baja competencia y la roca mineral competente a median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ahoma"/>
              </a:rPr>
              <a:t>Se explota por subniveles donde se realizan en ciclo las operaciones unitarias de perforación, tronadura, carguío y transport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ahoma"/>
              </a:rPr>
              <a:t>Consiste en hundir la roca de caja y la pared colgante de esta manera el mineral queda en contacto con el estéril facilitando el acceso de LHDs a través de las galerías de producció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ahoma"/>
              </a:rPr>
              <a:t>Productividad 4000 a 20000 tp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ahoma"/>
              </a:rPr>
              <a:t>Costo 7-12 $/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ahoma"/>
              </a:rPr>
              <a:t>Dilución es alta hasta un 15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ahoma"/>
              </a:rPr>
              <a:t>Recuperación 75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4397400" y="1484280"/>
            <a:ext cx="4746600" cy="4896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1523880" y="274680"/>
            <a:ext cx="716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Block Cav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" y="1600200"/>
            <a:ext cx="403848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ahoma"/>
              </a:rPr>
              <a:t>Cuerpos masivos con una proyección en planta suficiente para inducir el hundimiento de la roc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ahoma"/>
              </a:rPr>
              <a:t>La roca mineralizada a hundir debe ser medianamente competente 3A-4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ahoma"/>
              </a:rPr>
              <a:t>La roca estéril de techo debe ser hundibl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ahoma"/>
              </a:rPr>
              <a:t>La roca de caja puede ser competente como en el caso de pipas diamantifera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ahoma"/>
              </a:rPr>
              <a:t>Se induce el hundimiento de la roca a través del corte basal 4-12 m. El hundimiento se propaga en la medida que la roca es extraída del hundimiento utilizando la infraestructura de producció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ahoma"/>
              </a:rPr>
              <a:t>Productividad 12000 a 48000 tp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ahoma"/>
              </a:rPr>
              <a:t>Dilución 20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ahoma"/>
              </a:rPr>
              <a:t>Recuperación 75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ahoma"/>
              </a:rPr>
              <a:t>Costo 2.1-5$/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4572000" y="1844640"/>
            <a:ext cx="4475160" cy="3625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Familia Boomer"/>
          <p:cNvPicPr/>
          <p:nvPr/>
        </p:nvPicPr>
        <p:blipFill>
          <a:blip r:embed="rId2"/>
          <a:stretch/>
        </p:blipFill>
        <p:spPr>
          <a:xfrm>
            <a:off x="1403280" y="2492280"/>
            <a:ext cx="6424560" cy="31147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55640" y="549360"/>
            <a:ext cx="7705800" cy="143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Equipos de Perforación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Jumbo de Avance (tiros frontales)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Familia Simba"/>
          <p:cNvPicPr/>
          <p:nvPr/>
        </p:nvPicPr>
        <p:blipFill>
          <a:blip r:embed="rId2"/>
          <a:stretch/>
        </p:blipFill>
        <p:spPr>
          <a:xfrm>
            <a:off x="1979640" y="2760840"/>
            <a:ext cx="5057640" cy="29718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900000" y="549360"/>
            <a:ext cx="7559640" cy="143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500" spc="-1" strike="noStrike">
                <a:solidFill>
                  <a:srgbClr val="ffffff"/>
                </a:solidFill>
                <a:latin typeface="Arial"/>
              </a:rPr>
              <a:t>Equipos de Perforación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500" spc="-1" strike="noStrike">
                <a:solidFill>
                  <a:srgbClr val="ffffff"/>
                </a:solidFill>
                <a:latin typeface="Arial"/>
              </a:rPr>
              <a:t>Equipo Simba (Tiros Radiales)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Carguío y Transporte de Materiales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4" name="" descr="Equipo Wagner"/>
          <p:cNvPicPr/>
          <p:nvPr/>
        </p:nvPicPr>
        <p:blipFill>
          <a:blip r:embed="rId2"/>
          <a:stretch/>
        </p:blipFill>
        <p:spPr>
          <a:xfrm>
            <a:off x="901800" y="3186000"/>
            <a:ext cx="7448400" cy="23432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1619280" y="1844640"/>
            <a:ext cx="5761080" cy="460872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611280" y="189000"/>
            <a:ext cx="7704000" cy="143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500" spc="-1" strike="noStrike">
                <a:solidFill>
                  <a:srgbClr val="ffffff"/>
                </a:solidFill>
                <a:latin typeface="Arial"/>
              </a:rPr>
              <a:t>Equipo de Carguio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500" spc="-1" strike="noStrike">
                <a:solidFill>
                  <a:srgbClr val="ffffff"/>
                </a:solidFill>
                <a:latin typeface="Arial"/>
              </a:rPr>
              <a:t>LHD (Load, Haul, Dump)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Equipo Transporte</a:t>
            </a: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Camión Bajo Perfil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1703520" y="1981080"/>
            <a:ext cx="5736960" cy="41148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2138400" y="395280"/>
            <a:ext cx="4867200" cy="60674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3" name=""/>
          <p:cNvSpPr/>
          <p:nvPr/>
        </p:nvSpPr>
        <p:spPr>
          <a:xfrm>
            <a:off x="2514600" y="304920"/>
            <a:ext cx="4267080" cy="83808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e5ffff"/>
                </a:solidFill>
                <a:latin typeface="Tahoma"/>
              </a:rPr>
              <a:t>Métodos de Explotación Subterráneo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33520" y="1371600"/>
            <a:ext cx="2209680" cy="1143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Soporta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Por Pilar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352680" y="1371600"/>
            <a:ext cx="2210040" cy="1143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Artificialment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Soportado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con Rellen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400800" y="1371600"/>
            <a:ext cx="2209680" cy="1143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Sin soporte o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Hundimien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52280" y="3276720"/>
            <a:ext cx="1371600" cy="76176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Arial"/>
              </a:rPr>
              <a:t>Room and Pila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828800" y="3276720"/>
            <a:ext cx="1371600" cy="76176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Arial"/>
              </a:rPr>
              <a:t>Sublevel and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Arial"/>
              </a:rPr>
              <a:t>Longhol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CL" sz="1400" spc="-1" strike="noStrike">
                <a:solidFill>
                  <a:srgbClr val="ffffff"/>
                </a:solidFill>
                <a:latin typeface="Arial"/>
              </a:rPr>
              <a:t>stopi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47920" y="4952880"/>
            <a:ext cx="1371600" cy="533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Arial"/>
              </a:rPr>
              <a:t>Bench and Fil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Arial"/>
              </a:rPr>
              <a:t>stopi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10" name=""/>
          <p:cNvCxnSpPr>
            <a:stCxn id="104" idx="2"/>
            <a:endCxn id="107" idx="0"/>
          </p:cNvCxnSpPr>
          <p:nvPr/>
        </p:nvCxnSpPr>
        <p:spPr>
          <a:xfrm rot="5400000">
            <a:off x="856440" y="2495160"/>
            <a:ext cx="762840" cy="801000"/>
          </a:xfrm>
          <a:prstGeom prst="bentConnector3">
            <a:avLst>
              <a:gd name="adj1" fmla="val 50000"/>
            </a:avLst>
          </a:prstGeom>
          <a:ln w="57240">
            <a:solidFill>
              <a:srgbClr val="003366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4" idx="2"/>
            <a:endCxn id="108" idx="0"/>
          </p:cNvCxnSpPr>
          <p:nvPr/>
        </p:nvCxnSpPr>
        <p:spPr>
          <a:xfrm flipH="1" rot="16200000">
            <a:off x="1695240" y="2457000"/>
            <a:ext cx="762840" cy="876960"/>
          </a:xfrm>
          <a:prstGeom prst="bentConnector3">
            <a:avLst>
              <a:gd name="adj1" fmla="val 50000"/>
            </a:avLst>
          </a:prstGeom>
          <a:ln w="57240">
            <a:solidFill>
              <a:srgbClr val="003366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2"/>
            <a:endCxn id="109" idx="0"/>
          </p:cNvCxnSpPr>
          <p:nvPr/>
        </p:nvCxnSpPr>
        <p:spPr>
          <a:xfrm rot="5400000">
            <a:off x="2076120" y="2571480"/>
            <a:ext cx="2439000" cy="2324880"/>
          </a:xfrm>
          <a:prstGeom prst="bentConnector3">
            <a:avLst>
              <a:gd name="adj1" fmla="val 80454"/>
            </a:avLst>
          </a:prstGeom>
          <a:ln w="57240">
            <a:solidFill>
              <a:srgbClr val="003366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124080" y="4952880"/>
            <a:ext cx="1371600" cy="5335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Arial"/>
              </a:rPr>
              <a:t>Cut and Fill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Arial"/>
              </a:rPr>
              <a:t>Stopi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610160" y="4952880"/>
            <a:ext cx="1371600" cy="533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Arial"/>
              </a:rPr>
              <a:t>Shrinkage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Arial"/>
              </a:rPr>
              <a:t>Stopi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172200" y="4952880"/>
            <a:ext cx="1371600" cy="5335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Arial"/>
              </a:rPr>
              <a:t>VC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Arial"/>
              </a:rPr>
              <a:t>Stopi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05" idx="2"/>
            <a:endCxn id="113" idx="0"/>
          </p:cNvCxnSpPr>
          <p:nvPr/>
        </p:nvCxnSpPr>
        <p:spPr>
          <a:xfrm rot="5400000">
            <a:off x="2914560" y="3409560"/>
            <a:ext cx="2439000" cy="648360"/>
          </a:xfrm>
          <a:prstGeom prst="bentConnector3">
            <a:avLst>
              <a:gd name="adj1" fmla="val 79672"/>
            </a:avLst>
          </a:prstGeom>
          <a:ln w="57240">
            <a:solidFill>
              <a:srgbClr val="003366"/>
            </a:solidFill>
            <a:miter/>
            <a:tailEnd len="med" type="triangle" w="med"/>
          </a:ln>
        </p:spPr>
      </p:cxnSp>
      <p:cxnSp>
        <p:nvCxnSpPr>
          <p:cNvPr id="117" name=""/>
          <p:cNvCxnSpPr>
            <a:stCxn id="105" idx="2"/>
            <a:endCxn id="114" idx="0"/>
          </p:cNvCxnSpPr>
          <p:nvPr/>
        </p:nvCxnSpPr>
        <p:spPr>
          <a:xfrm flipH="1" rot="16200000">
            <a:off x="3657600" y="3314160"/>
            <a:ext cx="2439000" cy="838800"/>
          </a:xfrm>
          <a:prstGeom prst="bentConnector3">
            <a:avLst>
              <a:gd name="adj1" fmla="val 80336"/>
            </a:avLst>
          </a:prstGeom>
          <a:ln w="57240">
            <a:solidFill>
              <a:srgbClr val="003366"/>
            </a:solidFill>
            <a:miter/>
            <a:tailEnd len="med" type="triangle" w="med"/>
          </a:ln>
        </p:spPr>
      </p:cxnSp>
      <p:cxnSp>
        <p:nvCxnSpPr>
          <p:cNvPr id="118" name=""/>
          <p:cNvCxnSpPr>
            <a:stCxn id="105" idx="2"/>
            <a:endCxn id="115" idx="0"/>
          </p:cNvCxnSpPr>
          <p:nvPr/>
        </p:nvCxnSpPr>
        <p:spPr>
          <a:xfrm flipH="1" rot="16200000">
            <a:off x="4437720" y="2533320"/>
            <a:ext cx="2439000" cy="2400840"/>
          </a:xfrm>
          <a:prstGeom prst="bentConnector3">
            <a:avLst>
              <a:gd name="adj1" fmla="val 79613"/>
            </a:avLst>
          </a:prstGeom>
          <a:ln w="57240">
            <a:solidFill>
              <a:srgbClr val="003366"/>
            </a:solidFill>
            <a:miter/>
            <a:tailEnd len="med" type="triangle" w="med"/>
          </a:ln>
        </p:spPr>
      </p:cxnSp>
      <p:sp>
        <p:nvSpPr>
          <p:cNvPr id="119" name=""/>
          <p:cNvSpPr/>
          <p:nvPr/>
        </p:nvSpPr>
        <p:spPr>
          <a:xfrm>
            <a:off x="4648320" y="3124080"/>
            <a:ext cx="1371600" cy="533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Arial"/>
              </a:rPr>
              <a:t>Lonwal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Arial"/>
              </a:rPr>
              <a:t>Mini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210360" y="3124080"/>
            <a:ext cx="1371600" cy="5335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Arial"/>
              </a:rPr>
              <a:t>Subleve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Arial"/>
              </a:rPr>
              <a:t>Cavi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734240" y="3124080"/>
            <a:ext cx="1371600" cy="5335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Arial"/>
              </a:rPr>
              <a:t>Bloc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Arial"/>
              </a:rPr>
              <a:t>Cavi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22" name=""/>
          <p:cNvCxnSpPr>
            <a:stCxn id="106" idx="2"/>
            <a:endCxn id="119" idx="0"/>
          </p:cNvCxnSpPr>
          <p:nvPr/>
        </p:nvCxnSpPr>
        <p:spPr>
          <a:xfrm rot="5400000">
            <a:off x="6114960" y="1733400"/>
            <a:ext cx="610200" cy="2171880"/>
          </a:xfrm>
          <a:prstGeom prst="bentConnector3">
            <a:avLst>
              <a:gd name="adj1" fmla="val 50000"/>
            </a:avLst>
          </a:prstGeom>
          <a:ln w="57240">
            <a:solidFill>
              <a:srgbClr val="003366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06" idx="2"/>
            <a:endCxn id="120" idx="0"/>
          </p:cNvCxnSpPr>
          <p:nvPr/>
        </p:nvCxnSpPr>
        <p:spPr>
          <a:xfrm rot="5400000">
            <a:off x="6895440" y="2514240"/>
            <a:ext cx="610200" cy="610200"/>
          </a:xfrm>
          <a:prstGeom prst="bentConnector3">
            <a:avLst>
              <a:gd name="adj1" fmla="val 50000"/>
            </a:avLst>
          </a:prstGeom>
          <a:ln w="57240">
            <a:solidFill>
              <a:srgbClr val="003366"/>
            </a:solidFill>
            <a:miter/>
            <a:tailEnd len="med" type="triangle" w="med"/>
          </a:ln>
        </p:spPr>
      </p:cxnSp>
      <p:cxnSp>
        <p:nvCxnSpPr>
          <p:cNvPr id="124" name=""/>
          <p:cNvCxnSpPr>
            <a:stCxn id="106" idx="2"/>
            <a:endCxn id="121" idx="0"/>
          </p:cNvCxnSpPr>
          <p:nvPr/>
        </p:nvCxnSpPr>
        <p:spPr>
          <a:xfrm flipH="1" rot="16200000">
            <a:off x="7657920" y="2361600"/>
            <a:ext cx="610200" cy="915120"/>
          </a:xfrm>
          <a:prstGeom prst="bentConnector3">
            <a:avLst>
              <a:gd name="adj1" fmla="val 50000"/>
            </a:avLst>
          </a:prstGeom>
          <a:ln w="57240">
            <a:solidFill>
              <a:srgbClr val="003366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457200" y="5791320"/>
            <a:ext cx="79246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971800" y="5562720"/>
            <a:ext cx="403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ffffff"/>
                </a:solidFill>
                <a:latin typeface="Arial"/>
              </a:rPr>
              <a:t>Desplazamiento de la roca de caj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609120" y="6248520"/>
            <a:ext cx="76201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409760" y="5981760"/>
            <a:ext cx="647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ffffff"/>
                </a:solidFill>
                <a:latin typeface="Arial"/>
              </a:rPr>
              <a:t>Energía de deformación almacenada en las proximidades de una excavació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523880" y="274680"/>
            <a:ext cx="716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e5ffff"/>
                </a:solidFill>
                <a:latin typeface="Tahoma"/>
              </a:rPr>
              <a:t>Room and Pila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57200" y="1600200"/>
            <a:ext cx="403848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ahoma"/>
              </a:rPr>
              <a:t>Cuerpos mineralizados mantiformes y de baja potenc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ahoma"/>
              </a:rPr>
              <a:t>La calidad de la roca de caja y mineral deben ser competentes (2B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ahoma"/>
              </a:rPr>
              <a:t>Se dejan pilares para mantener el techo y las paredes establ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ahoma"/>
              </a:rPr>
              <a:t>Se deben diseñar los pilares y los caserones para maximizar la recuperación de minera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ahoma"/>
              </a:rPr>
              <a:t>Cuerpos mineralizados con potencias mayores a 10m y menores a 30 m se explotan por sub-niveles desde el techo al pis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ahoma"/>
              </a:rPr>
              <a:t>Baja dilución menor a 5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ahoma"/>
              </a:rPr>
              <a:t>Recuperación baja menor a 75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ahoma"/>
              </a:rPr>
              <a:t>Costo de producción 10-20$-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4497480" y="2209680"/>
            <a:ext cx="4646520" cy="30974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9T17:03:14Z</dcterms:created>
  <dc:creator>Ing Minas</dc:creator>
  <dc:description/>
  <dc:language>en-US</dc:language>
  <cp:lastModifiedBy>Ing Minas</cp:lastModifiedBy>
  <dcterms:modified xsi:type="dcterms:W3CDTF">2006-06-13T21:46:08Z</dcterms:modified>
  <cp:revision>5</cp:revision>
  <dc:subject/>
  <dc:title>Diapositiva 1</dc:title>
</cp:coreProperties>
</file>