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B65A-003D-463A-A4B4-E8AE6BA2C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591C-7E38-4DB9-BD9F-D8DB0241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96F9-DEE5-4A0D-90A0-787120F05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8E59-209C-440C-BBD6-4287DA87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2367-6679-4342-8D20-6DA70760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D91B-6BB8-47CE-87C7-76C8C596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06C8-B634-4F7E-8E7B-D081758E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B0D4-55D0-4FC6-B8F1-52080FBB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5D71-36B9-47C2-96A0-1365E884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EE4A-C811-4458-AAC5-AA4AEAFF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3501-1F68-4A7F-812E-31A45AA2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6E94-FB04-4C77-8BAB-BB5A7E18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6602-8592-4E10-9F53-7C8BCBE51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STEMA    DE    GLACI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N GLACIAR ES SÍMPLEMENTE  UN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CUERPO   DE HIELO  QUE  FLUYE SOBRE LA  SUPERFICIE   DE TERREN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Y  QUE  CONSTA   DE    PRINCIPALMENTE DE NIEVE   RECRISTALIZ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GUAL  QUE EL SISTEMA FLUVIAL,   UN GLACIAR  ES    UN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SISTEMA ABIERT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,  DONDE   EL AGUA  ENTRA  COMO  NIEVE,   QUE    SE  TRANSFORMA  EN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HIELO POR COMPACTACIÓN Y RECRISTALIZACIÓN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U MOVIMIENTO NO  ES   PERCEPTIBLE   A   SIMPLE   V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U  EXISTENCIA  ESTÁ  ESTRECHAMENTE   RELACIONADO  CON  LAS VARIACIONES DEL CLIMA, Y  SE  FORMA  DÓNDE   LA CANTIDAD  DE NIEVE ACUMULADA CADA  AÑO ES MAYOR   QUE  LA  QUE  SE  FUN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IPOS DE GLACIAR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:  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GLACIARES   DE VALL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(FLUYEN HACIA ABAJO A TRAVÉS DE VALLES,  COMO LAS  CORRIENTES DE AGUA); 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GLACIARES DE PIE DE MON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(SITUADOS SOBRE UNA PLANICIE  EN  LA  BASE  DE  UNA MONTAÑA); 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 CASQUE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O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MANTO DE HIEL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(GLACIAR   DE   FORMA  IRREGULAR,    QUE  CUBRE  UNA   AMPLIA  SUPERFICIE  DE  TERRENO.     Ej.:   La   capa  de  hielo  antártico   cubre  aproximadamente  12.500.000  km2   y  tiene 4.200 m   de  espesor ;  el manto de Groenlandia cubre aproximadamente 1.700.000 km2  y  tiene 3.000  m  de espesor ;  entre ambos representan  el  95% del área total de los glaciares del mund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USAS  DE  LAS  GLAC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NA TEORÍA ADECUADA  SOBRE  LAS  CAUSAS    DE   LAS GLACIACIONES  DEBERÍA  EXPLICAR:                                                                     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) los  avances   repetidos  de los  hielos  durante la última   edad  glacial,   separados  por  períodos  interglaciales  de climas  cálidos                                                           b) las  glaciaciones   episódicas   (700  Ma;  200-300  Ma;  20 Ma):   Se  trata   de eventos  inusuales   en  la historia de la Tierra,  que  casi  siempre  tuvo  climas  mas  benignos  que el actual,  con  temperaturas  promedio de 22°  C   (hoy  sólo  tiene  14° C),  y   no  de  ciclos  regulares                                                                                                       c) una temperatura  global  media  menor  en   5° C  que la   actual, y  posiblemente un aumento  en las  tasas de   precipitaciones  globales,  mayores que   las act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AUSAS  ASTRONÓ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BIO  EN   LA  ÓRBITA TERRESTRE     (CICLO  CADA 105.000 AÑOS); TRAYECTORIA  ELÍPTICA  CON  CAMBIO  EN  SU  EXCENTRICIDAD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BIO  EN  LA  INCLINACIÓN   DEL  EJE  DE  LA TIERRA,   ENTRE        22,1°   y     24,5°   (CICLO  CADA 41.000 AÑ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VIMIENTO  DE  PRECESIÓN  DEL  EJE  DE LA TIERRA   CON   VARIACIÓN  ANUAL   DE   50´´ DEL ARCO   (CICLO  CADA  25.800  AÑ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ICLO   CLIMÁTICO  DE  MILANKOVITCH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 A  PARTIR  DE   ESTOS  CAMBIOS PERIÓDICOS,   ADEMÁS  DE OTROS  FACTORES,  COMO   CAMBIOS EN LA ENERGÍA  SOLAR,  LO   LLEVARON A ESTIMAR   QUE  CADA  40.000 AÑOS   LA TIERRA  ES MAS FRÍA   ( COMPROBADO CON TESTIGOS OCEÁNICO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6383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ONCLUCIÓN:   DEBEN  DARSE  CONDICIONES   MUY  PECULIARES, POR  LA  COMBINACIÓN   DE  DIVERSOS   Y   VARIADOS   FACTORES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,   PARA  QUE  OCURRAN   LAS    GLACI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-36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AUSAS</a:t>
            </a: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ATMOSFÉR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VARIACIONES  EN   EL    C O 2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alto contenido de C,   mas  cálido)                 ¿ CAUSA  o  EFECTO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LVO EN  LA   ATMÓSFERA    (VOLCANES Y METEORI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AUSAS   TECTÓ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SICIÓN DE   LOS CONTINENTES    ( NORTE  Y  SUD  AMMÉRICA  DERIVAN    HACIA  EL   OESTE    DESDE   EL   CRETÁC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PERTURA  DEL  OCÉANO  PACÍFICO  Y  CIERRE   DEL  OCÉANO    ATLÁNTICO  Y  ÁR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NTÁRTICA  SE PONE EN POSICIÓN POLAR  EN  EL EOCE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BIOS  EN  LA CIRCULACIÓN  DE  CORRIENTES  OCEÁNICAS Y ATMOSFÉR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RRIENTE  CIRCUMANTÁRTICA   CUANDO  AUSTRALIA  SE  SEPARA DE LA  ANTÁRT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ORMACIÓN DE  GRANDES  CORDILLER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Transformación    de   nieve   en   hielo   glac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emperatura bajo 0°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:  AGUA   --   ESTADO   SÓLIDO.   PRECIPITA EN FORMA  DE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RISTALES  HEXAGON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NIEVE   SECA   RECIÓN  CAÍDA  ES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XTREMADAMENTE   POROS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LO  QUE  LA  HACE  LIGERA  COMO  UNA  PLU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U  GRAN  POROSIDAD Y  FORMA DE  ESTRELLA    DA  A  LA  MASA  UNA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UPERFICIE  INTERNA  MAY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  LA  DE  LOS SEDIMENTOS ORDIN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AIRE  PENETRA  EN  LOS  ORIFICIOS  Y  EL  HIELO  SE   EVAPORA       HASTA   QUEDAR   SÓLO  L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ORCIÓN CENTRAL  DEL CRIST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ORIG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PARTÍCULAS  ESTRELLADAS   CAMBIAN  RÁPIDAMNTE   A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ACIMOS  DE CRISTALES  DE  FORMA  ESFÉR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DE  3  mm   O  MENOS DE   DIÁME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ODA  LA MASA   ADOPTA,  AL  FINAL  DEL  INVIERNO, UN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STRUCTURA  GRANULA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MENOS POROSA Y DE  MAYOR  DENSIDAD,   QUE   OBLIGA  AL AIRE  A  ESCAP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ANDO ALCANZA UN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DENSIDAD   DE  0.8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E VUELVE   IMPERMEABLE AL   AIRE Y ENTONCES  SE  LLAMA  HIE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HIELO   ES UNA RO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UES  CONSTA  DE  GRANOS  CRISTALINOS  DE   UN  MINERAL,   ASÍ   COMO  LAS ARENISCAS  DE   CUARZ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-419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3049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PARTES  ESENCIALES  DE  UN GLACIAR   SON:   1)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 ZONA DE ACUMULACIÓN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CON GRANOS DE HIELO NETOS)   y   2)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A ZONA DE ABLACIÓ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DÓNDE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L HIELO  DEJA EL  SISTEMA    POR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US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POR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EVAPOR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POR   DESPRENDIMIENTO  DE  BLOQUES DE HIELO  EN  UN CUERPO DE AGUA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en lagos  u océano))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La frontera o límite entre  ambas  zonas  es  la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linea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 o 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nivel  de nieves perpetuas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, que es el límite inferior de las nieves perma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HIELO  DEL  GLACIAR  SE  ORIGINA  ENCIMA  DEL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NIVEL   DE   NIEVES PERPETUAS,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N  L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ZONA DE ACUMUL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PERO  SE  DESPLAZA Y EXTIENDE   HACIA  ABAJO,   FUERA  DE  ELLA,   HACIA  LA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ZONA  DE ABL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SE   MANTIENE  BAJO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A  LINEA   DE   NIEV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ORQUE  SU MOVIMIENTO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RANSFIERE   EL  HIELO  DE  LA  PARTE  SUPERIOR   ANTES  QUE  ÉSTE   SE  FUND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ESTA   FORMA,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A   LONGITUD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EL  VOLUME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REPRESENTAN  UN EQUILIBRIO APROXIMADO   ENTRE  TRES VARIABLES:      1)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  ACUMULACIÓN DE NIEV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;         2)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  PÉRDIDAD  POR  FUSIÓN   Y   EVAPOR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;    y     3)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 TRANSFERENCIA   POR EL  MOVIMIE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.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alance entre la tasa de ingreso  de hielo al sistema,   y   tasa de egreso de hielo del sistem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95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3808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GLACIAR  FLUYE,   DE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ZONA DE  ACUMUL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ZONA DE ABL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OR  SU  PROPIO PESO.    EL  FLUJO  ES   PRÍNCIPALMENTE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INE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 LA VELOCIDAD  DE  DESPLAZAMIENTO  NO  ES IGUAL  EN  TODOS LOS  SECTORES DEL  GLACIAR.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DESPLAZAMIENTO  ES MAS RÁPIDO  EN  EL CENTRO   DEL GLACIAR,   DONDE  EL  ESPESOR  DEL  HIELO ES  MAYOR,   Y EN  LA  PARTE  MAS   SUPERFICIAL.        EN   LA PARTE   BASAL  Y  EN  SUS LATERALES   LA  FRICCIÓN  ES  MAYOR  Y   EL  GLACIAR  SE  MUEVE   MAS  LENTAMENT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MO   LA  PARTE   MAS  SUPERFICIAL  TIENE   POCO   PESO   SOBRE   SI,   ES QUEBRADIZA Y  CASI  RÍGIDA,   FRACTURÁNDOSE  Y   PRODUCIENDO   EN   ELL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ISURAS   Y   GRIETAS   PROFU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LAS  PARTES  PROFUNDAS,   DONDE  EL PESO   DEL GLACIAR  ES MAYOR,  EL  FLUJO  DEFORMA  LOS GRANOS CRISTALINOS  HASTA DARLE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FECTO DE  FOLI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COMO EL   QUE   SE   APRECIA   EN   LAS  ROCAS METAMÓRFICAS,   POR   LO  CUAL  EL HIELO   DE  UN GLACIAR  PUEDE  SER CLASIFICADO  COMO  UNA ROCA  DE   ESTE  TI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 rot="10800000">
            <a:off x="685800" y="-74160"/>
            <a:ext cx="7772400" cy="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3808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MECANISMO  DEL  FLUJO  DEL HIELO   COMPRENDE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ROTACIÓN   DE  LOS GRAN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USIÓN  Y  CONGELAMIE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Y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SLIZAMIENTO  INTERNOS DENTRO DE LA MASA DE HIEL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 DESPLAZAMIENTO  DEL  GLACIAR  ES   POR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SLIZAMIENTO   BAS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A TRAVÉS  DE  LA  ROCA  SOPORTE,   Y  POR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LUJOS  INTERNO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CÁNICAMENTE   INDEPEND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MAYOR  PARTE  DE   LA ENERGÍA  DEL  GLACIAR  SE   CONSUME  EN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RICCIÓN  SOBRE SU FON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AREDES   LATER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TAMBIÉN  EN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RICCIÓN  DEL  FLUJO  INTERN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   LA ENERGÍA  REQUERIDA  EN  SU  DESPLAZAMIENTO  Y EN LA  DEFORMACIÓN   DE  LOS GRANOS    DE  HIELO  ES MAYOR  QUE  LA REQUERIDA  PARA  CAUSAR   FLUJO  EN  EL AGU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TÉRMINOS MECÁNICOS,   EL  MOVIMIENTO  DEL GLACIAR  ES UN  PROCESO  MUY  INEFICIENTE.   EN  DETERMINADOS  SECTORES  EL   FLUJO   ES   SOMETIDO A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FUERZOS EXTENSIV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GENERANDO   GRIETA,   Y  EN OTROS PREVALECEN  LOS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FUERZOS COMPRESIV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QUE  CIERRAN   LAS FISURAS  PRODUCIDAS  PREVIAMEN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RABAJO   GEOLÓGICO   DEL   GLACI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HIELO  ES  UN    AGENTE  DE  EROSIÓN  MUY   EFECTIVO,  COMO  TAMBIÉN LO  ES  SU  CAPACIDAD  DE  TRANSPORTE,   CAPAZ  DE  ACARREAR   GRANDES  VOLÚMENES  DE   MATERIAL   PARA    FORMAN   DEPÓSITOS   QUE  SON   MUY  PECULIARES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GENERAL ,   EL  TRABAJO  DEL  HIELO   ES  FÁCIL  DE   RECONOCER   Y  SE    MANIFIESTA   POR   LA   ALTERACIÓN  PRODUCIDA   EN   LA  SUPERFICIE   DEL TERRENO   SOBRE   EL   QUE  PASA  EL  GLACIAR.                                                    UN  ASPECTO  CARACTERÍSTICO  DE   LOS  GLACIARES  DE  VALLE   ES   LA FORMA   DE   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U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QUE   CONSERVA   EL  VALLE   DESPUÉS QUE  EL HILEO SE   RETIRA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en  oposición  a la forma en  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V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de  un  valle  de  origen  fluvia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EROSIÓN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1)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ABRASIÓN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(PROCESO  DE  RASPAR  Y  RAYAR    LA ROCA).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UL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LAS ROCAS  Y   PRODUCE   LAS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TRÍAS  GLACIAR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Y    LA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ACANALADUR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ESCULPIENDO  LO  QUE   SE    CONOCE    COMO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ROCAS  ABORREGA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 ESTOS  RASGOS  SE  USAN  COMO  INDICADORES   DE   LA  DIRECCIÓN  DE AVANCE   QUE   TUVO  EL GLACIAR                                                                                     2)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ARRANQUE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(DESPRENDIMIENTO  Y  ARRASTRE  DE  BLOQUES  ROCOSOS). PRODUCE    UN     EFECTO   DE   “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epillado ”  o  “ dragado ”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N  EL  FONDO  DEL  VALLE,    GENERANDO   DEPRESIONES   Y   FORMAS  ESCALONADAS  A   LO LARGO  DEL  VALLE.   EN LAS ZONAS  MAS DEPRIMIDAS,  UNA  VEZ   QUE  EL  HIELO  SE   RETIRA,    SE   FORMAN  PEQUEÑOS  LAG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430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28240"/>
            <a:ext cx="85341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RANSPORTE:   (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ifiere del transporte fluvial)                                                            1)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CARGA  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RANSPORT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OBRE  SU  CIM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SUS  COSTADOS,  ADEMÁS  DE  HACERLO  EN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USPENS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Y  POR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ARRASTR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COMO  CARGA  DE  FONDO.                                                                                         2)   EL   HIELO   NO   SEGREGA  SU   CARGA   POR  SU  TAMAÑO,   Y   EL MATERIAL   TRANSPORTANDO   ES  UNA MEZCLA   DE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NORMES   BLOQUES  DE  RO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de cientos de tonela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)   Y   DE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  FRAGMENTOS    PEQUEÑO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, ,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CLUSIVE   MEZCLADO   CON  LO QUE  SE   DENOMINA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HARINA DE  ROCA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ue es la arena  y limo producidas por   trituración y  pulverización  en  el fondo y  costados  del glaci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3)  DONDE  SE  JUNTAN  DOS  GLACIARES,   EL  MATERIAL  DE   DETRITOS  TRANSPORTADO  EN  SUS  RESPECTIVOS   BORDES  SE   CONCENTRA   EN   MEDIO  DEL  GLACIAR,   A  LO  LARGO   DE    UNA  NUEVA   BANDA  LINEAL  DE   MATERIAL,  O  “NIEVE   SUCIA”,   QUE   SE  EXTIENDE   A  LO LARGO  DEL  GLACIAR  Y  DESDE   EL FONDO  A  LA   SUPERFICI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1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DEPÓSITOS  GLACIARES :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1)   EL  HIELO  NO  SEGREGA  NI   DEPOSITA  EL  MATERIAL  TRANSPORTADO  SEGÚN   SU  PESO.                                                                                                           TODO  EL    MATERIAL  ES  DEPOSITADO   A   UN  TIEMPO,     CUANDO  EL   HIELO  QUE  LO  TRANSPORTA   DEJA  EL  SISTE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2)   LOS DEPÓSITOS  DE   MATERIAL  TRANSPORTADO  POR  EL GLACIAR  SE   DENOMINAN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ON  DEPÓSITOS  NO ESTRATIFICADOS  NI   CLASIFICADO  DE  ACUERDO  CON  SU  TAMAÑ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.    SE  LES  CONOCE   COMO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TERMINALE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( con  forma de arco,   formados en el frente  del glaciar ,  cuando  el  hielo  deja el sistema;  los  materiales  de  detritos  se  elevan  desde  el  fondo  por  el  flujo  emergente  del  hielo  en  el  frente;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S  DE  RECESIÓN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(igual que las terminales,  pero formadas  por  retrocesos  progresivos  del  frente);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S   LATERALE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(depositadas  a lo largo   de los  costados  del glaciar,  bajo  la  cota  de  la linea  de nieves perpetuas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S  CENTRALES   O  DEL  MEDI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(depositadas  por  las  bandas  lineales  de  “nieve  sucia”,  formadas  por dos  tributarios ,  y  que  se  extienden  por  el centro  del  glaciar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3)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VARVE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  FORMACIÓN  GLACILACUSTRE,    ARCILLOSA,    FINAMENTE   ESTRATIFICADA  Y  CLASIFICADA,  DEPOSITADA  EN  LOS  LAGOS  QUE  SE  FORMAN  EN  EL   FRENTE   DEL   GLACIAR,   POR  LA  FUSIÓN  DEL HIELO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estratos  muy  finos  y  delgados,  alternando  tonos   claros   y oscuros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4) OTRAS  FORMAS  DE   DEPÓSITOS  SON  LOS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KER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,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RUMLIN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LO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LUVIOGLACI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DEPOSITADOS  AGUAS ABAJO DEL FRENTE  DEL GLACI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ODELADO   DE   LA   MONTAÑA POR  LOS  GLACIARES  DE VAL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533160"/>
            <a:ext cx="861048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IR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 ESPECIE   DE   NICHO,  DE  PAREDES  ABRUPTAS,  CON FORMA  DE   ANFITEATRO,    EXCAVADO  EN  LA  LADERA   DE   LA MONTAÑA.  DA  LUGAR   A  LA  FORMACIÓN  DE  LAGOS PEQUEÑOS   UNA  VEZ  QUE   EL   HIELO  SE  FUN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ARISTA  O  CREST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PAREDÓN  AFILADO,  A  MANERA DE TABIQUE,  CREADO  POR  DOS  O TRES CIRCOS   ADYAC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ORTEZUEL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DESFILADERO  O  PUNTO  MAS  BAJO   DE   UNA  ARISTA  FORMADA  POR   DOS CIRCOS  ADYAC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ICO  O  PICACH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 ESTRUCTURA  DE    FORMA  PIRAMIDAL  QUE QUEDA  EN PIE  CUANDO  TRES  O  MAS CIRCOS   SE   ACERCAN ENTRE  SI  POR  SU  LADO   DORSAL,   POR    EFECTO   DE   LA  EROSIÓN  RETRÓGRADA DE SUS RESPECTIVAS PARE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FIOR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VALLES  O   DEPRESIONES  GLACIARES   PARCIALMENTE SUMERGIDAS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forman bahías profund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ALLE   COLG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HOMBRE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LANICIES  FLUVIOGLA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6T21:14:56Z</dcterms:created>
  <dc:creator>Universidad de Chile</dc:creator>
  <dc:description/>
  <dc:language>en-US</dc:language>
  <cp:lastModifiedBy>Universidad de Chile</cp:lastModifiedBy>
  <cp:lastPrinted>2001-05-18T22:04:36Z</cp:lastPrinted>
  <dcterms:modified xsi:type="dcterms:W3CDTF">2001-05-29T01:35:14Z</dcterms:modified>
  <cp:revision>24</cp:revision>
  <dc:subject/>
  <dc:title>SISTEMA    DE    GLACIARES</dc:title>
</cp:coreProperties>
</file>