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A9D-5879-4605-85BF-81130DEC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81B-AD60-46D2-B717-D5ED15A6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F7E-4F0A-4A0C-81C0-FABC801E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EF4-7292-4C85-A1C3-08FB09CA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B34-00A0-4F0C-8115-540C563D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D2D-3B69-4C79-B095-ED135FE7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246-7AEF-41B6-8658-1FB29FA0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1D9-C8BC-4E77-8235-516444A6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340-8EF9-468C-820E-BEBB159E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9BF-6C98-4351-BDF4-8024F424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2FA-38AD-4A9D-8820-3306C45E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ED6-2869-4DD5-83F3-FAB91A14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3398-80D5-42F8-8AC4-AA51E7BC8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RDES      DE      FALLAS       TRANSFORM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 S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RDES   DE   FALLAS  TRANSFORMA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SON    ZONAS 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IZALLAMIENT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DONDE   LOS  BORDES  DE   PLACAS  SE   DESLIZAN    FRANQUEÁNDOSE   UNA  A    OTRA,   SIN    DIVERGIR   NI  CONVERGER   Y  SIN   CREAR   NI   DESTRUIR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TÓFERA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OS  BORDES  OCURREN  A  LO  LARGO  DE   UN  TIPO  ESPECIAL  DE  FALLA,   DENOMINADA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ALLA  TRANSFORMAN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 QUE   ES  UNA   SIMPLE   FALLA  TRANSCURRENTE    ENTRE   PLACAS   (“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TRIKE-SLIP  FAULT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“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ESTO  ES,   CON   MOVIMIENTO   HORIZANTAL   Y   PARALELO  A  LO  LARGO  DE   LA  FALLA.                                                                        EL  TÉRMINO   “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RANSFORMAN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“   SE   USA  PORQUE    EL   TIPO  DE  MOVIMIENTO   ENTRE    LAS  PACAS  ES  CAMBIADO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FORM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)   AL   FINAL  DE  LA  PARTE  ACTIVA  DE  LA FALLA.  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  ejempl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  EL  MOVIMIENTO  DIVERGENTE   ENTRE   DOS  PLACAS  EN  UN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IDGE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CEÁNICO   PUEDE   SER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FORM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A  LO  LARGO  DE  LA  FALLA,   A  UN   MOVIMIENTO  CONVERGENTE    ENTRE  PLACAS  EN  UNA  ZONA  DE   SUBD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ALLAS  TRANSFORMA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PUEDEN   UNIR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RIDG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CON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IDGE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IDGE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S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Y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S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S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EN   TOD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CASOS   LA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ALLA  TRANSFORMANT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  PARALELA   A  LA  DIRECCIÓN   DEL   MOVIMIENTO   DE   PLACA   RELATIVO,    DE  MANERA  QUE    NUNCA  HAY   CONVERGENVCIA   NI   DIVERGENCIA  A  LO LARGO  DE   ESTE   TIPO  DE  BORDE.      CUANDO  LA  PLACA  SE   MUEVE,   LA  CORTEZA  ES  FRACTURADA   Y  SE   QUIEBRA,  PRODUCIENDO   SISMOS  POCO  PROFUNDOS.       LA  ACTIVIDAD   VOLCÁNICA  NO  ES  ABUNDANTE  EN  LAS  FALLAS  TRANSFORMA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17:17:27Z</dcterms:created>
  <dc:creator>Universidad de Chile</dc:creator>
  <dc:description/>
  <dc:language>en-US</dc:language>
  <cp:lastModifiedBy>Universidad de Chile</cp:lastModifiedBy>
  <cp:lastPrinted>2001-06-21T00:01:52Z</cp:lastPrinted>
  <dcterms:modified xsi:type="dcterms:W3CDTF">2001-06-26T23:48:47Z</dcterms:modified>
  <cp:revision>42</cp:revision>
  <dc:subject/>
  <dc:title>LA    TECTÓNICA    DE    PLACAS</dc:title>
</cp:coreProperties>
</file>