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FB9-7C6F-4E43-AD0D-A5289CA4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EAC-5EF9-4E70-9E50-441E60D8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514-75E6-4F13-A74C-5F58419F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7B0-7660-4573-892E-93CA6681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3481-E938-449B-AFD4-CC7A29B0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AC4E-72F9-4818-BC92-7674AF1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71C8-DC5B-4970-8130-225F70B4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9A5B-AC75-44E8-8B14-566C1EE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B9DE-E50D-4CA0-B419-7C58230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AB42-DCF9-4F85-95CF-73C3106D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288C-2BEC-45F4-9A61-526155C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985-0EE7-47F5-BAD1-278C1C46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2E20-FE7C-4CA8-91FD-B791EB82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3ACB-157E-4F45-9573-130F7B73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23B6-F9A2-44A8-9340-E6F2076A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E874-0045-4D0F-AB04-C4B828F0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81FF-44B3-4E5B-A103-A060DF45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4F5-D82E-4A3C-B478-5CC3E10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042-08F2-424C-BEB0-726907E0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9AD-672F-4802-8530-F4FE73C3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768-D4E3-420C-AC8C-8BDBC366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72C-150A-4B78-8B3A-F97CF4FF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74D-B005-4B76-B94C-6E9AE1C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760-3D5C-41ED-A7C5-C95D1C6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2CD8-1011-4E44-B458-FB4E628D50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EA55-64EE-4072-AA6B-2F1848CC68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FI33A</a:t>
            </a:r>
            <a:br>
              <a:rPr sz="3600"/>
            </a:b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Electromagnetism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esde las ecuaciones de Maxwell en el vacío (</a:t>
            </a: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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=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7280" y="3429000"/>
                <a:ext cx="443232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ara la 3° ecuación de Maxwell se llega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59280" y="2798640"/>
                <a:ext cx="3025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68360" y="397656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3978360"/>
                <a:ext cx="1368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68360" y="472428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sto es la ecuación de una onda de velocid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95800" y="5137200"/>
                <a:ext cx="26254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 forma análoga, con la 4° ecuación de Maxwell se llega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987640" y="3068640"/>
                <a:ext cx="3198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79280" y="422100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Rockwell Extra Bold"/>
              </a:rPr>
              <a:t>Por lo tanto los campos son ondas que en el vacío viajan a la velocidad de la lu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odo se repi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76560" y="2362320"/>
          <a:ext cx="32148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2362320"/>
                    <a:ext cx="3214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cuaciones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47800" y="2505240"/>
          <a:ext cx="357984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505240"/>
                    <a:ext cx="357984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050920" y="5373720"/>
          <a:ext cx="532944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5373720"/>
                    <a:ext cx="53294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788000" y="2637000"/>
            <a:ext cx="37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uen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: Densidad de carg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: Densidad de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im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Las cargas eléctricas son fuentes de campo eléct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se conserva si la carga es n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47880" y="2557440"/>
          <a:ext cx="544824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2557440"/>
                    <a:ext cx="54482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Segund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4365720"/>
            <a:ext cx="76932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No existen las “cargas magnétic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magnético SIEMPRE se conser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1640" y="2567160"/>
          <a:ext cx="5400720" cy="17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2567160"/>
                    <a:ext cx="5400720" cy="17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35280" y="5445000"/>
                <a:ext cx="2881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erc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existe B(t), INDUCE circulación de 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ectr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cuación de Poisson y La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61960" y="2523960"/>
          <a:ext cx="6220080" cy="18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523960"/>
                    <a:ext cx="6220080" cy="18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70036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744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76720" y="5013360"/>
                <a:ext cx="2903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r>
                      <m:t xml:space="preserve">φ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35280" y="4869000"/>
                <a:ext cx="7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00720" y="5229360"/>
            <a:ext cx="43164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372360" y="5373720"/>
                <a:ext cx="1224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uart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xistencia de J    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ampo E variable en t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agnet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63480" y="2538360"/>
          <a:ext cx="781848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538360"/>
                    <a:ext cx="78184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492360" y="4508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508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1280" y="4724280"/>
            <a:ext cx="8650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5672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522936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51280" y="5373720"/>
                <a:ext cx="1081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n cualquier circuito se puede encontrar una relación entre el flujo enlazado y la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3789360"/>
          <a:ext cx="506412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89360"/>
                    <a:ext cx="506412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2000" y="3860640"/>
                <a:ext cx="143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148360" y="4941720"/>
            <a:ext cx="331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pende exclusivamente de la geometría del sist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Se mide en Henry [H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tenemos N circuitos, el circuito j poseerá una inductancia PROPIA y N-1 inducatncias mutu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32000" y="3895560"/>
                <a:ext cx="246384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067280" y="3933720"/>
            <a:ext cx="32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i: Sobre el circuito que actua 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J: El circuito que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genera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88000" y="5516640"/>
                <a:ext cx="223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3213000"/>
          <a:ext cx="72943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213000"/>
                    <a:ext cx="72943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2637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uctancia de un sistema distribui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4508640"/>
          <a:ext cx="424800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508640"/>
                    <a:ext cx="4248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4581360"/>
          <a:ext cx="3240000" cy="18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4581360"/>
                    <a:ext cx="32400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733840" y="2739960"/>
          <a:ext cx="390348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3840" y="2739960"/>
                    <a:ext cx="39034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421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 partir de las 3° y 4° Ecuaciones de Maxw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3860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sarrollando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63840" y="4838760"/>
                <a:ext cx="471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258920" y="59500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nergía del Sistema Electro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437000"/>
            <a:ext cx="1368360" cy="1152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372360" y="5229360"/>
            <a:ext cx="287280" cy="79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5640" y="59500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Potencia consumida por efecto Jo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292640"/>
            <a:ext cx="2448000" cy="14414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76720" y="5300280"/>
            <a:ext cx="574560" cy="576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987640" y="3213000"/>
                <a:ext cx="3262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2492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) Si solo hay campo 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87640" y="4724280"/>
                <a:ext cx="3300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58920" y="4005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b) Si solo hay campo Eléctr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Fuerz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498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genera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2360" y="5092560"/>
                <a:ext cx="2222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6520" y="3645000"/>
                <a:ext cx="3514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349360"/>
          <a:ext cx="638028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638028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560" y="2421000"/>
          <a:ext cx="83455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2421000"/>
                    <a:ext cx="8345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340000" y="3548160"/>
          <a:ext cx="4824360" cy="30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48160"/>
                    <a:ext cx="4824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2:19:06Z</dcterms:created>
  <dc:creator>Mauricio Riveros</dc:creator>
  <dc:description/>
  <dc:language>en-US</dc:language>
  <cp:lastModifiedBy>CEIE</cp:lastModifiedBy>
  <dcterms:modified xsi:type="dcterms:W3CDTF">2006-06-22T18:18:27Z</dcterms:modified>
  <cp:revision>11</cp:revision>
  <dc:subject/>
  <dc:title>Diapositiva 1</dc:title>
</cp:coreProperties>
</file>