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9CC-6621-468A-A85C-EFF95CF3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19E-0844-4E74-A0B8-CDCB85BD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EC4-042B-480C-84B0-07AB1057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BF6-EF6A-4636-96A6-5F9C255A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0352-23EF-4FCD-A1DD-A007CCCA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149C-2AD7-4387-8108-791A27FC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4779-4C07-4471-8BF6-024FEFF0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B9BC-26E1-4421-9BA3-302C06B5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8421-DF96-4037-8D19-66760C2B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81E4-2053-4259-AA4A-FF5B1CC5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A568-93EC-4963-A03E-AA7CC3F3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188-A83D-47A6-AAA7-A5810F10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A243-05B9-45F4-9D4B-2771B260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CED3-4F3E-4AF3-8694-23BAC549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A78A-1BA8-48B4-9D9E-BFF0C182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77AA-442C-41DA-88B8-FDF0A996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5BAC-4752-49A2-AAEA-996C2A87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BCA-588C-48B7-AFA4-EC6507D5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FF8-200D-4B2A-8D05-28864107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044-F2DD-4887-8462-D517CFD6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C93-EAE0-4060-9AC0-CE31EAE3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B0D-EB0D-4DC4-B487-28D8F03D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E6B-6C56-4646-8D0C-CE7BA00B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145-017C-49DF-8CFF-A1E5AF14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9B06-B67D-4A26-8347-751F5EB2E3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FA54-C55E-490F-BA8D-3C08DF40D6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FI33A</a:t>
            </a:r>
            <a:br>
              <a:rPr sz="3600"/>
            </a:b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Electromagnetism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Ond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esde las ecuaciones de Maxwell en el vacío (</a:t>
            </a:r>
            <a:r>
              <a:rPr b="0" lang="es-MX" sz="2800" spc="-1" strike="noStrike">
                <a:solidFill>
                  <a:srgbClr val="003366"/>
                </a:solidFill>
                <a:latin typeface="Symbol"/>
                <a:ea typeface="Symbol"/>
              </a:rPr>
              <a:t>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J=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27280" y="3429000"/>
                <a:ext cx="443232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Ond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ara la 3° ecuación de Maxwell se llega 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59280" y="2798640"/>
                <a:ext cx="3025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68360" y="397656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on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35280" y="3978360"/>
                <a:ext cx="1368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468360" y="4724280"/>
            <a:ext cx="8675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sto es la ecuación de una onda de velocida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295800" y="5137200"/>
                <a:ext cx="26254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Ond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 forma análoga, con la 4° ecuación de Maxwell se llega 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987640" y="3068640"/>
                <a:ext cx="31989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79280" y="4221000"/>
            <a:ext cx="8675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Rockwell Extra Bold"/>
              </a:rPr>
              <a:t>Por lo tanto los campos son ondas que en el vacío viajan a la velocidad de la lu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odo se repit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076560" y="2362320"/>
          <a:ext cx="32148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6560" y="2362320"/>
                    <a:ext cx="32148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cuaciones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47800" y="2505240"/>
          <a:ext cx="357984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2505240"/>
                    <a:ext cx="357984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050920" y="5373720"/>
          <a:ext cx="5329440" cy="84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5373720"/>
                    <a:ext cx="532944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788000" y="2637000"/>
            <a:ext cx="374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uent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Symbol"/>
                <a:ea typeface="Symbol"/>
              </a:rPr>
              <a:t>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: Densidad de carg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J: Densidad de corr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rimer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Las cargas eléctricas son fuentes de campo eléctr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 flujo se conserva si la carga es nu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47880" y="2557440"/>
          <a:ext cx="544824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2557440"/>
                    <a:ext cx="544824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Segund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4365720"/>
            <a:ext cx="769320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No existen las “cargas magnética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 flujo magnético SIEMPRE se conser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i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871640" y="2567160"/>
          <a:ext cx="5400720" cy="17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2567160"/>
                    <a:ext cx="5400720" cy="17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35280" y="5445000"/>
                <a:ext cx="2881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∃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ercer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4437000"/>
            <a:ext cx="7693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i existe B(t), INDUCE circulación de 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ectrostática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cuación de Poisson y Lap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461960" y="2523960"/>
          <a:ext cx="6220080" cy="18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2523960"/>
                    <a:ext cx="6220080" cy="18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2700360" y="450864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7440" y="450864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076720" y="5013360"/>
                <a:ext cx="2903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∃</m:t>
                    </m:r>
                    <m:r>
                      <m:t xml:space="preserve">φ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635280" y="4869000"/>
                <a:ext cx="792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500720" y="5229360"/>
            <a:ext cx="43164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372360" y="5373720"/>
                <a:ext cx="12240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uart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4437000"/>
            <a:ext cx="7693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xistencia de J            Circulación de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ampo E variable en t        Circulación de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Magnetostática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63480" y="2538360"/>
          <a:ext cx="781848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2538360"/>
                    <a:ext cx="781848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492360" y="4508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4508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51280" y="4724280"/>
            <a:ext cx="8650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5013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56720" y="5013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5229360"/>
            <a:ext cx="5763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851280" y="5373720"/>
                <a:ext cx="1081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Inducta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n cualquier circuito se puede encontrar una relación entre el flujo enlazado y la corr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3789360"/>
          <a:ext cx="5064120" cy="20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89360"/>
                    <a:ext cx="506412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12000" y="3860640"/>
                <a:ext cx="1439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148360" y="4941720"/>
            <a:ext cx="3311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Depende exclusivamente de la geometría del siste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Se mide en Henry [H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Inducta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i tenemos N circuitos, el circuito j poseerá una inductancia PROPIA y N-1 inducatncias mutu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332000" y="3895560"/>
                <a:ext cx="2463840" cy="14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067280" y="3933720"/>
            <a:ext cx="324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i: Sobre el circuito que actua el flu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J: El circuito que </a:t>
            </a: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genera 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el flu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88000" y="5516640"/>
                <a:ext cx="2232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71640" y="3213000"/>
          <a:ext cx="729432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213000"/>
                    <a:ext cx="729432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263700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ductancia de un sistema distribui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16000" y="4508640"/>
          <a:ext cx="4248000" cy="21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4508640"/>
                    <a:ext cx="42480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148360" y="4581360"/>
          <a:ext cx="3240000" cy="184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4581360"/>
                    <a:ext cx="324000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nergí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733840" y="2739960"/>
          <a:ext cx="390348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3840" y="2739960"/>
                    <a:ext cx="390348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84360" y="191628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421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A partir de las 3° y 4° Ecuaciones de Maxwe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38606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Desarrollando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63840" y="4838760"/>
                <a:ext cx="471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258920" y="59500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Energía del Sistema Electromagné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4437000"/>
            <a:ext cx="1368360" cy="11527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372360" y="5229360"/>
            <a:ext cx="287280" cy="7920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5640" y="59500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Potencia consumida por efecto Jo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4292640"/>
            <a:ext cx="2448000" cy="144144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76720" y="5300280"/>
            <a:ext cx="574560" cy="576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nergí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987640" y="3213000"/>
                <a:ext cx="3262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84360" y="191628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249228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a) Si solo hay campo Magné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987640" y="4724280"/>
                <a:ext cx="3300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258920" y="4005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b) Si solo hay campo Eléctr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Fuerz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2498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n genera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492360" y="5092560"/>
                <a:ext cx="2222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46520" y="3645000"/>
                <a:ext cx="3514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42920" y="2349360"/>
          <a:ext cx="6380280" cy="38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638028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3560" y="2421000"/>
          <a:ext cx="834552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2421000"/>
                    <a:ext cx="8345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340000" y="3548160"/>
          <a:ext cx="4824360" cy="30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548160"/>
                    <a:ext cx="482436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02:19:06Z</dcterms:created>
  <dc:creator>Mauricio Riveros</dc:creator>
  <dc:description/>
  <dc:language>en-US</dc:language>
  <cp:lastModifiedBy>CEIE</cp:lastModifiedBy>
  <dcterms:modified xsi:type="dcterms:W3CDTF">2006-06-22T18:18:27Z</dcterms:modified>
  <cp:revision>11</cp:revision>
  <dc:subject/>
  <dc:title>Diapositiva 1</dc:title>
</cp:coreProperties>
</file>