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AED-EE32-453E-9814-A9A2CEA8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E7D-71C9-4E7C-8B4B-1ABA326C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F51-93CC-4D9C-B93D-E2E18D11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DEA-C4DC-4DBC-82EE-5C1DBD2E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FB15-1423-4600-A69F-AA6AA836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9CB2-56F7-4B64-A5FC-3EDC720C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2C8F-72E9-400A-8E73-D6053979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4A33-299C-43C7-8249-3BDD5B94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012E-8DEA-4957-9DB6-66F7C327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2DF9-5CF0-459B-8023-A1DF117A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BE87-9017-4FC5-9224-6779C21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F4B-E313-4DEF-98C5-DEA285B4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F4E5-FEE5-46D6-9D14-4EC3D5AF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7A8E-4109-4BE4-BE24-E778D362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601A-101D-4B44-901A-8C83D21F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FC55-AE8D-4740-80A7-AB949C44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5FA7-241B-4971-A050-95AABF79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014-B62C-4A7F-B8E8-74C3FCEB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2F0-32C4-4793-BF57-A8D53D07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C57-DE90-4700-8660-79D9B80D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9D2-ECCF-474C-8898-226C010A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8B7-2BA4-48E7-B321-774B73B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E93-5FA2-4D91-BB03-E2AF02FE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527-DEFF-498C-BEBF-61C0A9C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968C-E463-4659-8C6E-5440AB6FA5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840A-95D2-49C3-94C1-A92CEFD0633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FI33A</a:t>
            </a:r>
            <a:br>
              <a:rPr sz="3600"/>
            </a:b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Electromagnetism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esde las ecuaciones de Maxwell en el vacío (</a:t>
            </a:r>
            <a:r>
              <a:rPr b="0" lang="es-MX" sz="2800" spc="-1" strike="noStrike">
                <a:solidFill>
                  <a:srgbClr val="003366"/>
                </a:solidFill>
                <a:latin typeface="Symbol"/>
                <a:ea typeface="Symbol"/>
              </a:rPr>
              <a:t>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J=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27280" y="3429000"/>
                <a:ext cx="443232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Para la 3° ecuación de Maxwell se llega 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59280" y="2798640"/>
                <a:ext cx="3025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68360" y="3976560"/>
            <a:ext cx="8229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Don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835280" y="3978360"/>
                <a:ext cx="1368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68360" y="472428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sto es la ecuación de una onda de velocid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295800" y="5137200"/>
                <a:ext cx="26254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Ond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 forma análoga, con la 4° ecuación de Maxwell se llega 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987640" y="3068640"/>
                <a:ext cx="3198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79280" y="422100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Rockwell Extra Bold"/>
              </a:rPr>
              <a:t>Por lo tanto los campos son ondas que en el vacío viajan a la velocidad de la lu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odo se repite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076560" y="2362320"/>
          <a:ext cx="32148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2362320"/>
                    <a:ext cx="32148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cuaciones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47800" y="2505240"/>
          <a:ext cx="357984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505240"/>
                    <a:ext cx="357984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050920" y="5373720"/>
          <a:ext cx="5329440" cy="8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5373720"/>
                    <a:ext cx="53294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788000" y="2637000"/>
            <a:ext cx="374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uen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Symbol"/>
                <a:ea typeface="Symbol"/>
              </a:rPr>
              <a:t></a:t>
            </a: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: Densidad de carg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J: Densidad de corr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rimer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4508280"/>
            <a:ext cx="76932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Las cargas eléctricas son fuentes de campo eléctr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flujo se conserva si la carga es n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47880" y="2557440"/>
          <a:ext cx="544824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7880" y="2557440"/>
                    <a:ext cx="54482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Segund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4365720"/>
            <a:ext cx="769320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No existen las “cargas magnétic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 flujo magnético SIEMPRE se conser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1640" y="2567160"/>
          <a:ext cx="5400720" cy="172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2567160"/>
                    <a:ext cx="5400720" cy="17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35280" y="5445000"/>
                <a:ext cx="2881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ercer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4437000"/>
            <a:ext cx="7693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 existe B(t), INDUCE circulación de 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lectrostátic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cuación de Poisson y La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61960" y="2523960"/>
          <a:ext cx="6220080" cy="18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2523960"/>
                    <a:ext cx="6220080" cy="18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2700360" y="4508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7440" y="450864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076720" y="5013360"/>
                <a:ext cx="2903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∃</m:t>
                    </m:r>
                    <m:r>
                      <m:t xml:space="preserve">φ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35280" y="4869000"/>
                <a:ext cx="792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500720" y="5229360"/>
            <a:ext cx="43164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372360" y="5373720"/>
                <a:ext cx="12240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uarta Ecuación de Max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4437000"/>
            <a:ext cx="769320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xistencia de J            Circulación de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ampo E variable en t        Circulación de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Magnetostátic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63480" y="2538360"/>
          <a:ext cx="781848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2538360"/>
                    <a:ext cx="78184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492360" y="4508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508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1280" y="4724280"/>
            <a:ext cx="8650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56000" y="5013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56720" y="501336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522936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51280" y="5373720"/>
                <a:ext cx="1081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ducta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n cualquier circuito se puede encontrar una relación entre el flujo enlazado y la corr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3789360"/>
          <a:ext cx="506412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89360"/>
                    <a:ext cx="506412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2000" y="3860640"/>
                <a:ext cx="1439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148360" y="4941720"/>
            <a:ext cx="3311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Depende exclusivamente de la geometría del siste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Se mide en Henry [H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Inducta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i tenemos N circuitos, el circuito j poseerá una inductancia PROPIA y N-1 inducatncias mutu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332000" y="3895560"/>
                <a:ext cx="2463840" cy="14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067280" y="3933720"/>
            <a:ext cx="32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i: Sobre el circuito que actua el flu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J: El circuito que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genera 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el flu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88000" y="5516640"/>
                <a:ext cx="223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3213000"/>
          <a:ext cx="729432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213000"/>
                    <a:ext cx="72943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042920" y="26370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uctancia de un sistema distribui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4508640"/>
          <a:ext cx="424800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508640"/>
                    <a:ext cx="4248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148360" y="4581360"/>
          <a:ext cx="3240000" cy="184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4581360"/>
                    <a:ext cx="32400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nergí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733840" y="2739960"/>
          <a:ext cx="3903480" cy="11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3840" y="2739960"/>
                    <a:ext cx="390348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684360" y="191628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2421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A partir de las 3° y 4° Ecuaciones de Maxwe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38606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Desarrollando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63840" y="4838760"/>
                <a:ext cx="4710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258920" y="59500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Energía del Sistema Electromagné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4437000"/>
            <a:ext cx="1368360" cy="11527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372360" y="5229360"/>
            <a:ext cx="287280" cy="792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5640" y="59500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Potencia consumida por efecto Jo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43280" y="4292640"/>
            <a:ext cx="2448000" cy="144144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76720" y="5300280"/>
            <a:ext cx="574560" cy="576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nergí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987640" y="3213000"/>
                <a:ext cx="3262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84360" y="191628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249228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a) Si solo hay campo Magnét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87640" y="4724280"/>
                <a:ext cx="3300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Ω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⇔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58920" y="4005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b) Si solo hay campo Eléctr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Fuerza Electromagné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249800" cy="5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En genera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492360" y="5092560"/>
                <a:ext cx="22226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46520" y="3645000"/>
                <a:ext cx="3514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42920" y="2349360"/>
          <a:ext cx="638028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638028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Ejerc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3560" y="2421000"/>
          <a:ext cx="834552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2421000"/>
                    <a:ext cx="8345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2340000" y="3548160"/>
          <a:ext cx="4824360" cy="30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48160"/>
                    <a:ext cx="482436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2:19:06Z</dcterms:created>
  <dc:creator>Mauricio Riveros</dc:creator>
  <dc:description/>
  <dc:language>en-US</dc:language>
  <cp:lastModifiedBy>CEIE</cp:lastModifiedBy>
  <dcterms:modified xsi:type="dcterms:W3CDTF">2006-06-22T18:18:27Z</dcterms:modified>
  <cp:revision>11</cp:revision>
  <dc:subject/>
  <dc:title>Diapositiva 1</dc:title>
</cp:coreProperties>
</file>