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E49-F9A2-4BDB-A7F8-9370294A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16E-EF03-4C60-8096-81878648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177-D797-4320-BBA7-01155C95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FE3-0CCD-4A56-8503-BEA08EA1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306A-41E0-4BF5-B6E5-E812E6C3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3446-9DFD-49B3-BACB-BAD5581B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75F4-199B-4610-9CFA-D6483D6C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AA05-9BA1-4B0B-A81E-1FE19063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C29E-A33B-4EB0-9C0F-EE4A5046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7CB1-12DE-47D2-9C48-07DD16A7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5B47-8F38-4CAA-9D02-CB0D06A1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522-451A-4484-99B2-0C0390EA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2214-13C7-46DC-9BFC-DD0E04ED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3A67-BEFB-480B-900E-7694DEB3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200E-FE2B-4E5F-9BAA-8D02AE20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B6C8-E5FC-46D0-A9F0-A00015DB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7017-0B4D-4A7B-BCD4-E3E26F5D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903-D83C-46C1-BAF9-17C6B751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7BEB-1CD9-494C-893F-8B2048BA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A1F-7B5E-4890-B48E-05CE5F7F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EB8B-4012-4D38-AAAC-5B6268EC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510-B547-4906-88A6-0AD88E40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BB4A-02D7-433C-9EB6-CA92CA09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ACF7-F684-4FAC-9D04-22F7D661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9536-CFFE-43F4-95EF-ED5496F83F9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A558-93F8-4152-8CE3-7998E20817B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435640" y="2781360"/>
            <a:ext cx="3359160" cy="2463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897440" cy="3591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1989000"/>
            <a:ext cx="7844040" cy="26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Arial"/>
              </a:rPr>
              <a:t>LA CELULOS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364000" y="558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Arial"/>
              </a:rPr>
              <a:t>Manuel Betan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Arial"/>
              </a:rPr>
              <a:t>Leonardo Pér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589720"/>
            <a:ext cx="309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00"/>
                </a:solidFill>
                <a:latin typeface="Arial"/>
              </a:rPr>
              <a:t>TALLER DE DISEÑO EN SISTEMAS DE POTENCIA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00"/>
                </a:solidFill>
                <a:latin typeface="Arial"/>
              </a:rPr>
              <a:t>EL57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2: cocción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4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3: blanqueo ECF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351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3: blanqueo ECF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 pasta clasificada y lavada avanza hacia varias etapas de blanqueo, en las cuales se utilizan diferentes productos químicos, tales como dióxido de cloro, oxígeno, peróxido y soda cáustic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e busca eliminar el remanente de lignina contenida en la pasta -proceso ya iniciado en la etapa de cocción-, evitando una disminución de la resistencia de las fibr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3: blanqueo ECF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slignificación con oxígeno: consiste en aplicar altas dosis de oxígeno a la pasta café para producir la oxidación de la lign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residuo líquido procedente de la planta de blanqueo es conducido a la planta de tratamiento primario para su neutralización y filtrado antes de devolverlo a los río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4: secado y embalado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9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4: secado y embalad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Fourdrinier o mesa formadora de lámina: máquina que es accionada por varios rodillos que sacan el agua de la pulpa, dándole forma a la lámin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re-secadores : grandes cilindros en cuyo interior circula vapor a altas temperatur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ecadores principales: están equipados de diversos rodillos calientes que conducen la lámina a través de calentadores por convección y radiadores infrarroj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5: recuperación y energía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497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5: recuperación y energía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rtezas de rollizos, aserrines y astillas subdimensionadas, son transportados a las calderas de poder para ser aprovechados como combustible y generar vapo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licor negro  es compuesto principalmente de material orgánico disuelto (lignina) y sales residuales del licor blanc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roceso de concentrado consiste en flujos de vapor aplicados en contracorriente con el licor negro, bajo diferentes condiciones de temperatura y presió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5: recuperación y energí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l quemarse su parte orgánica se produce energía para generar vapor, y las cenizas resultantes se recuperan para producir el licor verd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licor verde :proviene, básicamente, de la ceniza originada por la combustión del licor neg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us principales compuestos químicos son sulfito de sodio (Na 2 S) y carbonato de sodio (Na 2 CO 3) mezclado con agua, el cual, luego de caustificarse y agregársele componentes químicos (principalmente cal viva –CaO) se regenera como licor blanc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6: tratamiento de efluentes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INDI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elulosa (Producción, Tipos, Utilidades, Materias Prim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ción de Celulosa en CMP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ón Prespan como aisla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ia de Celulosa en C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icación Geográf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ado Mund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6: tratamiento de efluent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larificador o piscina de decantación : su función es retirar los sólidos suspendidos. 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tapa de neutralización : se agregan aditivos químicos neutralizantes para que los residuos finales no sean ácidos ni alcalino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La Industria en Chi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le exportador de clase mundial : Condiciones climáticas y de suel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le presenta un 45% de su terreno apto para cultivo forest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cipal materia prima para la industria de la Celulosa el pino insig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SKP (fibra larga, pino insigne) : Principal celulosa producida (1.3 millones de T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KP : Otra celulosa que se produce en Chile (370 mil T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KP : 500 mil Ton de celulosa blanca de fibra cor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Plantas de Celulosa en Chi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76840" cy="3184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39640" y="5589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 Chile, las celulosas mecánicas son producidas por las plantas de papeles de diarios y cartulinas, para su consumo propio. Anualmente la producción alcanza 390 mil tonelad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356000" y="3068640"/>
            <a:ext cx="2095560" cy="13716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Plantas de Celulosa de CMPC en Chil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03848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duciendo con Calidad y Protegiendo el Medio Amb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lanta Laja: fibra larga, celulosa fluff en rol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lanta Pacifico: Celulosa Blanca de Fibra larga (pino insign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lanta Santa Fe: Celulosa Blanca de Fibra Corta (eucalipt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236000" y="3933720"/>
            <a:ext cx="1438200" cy="1876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093080" y="1484280"/>
            <a:ext cx="1438200" cy="1876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79280" y="5229360"/>
            <a:ext cx="6840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 debe cumplir con los niveles de exigencias ambientales que demanda un mercado competi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tas de celulosa de CMPC está respaldado por los Sistemas de Calidad ISO 900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eec94"/>
                </a:solidFill>
                <a:latin typeface="Arial"/>
              </a:rPr>
              <a:t>PRINCIPALES PRODUCTORES Y EXPORTADORES DE</a:t>
            </a:r>
            <a:br>
              <a:rPr sz="4000"/>
            </a:br>
            <a:r>
              <a:rPr b="1" lang="es-CL" sz="4000" spc="-1" strike="noStrike">
                <a:solidFill>
                  <a:srgbClr val="feec94"/>
                </a:solidFill>
                <a:latin typeface="Arial"/>
              </a:rPr>
              <a:t>CELULOSA EN EL MUNDO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19280" y="2055960"/>
          <a:ext cx="554508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055960"/>
                    <a:ext cx="554508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76720" y="2276640"/>
            <a:ext cx="4103640" cy="37573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Uso de derivados de Celulosa como Aislantes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teriales aislantes a base de papel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pel Aislant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ón Prespan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Normal, fino en hojas, rollos y cint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islamientos de combinaciones de Prespan para ranur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Piezas Estampadas Cuerpos de bobin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El Presp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 Aislante en capas, con base de celulosa para clase A de materiales aislantes; depende del tipo de celulos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istencia a descargas disruptivas y buena capacidad de impregnación con aceite de traf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presentan puntos de fusión, por lo que soportan altas cargas térmicas en tiempos cor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71640" y="1370160"/>
            <a:ext cx="7561080" cy="51958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Tipos estándar de Prespan en rollos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"/>
              </a:rPr>
              <a:t>F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0" y="45925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nuel Betanc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eonardo Pére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aller de Diseño en Potencia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La Celulos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4032000" cy="4890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292720" y="1268280"/>
            <a:ext cx="345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plantas verdes producen en sus hojas las sustancias para su crecimiento mediante el proceso de fotosíntesis, una compleja reacción química se lleva a cabo en la hoja con ayuda de la clorofila. Consiste en la combinación de la energía de la luz solar, el dióxido de carbono del aire y el agua absorbida del suelo para producir azúcares, tales como la glucos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Tipos de Celulos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932360" y="2924280"/>
            <a:ext cx="3143160" cy="2305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3143520" cy="2305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4360" y="1413000"/>
            <a:ext cx="8064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lulosa Mecánic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Proceso a través del cual la madera es molida y triturada mecánicamen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lulosa Químic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Cocción química de la madera con diferentes productos a altas temperaturas y pres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53737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lulosa Química                                          Celulosa cruda o Kra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249800" cy="4146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Utilidades de la Celulos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431964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lpa celulosa mecánica deshidratada (diarios, volant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lpa Celulosa Kraft blanqueada deshidratada(papeles fin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lpa Celulosa Kraft cruda deshidratada(cartones, envoltur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rdos de celulosa blanqueada(papeles fin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iegos de celulosa blanqueada(cartuli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iegos de celulosa cruda(envolturas, cartuli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rdos de celulosa cruda(carton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284720" y="1700280"/>
            <a:ext cx="4608360" cy="37576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Materias Prim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ificación según longitud fibras : Softwood y Hardwoo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ibilitan el uso de las maderas gracias a la disponibilidad y renov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ducción en Chile solo usa plantaciones renov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ncipales plantaciones usadas en Chile (pino insigne, eucalipt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Proceso de producción de celulosa kraft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84280" y="1600200"/>
            <a:ext cx="6175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La celulosa: fases de producción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75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Arial"/>
              </a:rPr>
              <a:t>Fase 1: preparación de la madera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1:05:30Z</dcterms:created>
  <dc:creator>Betalike</dc:creator>
  <dc:description/>
  <dc:language>en-US</dc:language>
  <cp:lastModifiedBy>ABOTTESELLE</cp:lastModifiedBy>
  <dcterms:modified xsi:type="dcterms:W3CDTF">2006-05-09T13:04:56Z</dcterms:modified>
  <cp:revision>30</cp:revision>
  <dc:subject/>
  <dc:title>LA CELULOSA</dc:title>
</cp:coreProperties>
</file>