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487-67B3-479E-8E4D-E5766B65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F02-1E83-4AE2-9710-1E474547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D24-5AE5-470E-862E-5681D7C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CCB-6546-4076-9E9A-21AF4C96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5676-EA24-4AED-AEE9-D03E3612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B72E-8211-4BFB-910F-03AC407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E9F5-69F4-4B41-A6F8-F1830DD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1C3-2335-4E44-9BDB-7C1A3E8D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73C-CC94-4F78-8C70-614A876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9CA-9324-4234-A9CA-1FAC3F05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E2E4-B983-4095-A4F0-A4F641A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E8D-564F-4986-838F-659D91E1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82FC-5990-4149-B4F7-9C06A8E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3508-E2A9-422E-8D6B-8346D52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10A-0F00-459A-9D34-EAA50DF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01A-E11F-4B8C-8F4C-A0B24E6F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8105-DB5B-4C11-AFA6-361EA0E9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688-A8C8-4F0C-AD40-C4DE570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970-9572-4D10-A1FC-A5C8B35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666-30BF-48BD-AEF6-D09CC8E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C69-D83B-4867-A1B9-C8BB799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1EE-354E-46C4-8F59-18C02523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EEF-426D-4468-8AC4-77E8AE7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D3B-FADD-428E-9F6D-06E461C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EE6-9E97-48C2-93F0-51E76201B10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7A9-1596-4E8A-B7F0-CD73E724ED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35640" y="2781360"/>
            <a:ext cx="3359160" cy="246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897440" cy="3591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784404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"/>
              </a:rPr>
              <a:t>LA CELULO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6400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Manuel Betan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Leonardo Pér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589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TALLER DE DISEÑO EN SISTEMAS DE POTENCIA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EL57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2: cocción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3: blanqueo ECF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35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3: blanqueo ECF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pasta clasificada y lavada avanza hacia varias etapas de blanqueo, en las cuales se utilizan diferentes productos químicos, tales como dióxido de cloro, oxígeno, peróxido y soda cáus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busca eliminar el remanente de lignina contenida en la pasta -proceso ya iniciado en la etapa de cocción-, evitando una disminución de la resistencia de las fib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3: blanqueo EC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lignificación con oxígeno: consiste en aplicar altas dosis de oxígeno a la pasta café para producir la oxidación de la lign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residuo líquido procedente de la planta de blanqueo es conducido a la planta de tratamiento primario para su neutralización y filtrado antes de devolverlo a los rí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4: secado y embalado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4: secado y embalad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ourdrinier o mesa formadora de lámina: máquina que es accionada por varios rodillos que sacan el agua de la pulpa, dándole forma a la lámi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e-secadores : grandes cilindros en cuyo interior circula vapor a altas temperatu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cadores principales: están equipados de diversos rodillos calientes que conducen la lámina a través de calentadores por convección y radiadores infrarroj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5: recuperación y energía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5: recuperación y energía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rtezas de rollizos, aserrines y astillas subdimensionadas, son transportados a las calderas de poder para ser aprovechados como combustible y generar vap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licor negro  es compuesto principalmente de material orgánico disuelto (lignina) y sales residuales del licor blan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ceso de concentrado consiste en flujos de vapor aplicados en contracorriente con el licor negro, bajo diferentes condiciones de temperatura y pres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5: recuperación y energí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 quemarse su parte orgánica se produce energía para generar vapor, y las cenizas resultantes se recuperan para producir el licor verd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licor verde :proviene, básicamente, de la ceniza originada por la combustión del licor neg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us principales compuestos químicos son sulfito de sodio (Na 2 S) y carbonato de sodio (Na 2 CO 3) mezclado con agua, el cual, luego de caustificarse y agregársele componentes químicos (principalmente cal viva –CaO) se regenera como licor blanc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6: tratamiento de efluente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INDI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lulosa (Producción, Tipos, Utilidades, Materias Prim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ción de Celulosa en CM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ón Prespan como aisl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 de Celulosa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icación Geográ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ad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6: tratamiento de efluen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larificador o piscina de decantación : su función es retirar los sólidos suspendidos.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tapa de neutralización : se agregan aditivos químicos neutralizantes para que los residuos finales no sean ácidos ni alcalin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La Industria en Chi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e exportador de clase mundial : Condiciones climáticas y de suel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e presenta un 45% de su terreno apto para cultivo fores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cipal materia prima para la industria de la Celulosa el pino insig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SKP (fibra larga, pino insigne) : Principal celulosa producida (1.3 millones de T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KP : Otra celulosa que se produce en Chile (370 mil T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KP : 500 mil Ton de celulosa blanca de fibra cor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lantas de Celulosa en Chi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76840" cy="3184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589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Chile, las celulosas mecánicas son producidas por las plantas de papeles de diarios y cartulinas, para su consumo propio. Anualmente la producción alcanza 390 mil tonela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356000" y="3068640"/>
            <a:ext cx="2095560" cy="1371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lantas de Celulosa de CMPC en Chi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iendo con Calidad y Protegiendo el Medio Amb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ta Laja: fibra larga, celulosa fluff en ro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ta Pacifico: Celulosa Blanca de Fibra larga (pino insig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ta Santa Fe: Celulosa Blanca de Fibra Corta (eucalip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236000" y="3933720"/>
            <a:ext cx="1438200" cy="1876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093080" y="1484280"/>
            <a:ext cx="1438200" cy="1876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9280" y="5229360"/>
            <a:ext cx="684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debe cumplir con los niveles de exigencias ambientales que demanda un mercado compet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as de celulosa de CMPC está respaldado por los Sistemas de Calidad ISO 900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eec94"/>
                </a:solidFill>
                <a:latin typeface="Arial"/>
              </a:rPr>
              <a:t>PRINCIPALES PRODUCTORES Y EXPORTADORES DE</a:t>
            </a:r>
            <a:br>
              <a:rPr sz="4000"/>
            </a:br>
            <a:r>
              <a:rPr b="1" lang="es-CL" sz="4000" spc="-1" strike="noStrike">
                <a:solidFill>
                  <a:srgbClr val="feec94"/>
                </a:solidFill>
                <a:latin typeface="Arial"/>
              </a:rPr>
              <a:t>CELULOSA EN EL MUNDO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2055960"/>
          <a:ext cx="5545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55960"/>
                    <a:ext cx="5545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4103640" cy="3757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Uso de derivados de Celulosa como Aislante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eriales aislantes a base de pap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pel Aislan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ón Prespan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Normal, fino en hojas, rollos y cint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islamientos de combinaciones de Prespan para ranur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Piezas Estampadas Cuerpos de bobin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El Presp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 Aislante en capas, con base de celulosa para clase A de materiales aislantes; depende del tipo de celulo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encia a descargas disruptivas y buena capacidad de impregnación con aceite de traf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presentan puntos de fusión, por lo que soportan altas cargas térmicas en tiempos co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370160"/>
            <a:ext cx="7561080" cy="5195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Tipos estándar de Prespan en rollo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F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0" y="45925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nuel Betanc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eonardo Pér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ller de Diseño en Potencia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La Celul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4032000" cy="4890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92720" y="126828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lantas verdes producen en sus hojas las sustancias para su crecimiento mediante el proceso de fotosíntesis, una compleja reacción química se lleva a cabo en la hoja con ayuda de la clorofila. Consiste en la combinación de la energía de la luz solar, el dióxido de carbono del aire y el agua absorbida del suelo para producir azúcares, tales como la gluco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ipos de Celul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14316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3520" cy="230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1413000"/>
            <a:ext cx="806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ulosa Mecáni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roceso a través del cual la madera es molida y triturada mecánica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ulosa Quími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Cocción química de la madera con diferentes productos a altas temperaturas y pre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5373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ulosa Química                                          Celulosa cruda o K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249800" cy="4146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Utilidades de la Celul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196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pa celulosa mecánica deshidratada (diarios, volan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pa Celulosa Kraft blanqueada deshidratada(papeles fin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pa Celulosa Kraft cruda deshidratada(cartones, envoltur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rdos de celulosa blanqueada(papeles fin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iegos de celulosa blanqueada(cartuli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iegos de celulosa cruda(envolturas, cartuli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rdos de celulosa cruda(carton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757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Materias Prim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ificación según longitud fibras : Softwood y Hardwoo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ibilitan el uso de las maderas gracias a la disponibilidad y renov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 en Chile solo usa plantaciones renov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ncipales plantaciones usadas en Chile (pino insigne, eucalipt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Proceso de producción de celulosa kraft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5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La celulosa: fases de producción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1: preparación de la madera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1:05:30Z</dcterms:created>
  <dc:creator>Betalike</dc:creator>
  <dc:description/>
  <dc:language>en-US</dc:language>
  <cp:lastModifiedBy>ABOTTESELLE</cp:lastModifiedBy>
  <dcterms:modified xsi:type="dcterms:W3CDTF">2006-05-09T13:04:56Z</dcterms:modified>
  <cp:revision>30</cp:revision>
  <dc:subject/>
  <dc:title>LA CELULOSA</dc:title>
</cp:coreProperties>
</file>