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610-839F-46D2-BA62-247DE72A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1CF8-C4C2-49C1-B152-75368260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4A0-3700-452D-A3F3-F323C08B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571-C8B9-4A75-ADC5-F230CE76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510-CE38-436B-9EA7-F7432CD5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F74-C42A-46D4-955C-8890B159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83D-FD48-411F-8B3B-92E04882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64D-E930-4300-9A76-1EAFAE7F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530-D8D5-41FF-8502-888B5F9C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CD5-72C7-4D55-B57D-7A918EBB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00E-11B0-45F2-9AAD-2C26F1D7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749-A968-4E55-9669-4B89B078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73E1-5AA6-49C3-A8A6-BBD24C4536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0880" y="26028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fracción Sís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6880" y="692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 Estratos Horizo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1557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2852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557360"/>
            <a:ext cx="503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2852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364000" y="1557360"/>
            <a:ext cx="576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1800" y="112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6072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5016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3800" y="11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141300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1800" y="112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1557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5573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2852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364000" y="206064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203640" y="16999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36400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4360" y="182088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5080" y="184464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24955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34160" y="2855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00000" y="4149720"/>
          <a:ext cx="244800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149720"/>
                    <a:ext cx="24480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95960" y="34290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y de S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580000" y="3789360"/>
          <a:ext cx="2833920" cy="306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789360"/>
                    <a:ext cx="283392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05092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26840" y="19890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619280" y="549360"/>
          <a:ext cx="6048360" cy="56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549360"/>
                    <a:ext cx="604836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71640" y="836640"/>
          <a:ext cx="719928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836640"/>
                    <a:ext cx="719928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7280" y="4437000"/>
          <a:ext cx="61930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437000"/>
                    <a:ext cx="61930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 flipV="1">
            <a:off x="1546200" y="105372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6200" y="335772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26840" y="549360"/>
            <a:ext cx="59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Camino-tiempo generada por ensayo de ref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23840" y="1001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72200" y="330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546200" y="2061720"/>
            <a:ext cx="1800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46560" y="1125360"/>
            <a:ext cx="2447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545840" y="206208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292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54200" y="2638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3856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7149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360" y="2925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3440" y="1773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36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720" y="14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4560" y="2494080"/>
            <a:ext cx="40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50880" y="26028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fracción Sís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6880" y="692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 Estratos Horizo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213372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342900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2133720"/>
            <a:ext cx="287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3429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64000" y="2133720"/>
            <a:ext cx="36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1800" y="170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35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452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2520" y="49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1989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1800" y="170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1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342900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342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3280" y="3428640"/>
            <a:ext cx="720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987640" y="2205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364000" y="234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1440" y="227664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227664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34160" y="3071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4160" y="3933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6840" y="2565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4797360"/>
            <a:ext cx="55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35280" y="3644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43280" y="371808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7800" y="378936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378936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4869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452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7440" y="17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29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38606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619280" y="1052640"/>
          <a:ext cx="586728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052640"/>
                    <a:ext cx="586728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241720" y="260280"/>
          <a:ext cx="4767120" cy="63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260280"/>
                    <a:ext cx="476712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98520" y="3333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y de S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6880" y="58770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55560" y="333360"/>
            <a:ext cx="59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Camino-tiempo generada por ensayo de ref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808360" y="1197000"/>
            <a:ext cx="0" cy="489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08360" y="609300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808360" y="4581000"/>
            <a:ext cx="93492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27280" y="3357720"/>
            <a:ext cx="208944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27640" y="2492280"/>
            <a:ext cx="3024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6692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98920" y="486900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68720" y="54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252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68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49800" y="4221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1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164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8328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3440" y="306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5852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47640" y="105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7380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35280" y="472428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34920" y="3429000"/>
            <a:ext cx="259236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03640" y="5013360"/>
            <a:ext cx="40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3789360"/>
          <a:ext cx="252072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789360"/>
                    <a:ext cx="25207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98100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os siguientes resultados de refracción sísmica (capas horizontales). Determine las velocidades de onda P y los espesores de cada estr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2080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40000" y="2133720"/>
          <a:ext cx="4465440" cy="3638520"/>
        </p:xfrm>
        <a:graphic>
          <a:graphicData uri="http://schemas.openxmlformats.org/drawingml/2006/table">
            <a:tbl>
              <a:tblPr/>
              <a:tblGrid>
                <a:gridCol w="1319040"/>
                <a:gridCol w="1319040"/>
                <a:gridCol w="18273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era llegada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ms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06960" y="6237360"/>
            <a:ext cx="339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ta:  ms = milisegundo =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40395" t="9791" r="14261" b="18042"/>
          <a:stretch/>
        </p:blipFill>
        <p:spPr>
          <a:xfrm>
            <a:off x="900000" y="352440"/>
            <a:ext cx="7056720" cy="6505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071240" y="33336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ción Método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4:07:15Z</dcterms:created>
  <dc:creator>Suelo</dc:creator>
  <dc:description/>
  <dc:language>en-US</dc:language>
  <cp:lastModifiedBy>K</cp:lastModifiedBy>
  <dcterms:modified xsi:type="dcterms:W3CDTF">2006-06-27T15:56:24Z</dcterms:modified>
  <cp:revision>5</cp:revision>
  <dc:subject/>
  <dc:title>Diapositiva 1</dc:title>
</cp:coreProperties>
</file>