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0778-E66B-4E90-9D37-9C8AFF8D7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FBF1-F0CC-4FD2-9A9F-7003D47CC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E41C-B408-4961-B3B6-26A249DFD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7C8DB-3793-4ECC-AC36-2CDCB29CC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CE24-C8AB-4719-8189-6E606F427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D8A3-DCD4-4FAA-8402-00A656B5D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4AFB-E10E-4401-A2D4-75518E8DE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649E-5AFA-4D5F-A1E5-70D636C80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16CC-333A-486E-B67E-241815E44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4282-43C4-48F0-B041-363680C98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64F8C-ED7D-410F-B17F-C01334580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D9DA-111F-47D0-9964-CA70D5A3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35EEA-2F57-4345-9278-7AC04F376FF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50880" y="260280"/>
            <a:ext cx="228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fracción Sísm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06880" y="692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2 Estratos Horizont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908000" y="1557360"/>
            <a:ext cx="554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08000" y="2852640"/>
            <a:ext cx="554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700360" y="1557360"/>
            <a:ext cx="5032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03640" y="2852640"/>
            <a:ext cx="21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V="1">
            <a:off x="5364000" y="1557360"/>
            <a:ext cx="57636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41800" y="1125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060720" y="2924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50160" y="285264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13800" y="1125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00360" y="1413000"/>
            <a:ext cx="331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141800" y="1125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00360" y="155736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700360" y="1557360"/>
            <a:ext cx="216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03640" y="285264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364000" y="2060640"/>
            <a:ext cx="36036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3203640" y="169992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5364000" y="1773360"/>
            <a:ext cx="0" cy="1079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4360" y="1820880"/>
            <a:ext cx="38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65080" y="1844640"/>
            <a:ext cx="38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4160" y="249552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734160" y="285588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900000" y="4149720"/>
          <a:ext cx="244800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4149720"/>
                    <a:ext cx="244800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5295960" y="342900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ey de S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5580000" y="3789360"/>
          <a:ext cx="2833920" cy="3068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80000" y="3789360"/>
                    <a:ext cx="2833920" cy="306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2050920" y="155736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626840" y="198900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1619280" y="549360"/>
          <a:ext cx="6048360" cy="566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549360"/>
                    <a:ext cx="6048360" cy="566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971640" y="836640"/>
          <a:ext cx="7199280" cy="391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836640"/>
                    <a:ext cx="7199280" cy="391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1187280" y="4437000"/>
          <a:ext cx="6193080" cy="136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4437000"/>
                    <a:ext cx="6193080" cy="136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"/>
          <p:cNvSpPr/>
          <p:nvPr/>
        </p:nvSpPr>
        <p:spPr>
          <a:xfrm flipV="1">
            <a:off x="1546200" y="1053720"/>
            <a:ext cx="0" cy="230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546200" y="3357720"/>
            <a:ext cx="540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626840" y="549360"/>
            <a:ext cx="599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va Camino-tiempo generada por ensayo de refra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023840" y="10018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72200" y="3305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1546200" y="2061720"/>
            <a:ext cx="180036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346560" y="1125360"/>
            <a:ext cx="2447640" cy="93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1545840" y="2062080"/>
            <a:ext cx="1800360" cy="719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122560" y="2925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554200" y="26384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138560" y="1773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47149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124360" y="29257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213440" y="177336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56360" y="2565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716720" y="148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14560" y="2494080"/>
            <a:ext cx="404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350880" y="260280"/>
            <a:ext cx="228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Refracción Sísm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6880" y="692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3 Estratos Horizont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08000" y="2133720"/>
            <a:ext cx="554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8000" y="3429000"/>
            <a:ext cx="554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00360" y="2133720"/>
            <a:ext cx="28728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03640" y="3429000"/>
            <a:ext cx="21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5364000" y="2133720"/>
            <a:ext cx="36036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341800" y="1701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60720" y="35002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94520" y="48690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02520" y="494172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700360" y="1989000"/>
            <a:ext cx="3095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41800" y="1701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00360" y="213372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987640" y="3429000"/>
            <a:ext cx="64764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03640" y="3429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643280" y="3428640"/>
            <a:ext cx="72072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2987640" y="220500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364000" y="234900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01440" y="2276640"/>
            <a:ext cx="38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92720" y="2276640"/>
            <a:ext cx="38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734160" y="307188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734160" y="393372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050920" y="213372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26840" y="2565360"/>
            <a:ext cx="418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835280" y="4797360"/>
            <a:ext cx="554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635280" y="364464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4643280" y="3718080"/>
            <a:ext cx="0" cy="1079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77800" y="3789360"/>
            <a:ext cx="38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716360" y="3789360"/>
            <a:ext cx="38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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05440" y="4869000"/>
            <a:ext cx="39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294520" y="3357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97440" y="17733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050920" y="342900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47640" y="386064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1619280" y="1052640"/>
          <a:ext cx="5867280" cy="369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052640"/>
                    <a:ext cx="5867280" cy="36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2241720" y="260280"/>
          <a:ext cx="4767120" cy="630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41720" y="260280"/>
                    <a:ext cx="4767120" cy="630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398520" y="333360"/>
            <a:ext cx="143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ey de Sn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6880" y="587700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al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555560" y="333360"/>
            <a:ext cx="599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va Camino-tiempo generada por ensayo de refrac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2808360" y="1197000"/>
            <a:ext cx="0" cy="489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808360" y="6093000"/>
            <a:ext cx="575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2808360" y="4581000"/>
            <a:ext cx="934920" cy="151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3527280" y="3357720"/>
            <a:ext cx="2089440" cy="136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5327640" y="2492280"/>
            <a:ext cx="302436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166920" y="5445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3598920" y="4869000"/>
            <a:ext cx="144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168720" y="54450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602520" y="5013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48000" y="4221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680000" y="3933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249800" y="42210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681800" y="3860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1640" y="306864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98328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553440" y="30686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05852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447640" y="10526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173800" y="6237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2735280" y="4724280"/>
            <a:ext cx="79200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2734920" y="3429000"/>
            <a:ext cx="2592360" cy="792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303640" y="5013360"/>
            <a:ext cx="404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250920" y="3789360"/>
          <a:ext cx="2520720" cy="6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3789360"/>
                    <a:ext cx="252072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826920" y="981000"/>
            <a:ext cx="758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los siguientes resultados de refracción sísmica (capas horizontales). Determine las velocidades de onda P y los espesores de cada estra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267080" y="208080"/>
            <a:ext cx="134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ema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340000" y="2133720"/>
          <a:ext cx="4465440" cy="3638520"/>
        </p:xfrm>
        <a:graphic>
          <a:graphicData uri="http://schemas.openxmlformats.org/drawingml/2006/table">
            <a:tbl>
              <a:tblPr/>
              <a:tblGrid>
                <a:gridCol w="1319040"/>
                <a:gridCol w="1319040"/>
                <a:gridCol w="182736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istanc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empo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X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mera llegada, 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[m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[ms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0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1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,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2406960" y="6237360"/>
            <a:ext cx="339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Nota:  ms = milisegundo = 10</a:t>
            </a:r>
            <a:r>
              <a:rPr b="0" lang="es-ES" sz="1400" spc="-1" strike="noStrike" baseline="30000">
                <a:solidFill>
                  <a:srgbClr val="000000"/>
                </a:solidFill>
                <a:latin typeface="Arial"/>
              </a:rPr>
              <a:t>-3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segun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rcRect l="40395" t="9791" r="14261" b="18042"/>
          <a:stretch/>
        </p:blipFill>
        <p:spPr>
          <a:xfrm>
            <a:off x="900000" y="352440"/>
            <a:ext cx="7056720" cy="65055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4071240" y="333360"/>
            <a:ext cx="26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ción Método gráf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3T14:07:15Z</dcterms:created>
  <dc:creator>Suelo</dc:creator>
  <dc:description/>
  <dc:language>en-US</dc:language>
  <cp:lastModifiedBy>K</cp:lastModifiedBy>
  <dcterms:modified xsi:type="dcterms:W3CDTF">2006-06-27T15:56:24Z</dcterms:modified>
  <cp:revision>5</cp:revision>
  <dc:subject/>
  <dc:title>Diapositiva 1</dc:title>
</cp:coreProperties>
</file>