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E40-EA53-41E2-833D-61120F26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65A-8D52-4864-93C3-48B26839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FDAA-B374-4763-A510-4840963D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966-7926-4CD1-AA06-1C3E6E90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5CF-3A42-49B9-9E20-23190CED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B93-678B-4CAC-B48A-76254764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610-F28A-4AE9-AC5C-F8507AB5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ECA-6A6F-4A88-9F1C-F32E3D21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B37-5B86-4651-AA42-48D05758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A28-6460-4BE5-A5D6-1D991FE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6DB-DC7C-4151-8973-CDDA6BE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F9E-5397-4757-998B-6AB4146F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E80D-C1C1-40DD-BAF0-46CA38CA5C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0880" y="26028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fracción Sís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6880" y="692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Estrato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1557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852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557360"/>
            <a:ext cx="503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2852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364000" y="1557360"/>
            <a:ext cx="576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1800" y="112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6072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50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3800" y="11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141300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1800" y="112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155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5573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85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364000" y="206064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03640" y="16999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36400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4360" y="182088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5080" y="184464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24955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4160" y="2855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4149720"/>
          <a:ext cx="244800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149720"/>
                    <a:ext cx="24480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95960" y="34290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y de S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580000" y="3789360"/>
          <a:ext cx="2833920" cy="306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789360"/>
                    <a:ext cx="283392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05092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26840" y="19890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619280" y="549360"/>
          <a:ext cx="604836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549360"/>
                    <a:ext cx="604836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71640" y="836640"/>
          <a:ext cx="719928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836640"/>
                    <a:ext cx="71992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7280" y="4437000"/>
          <a:ext cx="61930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437000"/>
                    <a:ext cx="61930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 flipV="1">
            <a:off x="1546200" y="105372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6200" y="335772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26840" y="549360"/>
            <a:ext cx="59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Camino-tiempo generada por ensayo de ref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23840" y="1001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72200" y="33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546200" y="2061720"/>
            <a:ext cx="1800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46560" y="1125360"/>
            <a:ext cx="2447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545840" y="206208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292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54200" y="2638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3856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149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360" y="2925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3440" y="1773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36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720" y="14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4560" y="249408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50880" y="26028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fracción Sís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6880" y="692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 Estrato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213372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342900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2133720"/>
            <a:ext cx="287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3429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64000" y="2133720"/>
            <a:ext cx="36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1800" y="170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452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2520" y="49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1989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1800" y="170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1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3429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342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3280" y="3428640"/>
            <a:ext cx="720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987640" y="2205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36400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1440" y="227664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227664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4160" y="3071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4160" y="3933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6840" y="2565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4797360"/>
            <a:ext cx="55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35280" y="3644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43280" y="37180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7800" y="378936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378936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4869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45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7440" y="17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29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8606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619280" y="1052640"/>
          <a:ext cx="586728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52640"/>
                    <a:ext cx="586728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241720" y="260280"/>
          <a:ext cx="476712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260280"/>
                    <a:ext cx="476712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98520" y="3333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y de S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6880" y="58770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55560" y="333360"/>
            <a:ext cx="59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Camino-tiempo generada por ensayo de ref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08360" y="119700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08360" y="609300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08360" y="4581000"/>
            <a:ext cx="93492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27280" y="3357720"/>
            <a:ext cx="208944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27640" y="2492280"/>
            <a:ext cx="3024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6692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98920" y="486900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68720" y="54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252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68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49800" y="4221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1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164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8328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3440" y="306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58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47640" y="105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7380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35280" y="472428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34920" y="3429000"/>
            <a:ext cx="259236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3640" y="501336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789360"/>
          <a:ext cx="252072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789360"/>
                    <a:ext cx="25207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98100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os siguientes resultados de refracción sísmica (capas horizontales). Determine las velocidades de onda P y los espesores de cada estr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080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40000" y="2133720"/>
          <a:ext cx="4465440" cy="3638520"/>
        </p:xfrm>
        <a:graphic>
          <a:graphicData uri="http://schemas.openxmlformats.org/drawingml/2006/table">
            <a:tbl>
              <a:tblPr/>
              <a:tblGrid>
                <a:gridCol w="1319040"/>
                <a:gridCol w="1319040"/>
                <a:gridCol w="18273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era llegada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ms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06960" y="6237360"/>
            <a:ext cx="33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ta:  ms = milisegundo =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40395" t="9791" r="14261" b="18042"/>
          <a:stretch/>
        </p:blipFill>
        <p:spPr>
          <a:xfrm>
            <a:off x="900000" y="352440"/>
            <a:ext cx="7056720" cy="6505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071240" y="33336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ción Método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4:07:15Z</dcterms:created>
  <dc:creator>Suelo</dc:creator>
  <dc:description/>
  <dc:language>en-US</dc:language>
  <cp:lastModifiedBy>K</cp:lastModifiedBy>
  <dcterms:modified xsi:type="dcterms:W3CDTF">2006-06-27T15:56:24Z</dcterms:modified>
  <cp:revision>5</cp:revision>
  <dc:subject/>
  <dc:title>Diapositiva 1</dc:title>
</cp:coreProperties>
</file>