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29A-34F5-45E9-8CBE-63741AAC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C58-3D6F-4DBB-A79B-DA284534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081-EE54-4D29-90A7-10676C68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116-FF5C-45A4-A98B-8147DC01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797-3DA0-4EBD-AEC3-3B15813E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6E5-C2D0-4F37-940F-BBB94E6E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619-DD5A-45A9-9F80-3A6CD868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AFB-2262-4D93-90E6-89BDA2E8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8AC-26B6-48D2-BBCA-FA61561C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FC38-216A-4016-B368-7141AEC7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AB6-417F-4F3E-8DE3-152D3EAA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328-3E04-4199-96BA-9CEAA624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A244-BA5F-4851-A555-525E84147AE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Transferencia de Energía</a:t>
            </a:r>
            <a:br>
              <a:rPr sz="5400"/>
            </a:br>
            <a:br>
              <a:rPr sz="5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alor de fermentación y balance de ener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228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er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eptos b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ermentaciones se deben llevar a cabo con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ltivos pur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ado que la presencia de otros microorganismos puede producir competencia por los nutrientes y/o producción de compuestos que inhiban la producción de productos de interés, por ello se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cesita que al inic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 fermentación el sistema se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cuentre libre de m.o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 procesos que necesitan que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s efluentes se encuentren libre de m.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es el caso de las etapas finales de los procesos de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tamientos de agua servi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Les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228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444600" indent="-4446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antener las condiciones de asepsia se pueden  aplicar procesos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spcBef>
                <a:spcPts val="15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terilización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rradicación, remoción, destrucción o inactivación de todo tipo de vida, de tal manera que las células remanentes no puedan reproducirse, es decir, una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liminación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la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apacidad de reproducción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spcBef>
                <a:spcPts val="15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infección: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moción, destrucción o inactivación de esas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élula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que podrían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ausar  deterioro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n el medio (no todas las célul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 algn="just">
              <a:spcBef>
                <a:spcPts val="15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teurización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moción, destrucción o inactivación de todo los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atógenos viables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naturales por medio de tratamiento térmico tanto para sólidos como líquidos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28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53160" indent="-35316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lementos que se deben ester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-35316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rme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-35316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acceso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16280" indent="-2206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gu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16280" indent="-2206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16280" indent="-2206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it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16280" indent="-2206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-35316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o de cul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-35316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e que circula por el fermentad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16280" indent="-2206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16280" indent="-2206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57400" y="152280"/>
            <a:ext cx="46483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</a:rPr>
              <a:t>Métodos de esteri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" y="685800"/>
            <a:ext cx="8305560" cy="6172200"/>
            <a:chOff x="457200" y="685800"/>
            <a:chExt cx="8305560" cy="6172200"/>
          </a:xfrm>
        </p:grpSpPr>
        <p:grpSp>
          <p:nvGrpSpPr>
            <p:cNvPr id="60" name=""/>
            <p:cNvGrpSpPr/>
            <p:nvPr/>
          </p:nvGrpSpPr>
          <p:grpSpPr>
            <a:xfrm>
              <a:off x="462600" y="690480"/>
              <a:ext cx="8292960" cy="6162480"/>
              <a:chOff x="462600" y="690480"/>
              <a:chExt cx="8292960" cy="616248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462600" y="690480"/>
                <a:ext cx="1783440" cy="602280"/>
                <a:chOff x="462600" y="690480"/>
                <a:chExt cx="1783440" cy="6022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516600" y="690480"/>
                  <a:ext cx="167508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éto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62600" y="690480"/>
                  <a:ext cx="178344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2246400" y="690480"/>
                <a:ext cx="1455840" cy="602280"/>
                <a:chOff x="2246400" y="690480"/>
                <a:chExt cx="1455840" cy="60228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2300400" y="690480"/>
                  <a:ext cx="134748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dicio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246400" y="690480"/>
                  <a:ext cx="145584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3702960" y="690480"/>
                <a:ext cx="2086200" cy="602280"/>
                <a:chOff x="3702960" y="690480"/>
                <a:chExt cx="2086200" cy="6022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3756960" y="690480"/>
                  <a:ext cx="197784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s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702960" y="690480"/>
                  <a:ext cx="208620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789520" y="690480"/>
                <a:ext cx="2966040" cy="602280"/>
                <a:chOff x="5789520" y="690480"/>
                <a:chExt cx="2966040" cy="6022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843520" y="690480"/>
                  <a:ext cx="2858040" cy="60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bservacion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789520" y="690480"/>
                  <a:ext cx="2966040" cy="60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62600" y="1292760"/>
                <a:ext cx="1783440" cy="926280"/>
                <a:chOff x="462600" y="1292760"/>
                <a:chExt cx="1783440" cy="926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16600" y="1292760"/>
                  <a:ext cx="167508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Calor Húme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(Vapor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62600" y="1292760"/>
                  <a:ext cx="1783440" cy="92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246400" y="1292760"/>
                <a:ext cx="1455840" cy="926280"/>
                <a:chOff x="2246400" y="1292760"/>
                <a:chExt cx="1455840" cy="9262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300400" y="1292760"/>
                  <a:ext cx="134748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1°C (250F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 ps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 minuto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246400" y="1292760"/>
                  <a:ext cx="1455840" cy="92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3702960" y="1292760"/>
                <a:ext cx="2086200" cy="926280"/>
                <a:chOff x="3702960" y="1292760"/>
                <a:chExt cx="2086200" cy="9262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756960" y="1292760"/>
                  <a:ext cx="197784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Medios Líqui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Sóli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02960" y="1292760"/>
                  <a:ext cx="2086200" cy="92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5789520" y="1292760"/>
                <a:ext cx="2966040" cy="926280"/>
                <a:chOff x="5789520" y="1292760"/>
                <a:chExt cx="2966040" cy="9262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5843520" y="1292760"/>
                  <a:ext cx="285804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Eficiente</a:t>
                  </a:r>
                  <a:r>
                    <a:rPr b="0" lang="es-ES_tradnl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789520" y="1292760"/>
                  <a:ext cx="2966040" cy="92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62600" y="2219400"/>
                <a:ext cx="1783440" cy="926640"/>
                <a:chOff x="462600" y="2219400"/>
                <a:chExt cx="1783440" cy="9266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16600" y="2219400"/>
                  <a:ext cx="1675080" cy="9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or Sec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62600" y="2219400"/>
                  <a:ext cx="1783440" cy="92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246400" y="2219400"/>
                <a:ext cx="1455840" cy="926640"/>
                <a:chOff x="2246400" y="2219400"/>
                <a:chExt cx="1455840" cy="9266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300400" y="2219400"/>
                  <a:ext cx="1347480" cy="9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°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hora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246400" y="2219400"/>
                  <a:ext cx="1455840" cy="92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702960" y="2219400"/>
                <a:ext cx="2086200" cy="926640"/>
                <a:chOff x="3702960" y="2219400"/>
                <a:chExt cx="2086200" cy="9266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756960" y="2219400"/>
                  <a:ext cx="1977840" cy="9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ementos de Vid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02960" y="2219400"/>
                  <a:ext cx="2086200" cy="92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789520" y="2219400"/>
                <a:ext cx="2966040" cy="926640"/>
                <a:chOff x="5789520" y="2219400"/>
                <a:chExt cx="2966040" cy="9266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843520" y="2219400"/>
                  <a:ext cx="2858040" cy="9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ás caro que el calor húmedo y más lento, dado que los m.o son más resistentes al calor seco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789520" y="2219400"/>
                  <a:ext cx="2966040" cy="92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62600" y="3146400"/>
                <a:ext cx="1783440" cy="764280"/>
                <a:chOff x="462600" y="3146400"/>
                <a:chExt cx="1783440" cy="7642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16600" y="3146400"/>
                  <a:ext cx="16750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ff0000"/>
                      </a:solidFill>
                      <a:latin typeface="Times New Roman"/>
                    </a:rPr>
                    <a:t>Filtració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62600" y="3146400"/>
                  <a:ext cx="178344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2246400" y="3146400"/>
                <a:ext cx="1455840" cy="764280"/>
                <a:chOff x="2246400" y="3146400"/>
                <a:chExt cx="1455840" cy="764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300400" y="3146400"/>
                  <a:ext cx="13474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2 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46400" y="3146400"/>
                  <a:ext cx="145584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3702960" y="3146400"/>
                <a:ext cx="2086200" cy="764280"/>
                <a:chOff x="3702960" y="3146400"/>
                <a:chExt cx="2086200" cy="7642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3756960" y="3146400"/>
                  <a:ext cx="19778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702960" y="3146400"/>
                  <a:ext cx="20862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5789520" y="3146400"/>
                <a:ext cx="2966040" cy="764280"/>
                <a:chOff x="5789520" y="3146400"/>
                <a:chExt cx="2966040" cy="7642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5843520" y="3146400"/>
                  <a:ext cx="28580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a productos sensibles a la temperatura, tales como enzimas, aire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789520" y="3146400"/>
                  <a:ext cx="296604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462600" y="3910680"/>
                <a:ext cx="1783440" cy="1088640"/>
                <a:chOff x="462600" y="3910680"/>
                <a:chExt cx="1783440" cy="1088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16600" y="3910680"/>
                  <a:ext cx="1675080" cy="108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gentes Quím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62600" y="3910680"/>
                  <a:ext cx="1783440" cy="108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2246400" y="3910680"/>
                <a:ext cx="1455840" cy="1088640"/>
                <a:chOff x="2246400" y="3910680"/>
                <a:chExt cx="1455840" cy="10886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300400" y="3910680"/>
                  <a:ext cx="1347480" cy="108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246400" y="3910680"/>
                  <a:ext cx="1455840" cy="108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3702960" y="3910680"/>
                <a:ext cx="2086200" cy="1088640"/>
                <a:chOff x="3702960" y="3910680"/>
                <a:chExt cx="2086200" cy="10886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756960" y="3910680"/>
                  <a:ext cx="1977840" cy="108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utiliza en medios, pues puede permanecer e inhabilitar el crecimiento de los m.o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02960" y="3910680"/>
                  <a:ext cx="2086200" cy="108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789520" y="3910680"/>
                <a:ext cx="2966040" cy="1088640"/>
                <a:chOff x="5789520" y="3910680"/>
                <a:chExt cx="2966040" cy="10886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843520" y="3910680"/>
                  <a:ext cx="2858040" cy="108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pacidad Oxidativa o alcalina:       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Cloració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que requiere de etapas 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teriores para eliminar el cloro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</a:t>
                  </a:r>
                  <a:r>
                    <a:rPr b="0" lang="es-ES_tradnl" sz="14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Ozonificació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789520" y="3910680"/>
                  <a:ext cx="2966040" cy="108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62600" y="4999680"/>
                <a:ext cx="1783440" cy="926280"/>
                <a:chOff x="462600" y="4999680"/>
                <a:chExt cx="1783440" cy="926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516600" y="4999680"/>
                  <a:ext cx="167508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cánic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62600" y="4999680"/>
                  <a:ext cx="1783440" cy="92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246400" y="4999680"/>
                <a:ext cx="1455840" cy="926280"/>
                <a:chOff x="2246400" y="4999680"/>
                <a:chExt cx="1455840" cy="926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300400" y="4999680"/>
                  <a:ext cx="134748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246400" y="4999680"/>
                  <a:ext cx="1455840" cy="92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702960" y="4999680"/>
                <a:ext cx="2086200" cy="926280"/>
                <a:chOff x="3702960" y="4999680"/>
                <a:chExt cx="2086200" cy="926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756960" y="4999680"/>
                  <a:ext cx="197784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702960" y="4999680"/>
                  <a:ext cx="2086200" cy="92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5789520" y="4999680"/>
                <a:ext cx="2966040" cy="926280"/>
                <a:chOff x="5789520" y="4999680"/>
                <a:chExt cx="2966040" cy="9262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843520" y="4999680"/>
                  <a:ext cx="285804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ib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ltrasonid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ntrifugación a alta velocida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789520" y="4999680"/>
                  <a:ext cx="2966040" cy="92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62600" y="5926320"/>
                <a:ext cx="1783440" cy="926640"/>
                <a:chOff x="462600" y="5926320"/>
                <a:chExt cx="1783440" cy="926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16600" y="5926320"/>
                  <a:ext cx="1675080" cy="9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diación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ltraviole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yos X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62600" y="5926320"/>
                  <a:ext cx="1783440" cy="92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2246400" y="5926320"/>
                <a:ext cx="1455840" cy="926640"/>
                <a:chOff x="2246400" y="5926320"/>
                <a:chExt cx="1455840" cy="9266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300400" y="5926320"/>
                  <a:ext cx="1347480" cy="9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246400" y="5926320"/>
                  <a:ext cx="1455840" cy="92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702960" y="5926320"/>
                <a:ext cx="2086200" cy="926640"/>
                <a:chOff x="3702960" y="5926320"/>
                <a:chExt cx="2086200" cy="926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756960" y="5926320"/>
                  <a:ext cx="1977840" cy="9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702960" y="5926320"/>
                  <a:ext cx="2086200" cy="92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789520" y="5926320"/>
                <a:ext cx="2966040" cy="926640"/>
                <a:chOff x="5789520" y="5926320"/>
                <a:chExt cx="2966040" cy="9266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843520" y="5926320"/>
                  <a:ext cx="2858040" cy="92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gradación del D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tilizada en tratamiento de efluentes con flujos bajo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789520" y="5926320"/>
                  <a:ext cx="2966040" cy="92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457200" y="685800"/>
              <a:ext cx="8305560" cy="6172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erilización de aire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30492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sterilización de 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ermentadores se necesita suministrar aire a velocidades del orden de 0.5 vvm (volumenes de aire por volumen de fermentador por minuto).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tilizar calentamiento resulta impractic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centración standard de m.o en el aire es del orden de 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.o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étodos más utilizados para realizar una esterilización del aire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ros profu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ros de membrana (absolu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0880" y="380880"/>
            <a:ext cx="5029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iltros profun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filtros que se encuentran rellenos de vibra de vidrio que presenta la ventaja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comprimen mu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tienen hum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s combust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incipio de estos filtros es que se produzca un contacto entre los m.o. y la fibra, este contacto puede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Intercepción dir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Impacto por iner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Flujo turbulento del 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 Movimientos Browniano (Difus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Atracción electrostátic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0" y="533520"/>
          <a:ext cx="7905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533520"/>
                    <a:ext cx="790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724280" y="4419720"/>
          <a:ext cx="4419720" cy="15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4419720"/>
                    <a:ext cx="441972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38088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ecaimiento del número de m.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decaimiento del número de m.o dependerá de la profundidad del lecho, resultando una variación de primer o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25520" y="1873080"/>
                <a:ext cx="20257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3962520" y="2895480"/>
          <a:ext cx="4992480" cy="34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895480"/>
                    <a:ext cx="499248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57200" y="3733920"/>
            <a:ext cx="335268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mero de m.o a la entrada y salida, respectivament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mente se utilizan filtros de 1 a 2 metros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0720" y="838080"/>
            <a:ext cx="708660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eficiencia de un filtro,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en base al largo necesario para alcanzar el x% de remoción de m.o. Generalmente se tabular para 90% de remoción. As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000" spc="-1" strike="noStrike">
                <a:solidFill>
                  <a:srgbClr val="ff0000"/>
                </a:solidFill>
                <a:latin typeface="Symbol"/>
                <a:ea typeface="Symbol"/>
              </a:rPr>
              <a:t>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N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N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/N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1 – N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/N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1- exp (-k*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desea una eficiencia del 90% se reporta L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609480"/>
            <a:ext cx="8382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iltros de membrana (absolu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membranas que tienen un determinado tamaño de poros, pero resulta prácticamente imposible construir un filtro para aire donde el tamaño de poros este control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mente oscilan entre 0.5-1.0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y 0.22-0.45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mente son de Polivinilalcohol (P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ventaja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pequeña caída de presión produce una gran efic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n frágiles y de corta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fuentes de aire deben estar libres de aceite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228600"/>
            <a:ext cx="8229600" cy="58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alor  de fer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etabolismo celular es una reacción global exotérmica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i se desea trabajar a una temperatura constante se debe REMOVER el calor  de la fer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¿ Cómo calcular el Calor de fer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calor de fermentación, 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, se puede calcular en base  a balances de energía en los cuales se consider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La oxidación d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ormación d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lgunas formas simples de estimación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erilización Química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380880"/>
            <a:ext cx="7696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sterilización Quí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 se utiliza ampliament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do que la mayoría de los desinfectantes tienen baja acción. Adicionalmente pueden interferir en el crecimiento de los m.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uscan agente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úen en forma ráp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an ca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an inflam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an explo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an tóx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ás utilizado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opiolact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o de etileno (en medio f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nol o compuestos fenílicos (Crestol, ortofenil fen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es: Etanol, Metan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ógenos: Hipoclorito, Cloroaminas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ERILIZACIÓN DE MEDIOS LÍQUI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-360" y="2282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286200" indent="-286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inética de muerte de los microorganis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6200" indent="-286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6200" indent="-286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inética de inactivación  de los m.o es una cinética de primer orden respecta al número de m.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6200" indent="-286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xpresa como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6200" indent="-286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/dt =  - k</a:t>
            </a:r>
            <a:r>
              <a:rPr b="1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6200" indent="-286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6200" indent="-286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6200" indent="-286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: Número de m.o en el tiemp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6200" indent="-286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onstante de decaimiento o muert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6200" indent="-286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función de la temperatura,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ción de agentes nocivos (cloro, ozono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6200" indent="-286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dependencia con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6200" indent="-28620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a es del tipo Arrhenius: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6200" indent="-286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562720" y="1828800"/>
          <a:ext cx="327636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828800"/>
                    <a:ext cx="32763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410080" y="5486400"/>
                <a:ext cx="19940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ΔE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-360" y="2282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integra la expresión (1)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917640" y="631800"/>
                <a:ext cx="67150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2" name=""/>
          <p:cNvGrpSpPr/>
          <p:nvPr/>
        </p:nvGrpSpPr>
        <p:grpSpPr>
          <a:xfrm>
            <a:off x="457200" y="2286000"/>
            <a:ext cx="7696080" cy="2498040"/>
            <a:chOff x="457200" y="2286000"/>
            <a:chExt cx="7696080" cy="2498040"/>
          </a:xfrm>
        </p:grpSpPr>
        <p:sp>
          <p:nvSpPr>
            <p:cNvPr id="173" name=""/>
            <p:cNvSpPr/>
            <p:nvPr/>
          </p:nvSpPr>
          <p:spPr>
            <a:xfrm>
              <a:off x="457200" y="2286000"/>
              <a:ext cx="7696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 se trabaja a temperatura constante se tien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5800" y="4343400"/>
              <a:ext cx="6400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nde 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es el </a:t>
              </a:r>
              <a:r>
                <a:rPr b="1" lang="es-ES_tradnl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número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 m.o iniciales en el sistem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3137040" y="3164040"/>
                  <a:ext cx="226836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22860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ámetros de las cinéticas de desactivación de diferentes m.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9480" y="1397160"/>
          <a:ext cx="8000640" cy="4898880"/>
        </p:xfrm>
        <a:graphic>
          <a:graphicData uri="http://schemas.openxmlformats.org/drawingml/2006/table">
            <a:tbl>
              <a:tblPr/>
              <a:tblGrid>
                <a:gridCol w="3018960"/>
                <a:gridCol w="980280"/>
                <a:gridCol w="2000880"/>
                <a:gridCol w="2000520"/>
              </a:tblGrid>
              <a:tr h="148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organism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°C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ante  deca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</a:t>
                      </a:r>
                      <a:r>
                        <a:rPr b="0" lang="es-ES_tradnl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ía de activ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es-ES_tradnl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cal/mo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sporas de B.subtilis</a:t>
                      </a:r>
                      <a:r>
                        <a:rPr b="1" lang="es-ES_tradnl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00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.stearothermophilu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.Botulinum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coli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oras en gener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838080" y="914400"/>
          <a:ext cx="32004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32004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4800600" y="990720"/>
            <a:ext cx="4343400" cy="5199480"/>
            <a:chOff x="4800600" y="990720"/>
            <a:chExt cx="4343400" cy="5199480"/>
          </a:xfrm>
        </p:grpSpPr>
        <p:graphicFrame>
          <p:nvGraphicFramePr>
            <p:cNvPr id="181" name=""/>
            <p:cNvGraphicFramePr/>
            <p:nvPr/>
          </p:nvGraphicFramePr>
          <p:xfrm>
            <a:off x="4800600" y="990720"/>
            <a:ext cx="3154320" cy="42670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00600" y="990720"/>
                      <a:ext cx="315432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4800600" y="5486400"/>
              <a:ext cx="4343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aración de Cinéticas de decaimiento a diferentes  temperatura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57200" y="55627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ción de cinéticas de decaimiento de diferentes m.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Más res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85800" y="380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eño de procesos de esteri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el factor “DEL”,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ot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Ln (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es-ES_tradn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úmer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microorganismos ini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úmero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microorganismos fin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ndo la ec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276720" y="3200400"/>
                <a:ext cx="2268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95480" y="5334120"/>
                <a:ext cx="29257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762120"/>
            <a:ext cx="830592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riterios de diseñ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 se conoce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truir las espo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posibilidad de esterilidad absolu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e espera que sobreviva a lo más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poras, 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de 1000 fermentaciones se contamine (Nt = 1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poras). Puede usarse otro crite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esterilidad inicial es desconocida, se asume una concentración, [N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 del orden de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0" lang="es-E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esporas/ml (10</a:t>
            </a:r>
            <a:r>
              <a:rPr b="0" lang="es-E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esporas/m</a:t>
            </a:r>
            <a:r>
              <a:rPr b="0" lang="es-E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09480" y="3808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cesos de esterilización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so de esterilización comprende tres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apa de cale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Etapa de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apa de enfr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o tanto el factor  “DEL” pue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irse en estas tres etap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23880" y="4456080"/>
                <a:ext cx="37512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lentamient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ntenció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friamient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85800" y="5181480"/>
            <a:ext cx="59436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 ser llevado a cabo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495680" y="1219320"/>
          <a:ext cx="441972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219320"/>
                    <a:ext cx="441972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172200" y="2743200"/>
            <a:ext cx="9144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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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686800" y="2362320"/>
            <a:ext cx="4572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105160" y="220968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34320" y="2438280"/>
            <a:ext cx="380880" cy="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324480" y="1676520"/>
            <a:ext cx="76320" cy="2057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1676520"/>
            <a:ext cx="76320" cy="20574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28600"/>
            <a:ext cx="8229600" cy="62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ermentaciones anaero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e considera que la fracción de sustrato que se convierte a células es muy pequeña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R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Calor de reacción de la secuencia metabólica principal. Este calor se calcula por los métodos termodinámicos clásicos, basados en calores de combustión y 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ermentaciones aero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s indispensable considerar la formación de bio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Una forma simplificada es la propuesta por Cooney et al. (1968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0.12 * N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O2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milimoles/ l h]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O2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Demanda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09120" y="3805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erilización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etapas de calentamiento y/o enfriamiento pueden ser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 Cale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Vapor Directo (Modelo hiperból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 Resistencia Eléctrica (Modelo Line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 Camisa de calefacción con fuente isotérmico (Modelo Exponen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143000" y="2971800"/>
          <a:ext cx="6732720" cy="29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971800"/>
                    <a:ext cx="673272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838080" y="51055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Va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1320" y="5334120"/>
            <a:ext cx="198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amisa de Va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5943600"/>
            <a:ext cx="1295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Resistencia Eléct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09120" y="3805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erilización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a Enfr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    Camisa de enfriamiento alimentada con fuente no-isotérmica y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recirculación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4495680"/>
            <a:ext cx="19810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</a:rPr>
              <a:t>Camisa de </a:t>
            </a: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Enfr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305160" y="2281320"/>
          <a:ext cx="253368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5160" y="2281320"/>
                    <a:ext cx="25336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09480" y="380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Los factores “DEL”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371600"/>
            <a:ext cx="769608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lentamiento o enfriamie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la temperatura es una función del tiempo, ie. T = f(t)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 del tipo de calentamiento o enfriamiento utiliz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nten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nten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822320" y="1925640"/>
                <a:ext cx="44643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alentamiento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nfriamiento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ΔE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erfiles de temperatura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762120"/>
            <a:ext cx="868680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   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 vapor directo (Modelo hiperból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T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(H * m</a:t>
            </a:r>
            <a:r>
              <a:rPr b="1" lang="es-ES_tradnl" sz="2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t)/ (c* (M+m</a:t>
            </a:r>
            <a:r>
              <a:rPr b="1" lang="es-ES_tradnl" sz="2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t)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emperatura absoluta inicial del medio [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calor específico del medio [J/Kg 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: Entalpía del vapor relativa a la temperatura del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H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resión saturació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H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Tªmedio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J/K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Flujo másico de vapor [kg/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: Masa inicial de medio a esterilizar [k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678720" y="3124080"/>
          <a:ext cx="16081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78720" y="3124080"/>
                    <a:ext cx="16081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6781680" y="5867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1880" y="4191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erfiles de temperatura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1752480"/>
            <a:ext cx="8763120" cy="30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 flujo de calor constante, resistencia eléctrica (Modelo Line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To + q* t/(c* M)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emperatura absoluta inicial del medio [K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: velocidad de transferencia de calor [J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calor específico del medio [J/Kg 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: Masa inicial de medio a esterilizar [k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086520" y="2971800"/>
          <a:ext cx="18763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6520" y="2971800"/>
                    <a:ext cx="18763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erfiles de temperatura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762120"/>
            <a:ext cx="8686800" cy="47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misa de calefacción  con fuente isotérmico (Modelo exponen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 = T</a:t>
            </a:r>
            <a:r>
              <a:rPr b="1" lang="es-ES_tradnl" sz="2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( T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T</a:t>
            </a:r>
            <a:r>
              <a:rPr b="1" lang="es-ES_tradnl" sz="2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* e 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(-U*A*t/c*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H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eratura absoluta de la fuente de calor [K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emperatura absoluta inicial del medio [K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lor específico del medio [J/Kg K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: Masa inicial de medio a esterilizar [k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: Coeficiente de transferencia global [J/s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]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Area de transferencia [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486400" y="3338640"/>
          <a:ext cx="2819520" cy="24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338640"/>
                    <a:ext cx="2819520" cy="24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erfiles de temperatura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143000"/>
            <a:ext cx="8763120" cy="71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nfr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misa con fuente no isotérmica y recirculación (Modelo exponenci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 = T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co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( T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– T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co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* exp [(1- e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(-U*A/c*mc)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) m</a:t>
            </a:r>
            <a:r>
              <a:rPr b="1" lang="es-ES_tradnl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*t /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emperatura absoluta de la fuente enfriad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emperatura absoluta inicial del medio [K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lujo másico del refrigerante [kg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lor específico del medio [J/Kg K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: Masa inicial de medio a esterilizar [k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: Coeficiente de transferencia global [J/s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]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Area de transferencia [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791320" y="3276720"/>
          <a:ext cx="2752560" cy="24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276720"/>
                    <a:ext cx="275256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lgoritmo para el diseño del proceso de esterilización batch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objetivo es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terminar el tiempo que debe durar la etapa de manten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ado el tiempo de  las etapas de calentamiento y enfriamiento dependen del proceso de transferencia utilizad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ot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ln (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 perfiles de T v/s tiempo de duración de las et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 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ficar 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/s t, dependiendo del proceso de calentamiento y enfri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r el área de 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/s tiempo para las etapas de calentamiento y enfriamiento. Integración gráfica, algebraica o numérica.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905120" y="5105520"/>
                <a:ext cx="5607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ntenció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ntenció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ntenció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lentamient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friamient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ntenció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39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fermentador contiene 40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5ºC). Dicho fermentador será esterilizado por inyección directa de vapor satur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edio contiene 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bacterias/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y necesita ser reducido a los niveles estándar (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cteria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vapor (345 KPa) puede ser inyectado a un flujo de 5000 [kg/hr] y se detendrá cuando el sistema alcance 122º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nte la mantención la pérdida de calor será despreci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vez producida la esterilización se pasarán 100 [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hr] a 20ºC de agua para enfriar hasta 30ºC. El serpentín tiene un área de 40[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y un coeficiente de transferencia de calor para el enfriamiento de 2500 [kJ/hr 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istencia de las esporas se puede caracterizar por 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es-ES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5.7 10</a:t>
            </a:r>
            <a:r>
              <a:rPr b="1" lang="es-E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e </a:t>
            </a:r>
            <a:r>
              <a:rPr b="1" lang="es-E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( -2.834 105/ RT)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pacidad calórica del medio y la densidad son : 4.187kJ/kg K y 1000 kg/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ntalpía del vapor saturado a 345K ,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resión satur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2731 K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91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ntalpía a 25ºC, H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emp medio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5 K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time el tiempo necesario para realizar una esterilización adecua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alculo de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s-ES_tradnl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otal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08960" y="1981080"/>
            <a:ext cx="381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ot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ln (No/N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429000" y="3124080"/>
                <a:ext cx="41227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[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]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28600"/>
            <a:ext cx="822960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alance de energía en todo el fermentador, que desprecia la acumulación. Se supone que los calores de las corrientes de entrada y salida y son desprecia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+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P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+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Calor de Agi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Pérdida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Calor transferido por el sistema de enfriamiento. Este térmico será significativo en células que crezcan a altas ta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demá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(8-15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) &gt;&gt;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(0.8-2.5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files de calentamiento y Enfri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alentamien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= 298+ 78.4* t /(1+.0125*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122ºC = 395K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t = 1.46 [h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alentamient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4.8 [-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60" y="3809880"/>
            <a:ext cx="708552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Enfriamien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= 39.8 - 102* e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(-0.674*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final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= 30ºC =  303 K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t = 3.45 [h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nfriamient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3.9 [-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990720" y="1523880"/>
                <a:ext cx="761976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ntenció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ntenció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ntenció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lentamient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friamiento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ntenció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600200" y="3581280"/>
                <a:ext cx="639612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ntenció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228600"/>
            <a:ext cx="8077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iseño de sistemas de esterilización continua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de esterilización continua pueden ser de do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yección directa de vapor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n ser más eficientes dado que no hay barreras entre el medio y el vap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523880" y="2590920"/>
          <a:ext cx="57150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90920"/>
                    <a:ext cx="57150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8600" y="2286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iseño de sistemas de esterilización continua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685800"/>
            <a:ext cx="838188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ercambiadores de calor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que deben trabajar a bajas presiones, pero presentan una mayor área de transferencia de c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bo y carca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comiendan cuando se utilizan líquidos viscos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200400" y="1905120"/>
          <a:ext cx="495288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05120"/>
                    <a:ext cx="495288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04920" y="1143000"/>
            <a:ext cx="8381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entajas que presenta la forma de operación continua v/s la batch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n mayor reproduc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n en forma más ráp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n operar a temperaturas más al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fáciles de automat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recuperar el calor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457200"/>
            <a:ext cx="8839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iseño para sistemas de esterilización continu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an ser análoga a la forma batch salvo que se debe diseñar el “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rgo de la zona de esterilización, 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en vez del tiempo de esteri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iempo de retención de una partícula en el esterilizador,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anten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se puede determinar considerando el largo del esterilizador, L y la velocidad promedio a la que se mueven las partículas, ū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mantención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L/ ū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762120"/>
            <a:ext cx="8839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algoritmo de resolución debe considerar que en este tipo de proceso de esterilización los tiempos de calentamiento y enfriamiento son despreciables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alentamiento  continu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nfriamiento  continu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lo cual se cumple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Symbol"/>
                <a:ea typeface="Symbol"/>
              </a:rPr>
              <a:t>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mantención  continuo  =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n (N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N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k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do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e </a:t>
            </a:r>
            <a:r>
              <a:rPr b="1" lang="es-ES_tradnl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(-</a:t>
            </a:r>
            <a:r>
              <a:rPr b="1" lang="es-ES_tradnl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Ed/RT)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*</a:t>
            </a:r>
            <a:r>
              <a:rPr b="1" lang="es-ES_tradnl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mantención 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iempo de manten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mantención   =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n (N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N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/( k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do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e </a:t>
            </a:r>
            <a:r>
              <a:rPr b="1" lang="es-ES_tradnl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(-</a:t>
            </a:r>
            <a:r>
              <a:rPr b="1" lang="es-ES_tradnl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Ed/RT)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largo del esterilizador se puede calcular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 = </a:t>
            </a:r>
            <a:r>
              <a:rPr b="1" lang="es-ES_tradnl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s-ES_tradnl" sz="20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mantención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* 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228600"/>
            <a:ext cx="8839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quiere diseñar el sistema de esterilización para esterilizar un flujo de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m</a:t>
            </a:r>
            <a:r>
              <a:rPr b="0" lang="es-E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h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a esterilización del medio debe realizarse en forma continua durante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seman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os niveles de esterilidad deben ser tales que la probabilidad de contaminación sea de 1 en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tilizará un esterilizador continuo tubular de 10 cm de diámetro para calentar el medio a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5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. Calcule el largo requerido del esteri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inética de muerte está dado por la expres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.7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 ( -2.834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RT) [hr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stante ideal de los gases R,  es igual a 8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44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/K m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nsidad y viscosidad del medio son: 1000 kg/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3.6 kg/m h respectiv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diseño debe considerar el total de m.o que pudieran ingresar al fermentador, durante todo el tiempo de la fer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380880"/>
            <a:ext cx="77724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fecto de di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a desviación del frente de avance del fluido por efectos de la viscosidad, las turbulencias y la fricción con las paredes de la tubería. Esto provoca que se genere un frente de velocidades en el interior de la tubería, lo que conlleva a un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terilización desig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legando a casos extremos en que haya una parte del fluido que no se esterili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905120" y="3124080"/>
          <a:ext cx="5276880" cy="28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124080"/>
                    <a:ext cx="527688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33520" y="838080"/>
            <a:ext cx="7772400" cy="44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considera un modelo dispersión, en la dirección x,  para evaluar esta situación se tien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 Coeficiente de difus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: Velocidad promedio del fluido</a:t>
            </a:r>
            <a:r>
              <a:rPr b="0" lang="es-E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523880" y="2009880"/>
                <a:ext cx="5745240" cy="19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-        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u</m:t>
                                </m:r>
                              </m:e>
                            </m:ba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ifusión        Convección       Muer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Sistemas de enfr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838080"/>
          <a:ext cx="5715000" cy="5370480"/>
        </p:xfrm>
        <a:graphic>
          <a:graphicData uri="http://schemas.openxmlformats.org/drawingml/2006/table">
            <a:tbl>
              <a:tblPr/>
              <a:tblGrid>
                <a:gridCol w="1828800"/>
                <a:gridCol w="3886200"/>
              </a:tblGrid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os y limi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haqu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e utiliza en equipos de tamaño pilo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lto costo y área de transferencia limit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erpentí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ajo costo y gran área de transferencia (pero en algunos casos no alcanza a ser suficien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luvi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y eficaz, se usa en conjunto con los serpentin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ambiador ext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el serpentín no es suficie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mento los costos y peligro de contaminación e insuficiencia de aireació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924520" y="762120"/>
          <a:ext cx="3219480" cy="29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4520" y="762120"/>
                    <a:ext cx="3219480" cy="29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629400" y="3581280"/>
          <a:ext cx="2286000" cy="30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9400" y="3581280"/>
                    <a:ext cx="228600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33520" y="609480"/>
            <a:ext cx="8001000" cy="60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adimensionalizan las variables de la ecuación anteri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’ = N/N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`= x/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 = F/A = Flujo volumétrico / Área Trans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definen los números adimensional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úmero de Pec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 = ū * L /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ferencia de masa convectiv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encia de masa difu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: Largo del esterilizado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fusividad en el sistema, se puede utilizar correlaciones o con  la siguiente gráfica en función del Número de Reynold Modificad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odificado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ū*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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990720" y="3049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rrelación para estimar l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ividad de un sistema, en función del Número de Reynold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523880" y="1066680"/>
          <a:ext cx="5943600" cy="561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066680"/>
                    <a:ext cx="5943600" cy="56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380880" y="2209680"/>
            <a:ext cx="533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715000"/>
            <a:ext cx="3657600" cy="5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 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odificad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ū*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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2895480"/>
            <a:ext cx="1600200" cy="83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ū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0880" y="609480"/>
            <a:ext cx="8458200" cy="49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úmero de Dahmko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=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L/ ū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locidad de reacción (muer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encia de Mas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ituyendo en la ecuación (A) y resolviendo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143000" y="3048120"/>
                <a:ext cx="70912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ξ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0" y="2803680"/>
                <a:ext cx="8568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295280" y="4724280"/>
                <a:ext cx="144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áficamente la ecuación (B) queda de la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809880" y="228600"/>
          <a:ext cx="481824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8600"/>
                    <a:ext cx="481824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1828800" y="6248520"/>
            <a:ext cx="1066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429000" y="2057400"/>
                <a:ext cx="7207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3809880" y="6248520"/>
            <a:ext cx="4876920" cy="4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=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L/ 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05120" y="2286000"/>
            <a:ext cx="1654560" cy="4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 = ū * L /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57200" y="457200"/>
            <a:ext cx="8458200" cy="62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goritmo para determinar el largo, L, de un sistema de esterilización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Calcular el Número de Reynold Modificado (N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odificad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odificado =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ū*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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 la tub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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ū : Densidad, viscosidad y velocidad media del flu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Es base al Número de Reynold Modificado determinar la difusividad  (Dz) en el sistema (usar correlaciones o Figura 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Asumir un largo, L, de esterilización y calcular el Número de Pecler y Número de Dahmko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 En base a la figura B determinar N/No. Grafica de la ecuación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Si cumple con el nivel deseado OK, sino volver a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28600"/>
            <a:ext cx="8229600" cy="68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iseño de equipos de enfr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diseño de equipo de enfriamiento se basan en la ecu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+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P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+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sum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F: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e calcula según la fermentación (aeróbica o anaerób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= 0.1 * 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F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, o se puede desprec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Se puede estimar como las pérdidas de calor por las paredes de un cuerpo cilíndrico, suponiendo que tanto la temperatura interna como externa son constantes. Lu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= h*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*D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*H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* (T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– T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h: Coeficiente de convección [ 10 –25 Kcal/h m</a:t>
            </a:r>
            <a:r>
              <a:rPr b="0" lang="es-E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: Diametro del tanque.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: Altura del líq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: Tª fermentador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: Tª amb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28600"/>
            <a:ext cx="8229600" cy="64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iseño de equipos (cont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Luego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Q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+ Q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– Q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P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1.1*Q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h*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*D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*H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* (T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 – T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n el caso de serpentines, se requiere de un serpentín que utilice generalmente agua como refrigerante. Dicha agua se calienta entre T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y T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. La ecuación de diseñ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U*A</a:t>
            </a:r>
            <a:r>
              <a:rPr b="0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*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U: Coef. Global de transferencia de calor [400-800 Kcal/h m</a:t>
            </a:r>
            <a:r>
              <a:rPr b="0" lang="es-E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º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Area de transferencia de calor del serpentí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T : Temperatura media logarítmica entre (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– T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y (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– T</a:t>
            </a:r>
            <a:r>
              <a:rPr b="0" lang="es-E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28600"/>
            <a:ext cx="8229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iseño de equipos (cont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n fermentadores industriales la remoción de calor puede resultar costo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n fermentadores pequeños, el enfriamiento no es problema, algunas veces hay que adicionar  calor para mantener las condiciones isotérmicas, debido a que las pérdidas se hacen más signific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terilización</a:t>
            </a:r>
            <a:br>
              <a:rPr sz="4400"/>
            </a:br>
            <a:br>
              <a:rPr sz="4400"/>
            </a:br>
            <a:r>
              <a:rPr b="1" lang="es-E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ermenta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4:12:42Z</dcterms:created>
  <dc:creator>Maria Elena Lienqueo C.</dc:creator>
  <dc:description/>
  <dc:language>en-US</dc:language>
  <cp:lastModifiedBy>Ing Quimica</cp:lastModifiedBy>
  <dcterms:modified xsi:type="dcterms:W3CDTF">2006-06-23T21:19:41Z</dcterms:modified>
  <cp:revision>71</cp:revision>
  <dc:subject/>
  <dc:title>Agitacion y Aireación de Fermentadores</dc:title>
</cp:coreProperties>
</file>