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5D4-5B0E-4082-9B13-848B4B55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343-259B-4077-ACA7-43AD659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AAB-322F-459A-8D81-45333298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4D4-1567-45E4-BA06-CE8D569A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F6C-6552-4152-B71B-B64A1D4C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5D8-FA0E-479B-A0AD-8BB57A42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D4C-38B3-434F-A627-95077092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84F-3626-412D-A9CA-73FA25E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2B2-F416-40B7-AE0E-3BF4C51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587-493F-488D-B7FC-40C558D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AA2-D1E7-4869-83CD-C54B4C9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01C-78FB-4DF8-96FC-51FED71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15A-DE91-481B-839D-043D540F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6040" y="531720"/>
          <a:ext cx="85964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0840" y="482760"/>
          <a:ext cx="8609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2760"/>
                    <a:ext cx="8609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31720"/>
          <a:ext cx="8646840" cy="646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31720"/>
                    <a:ext cx="864684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81040"/>
          <a:ext cx="832644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264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46040" y="606600"/>
          <a:ext cx="857268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606600"/>
                    <a:ext cx="857268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222120"/>
          <a:ext cx="857268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22120"/>
                    <a:ext cx="857268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593640"/>
          <a:ext cx="80409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80409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44680"/>
          <a:ext cx="841212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41212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81040" y="469800"/>
          <a:ext cx="842472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69800"/>
                    <a:ext cx="84247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04880" y="506520"/>
          <a:ext cx="8151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151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4120" y="420840"/>
          <a:ext cx="85964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68440"/>
          <a:ext cx="84232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232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3360" y="557280"/>
          <a:ext cx="865980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5980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07880" y="457200"/>
          <a:ext cx="8498160" cy="68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457200"/>
                    <a:ext cx="849816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1720" y="309600"/>
          <a:ext cx="836316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09600"/>
                    <a:ext cx="836316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3:09:49Z</dcterms:created>
  <dc:creator>jalvarez</dc:creator>
  <dc:description/>
  <dc:language>en-US</dc:language>
  <cp:lastModifiedBy>jalvarez</cp:lastModifiedBy>
  <cp:lastPrinted>2005-06-03T20:11:37Z</cp:lastPrinted>
  <dcterms:modified xsi:type="dcterms:W3CDTF">2005-06-06T17:34:59Z</dcterms:modified>
  <cp:revision>7</cp:revision>
  <dc:subject/>
  <dc:title>Sin título de diapositiva</dc:title>
</cp:coreProperties>
</file>