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C20-827D-4F22-82B5-4790EC2E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BA7-A767-4EF9-8A86-9F644AA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AFA-430A-4F0B-BB52-D7EE358C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790-7832-45A5-AE56-CD7FE99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873-4DB6-4A8C-A2B4-EE2117F7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3C6-64F2-43E6-9628-B40AFCB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18A-C0C3-48FA-86C2-B45455C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F91-2EAA-4ED4-BA19-7C43C85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0B5-BADB-4C0B-A375-90FC906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751-4F42-4E82-AE97-D142FC9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6F1-2F80-44CE-B4C1-4CD0D94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183-2552-434A-A5A2-92804C1A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FF36-0CC7-418C-ACB5-23AC122A7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6040" y="531720"/>
          <a:ext cx="85964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0840" y="482760"/>
          <a:ext cx="8609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2760"/>
                    <a:ext cx="8609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31720"/>
          <a:ext cx="8646840" cy="646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31720"/>
                    <a:ext cx="864684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81040"/>
          <a:ext cx="832644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264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46040" y="606600"/>
          <a:ext cx="857268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606600"/>
                    <a:ext cx="857268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222120"/>
          <a:ext cx="857268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2120"/>
                    <a:ext cx="857268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593640"/>
          <a:ext cx="80409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80409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44680"/>
          <a:ext cx="841212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41212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81040" y="469800"/>
          <a:ext cx="84247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69800"/>
                    <a:ext cx="84247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04880" y="506520"/>
          <a:ext cx="8151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151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4120" y="420840"/>
          <a:ext cx="85964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68440"/>
          <a:ext cx="84232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232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3360" y="557280"/>
          <a:ext cx="865980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5980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7880" y="457200"/>
          <a:ext cx="8498160" cy="68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457200"/>
                    <a:ext cx="849816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1720" y="309600"/>
          <a:ext cx="836316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09600"/>
                    <a:ext cx="836316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3:09:49Z</dcterms:created>
  <dc:creator>jalvarez</dc:creator>
  <dc:description/>
  <dc:language>en-US</dc:language>
  <cp:lastModifiedBy>jalvarez</cp:lastModifiedBy>
  <cp:lastPrinted>2005-06-03T20:11:37Z</cp:lastPrinted>
  <dcterms:modified xsi:type="dcterms:W3CDTF">2005-06-06T17:34:59Z</dcterms:modified>
  <cp:revision>7</cp:revision>
  <dc:subject/>
  <dc:title>Sin título de diapositiva</dc:title>
</cp:coreProperties>
</file>