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D6C-1597-4734-9F31-0E598683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EC5-2388-476D-88FF-9C38DFE1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E4E-CB4A-484A-B9A9-3D5EBBAD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8F5-9402-446D-A601-03C41706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B18-C23D-477C-94A5-113722B9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DC4-4E59-4696-BCB8-0E0F8C96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99C-ADB1-45B2-8D72-72C196AE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0A7-A220-45EC-8038-52FA4D92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2A4-A53B-4C9E-A269-91518357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F19-2656-448A-9110-0006E364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EFD-43D3-48FC-B13C-399DD71D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111-DB1C-42D6-B768-F33565D8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3E25-B4D8-4D99-A00C-AD0225C17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31720"/>
          <a:ext cx="864720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720"/>
                    <a:ext cx="864720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1120" y="495360"/>
          <a:ext cx="8028000" cy="78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95360"/>
                    <a:ext cx="8028000" cy="78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28720" y="630360"/>
          <a:ext cx="801540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30360"/>
                    <a:ext cx="80154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03160" y="606600"/>
          <a:ext cx="8053560" cy="508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06600"/>
                    <a:ext cx="8053560" cy="50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495360"/>
          <a:ext cx="81644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95360"/>
                    <a:ext cx="8164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06600"/>
          <a:ext cx="835056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06600"/>
                    <a:ext cx="835056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15840" y="655560"/>
          <a:ext cx="782964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82964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0720" y="608040"/>
          <a:ext cx="8501040" cy="62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608040"/>
                    <a:ext cx="8501040" cy="62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3640" y="630360"/>
          <a:ext cx="833760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30360"/>
                    <a:ext cx="833760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9200" y="581040"/>
          <a:ext cx="8237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237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433440"/>
          <a:ext cx="779292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433440"/>
                    <a:ext cx="779292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581040"/>
          <a:ext cx="8262720" cy="58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81040"/>
                    <a:ext cx="826272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5-06-01T12:47:04Z</cp:lastPrinted>
  <dcterms:modified xsi:type="dcterms:W3CDTF">2005-06-02T13:57:45Z</dcterms:modified>
  <cp:revision>3</cp:revision>
  <dc:subject/>
  <dc:title>Sin título de diapositiva</dc:title>
</cp:coreProperties>
</file>