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F63-D86C-4E92-9110-6D1B888A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2A7-8BAD-4E09-92B6-9C965AF0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39D-6861-4878-9CD9-A29D8761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AAF-D6E5-43EA-BFFC-BA1DCE3D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203-C06E-4F47-8C61-C296BFE4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BE5-D28B-4A5F-B4A0-76B10794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6E4-8622-4EBB-86EA-1D6F4A38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ECE-8B87-499E-8884-B2134C68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FD9-5BEF-4905-9FC1-1E551259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D3A-BC80-46ED-BA4A-36B1F10D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E65-2FD0-41B4-92A4-C0D3A6A9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7DF-5D8E-41FD-8920-CB64BA1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3F5D-4DAB-47D6-9F1C-9003E7449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31720"/>
          <a:ext cx="864720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720"/>
                    <a:ext cx="864720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1120" y="495360"/>
          <a:ext cx="8028000" cy="78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95360"/>
                    <a:ext cx="8028000" cy="78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28720" y="630360"/>
          <a:ext cx="801540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30360"/>
                    <a:ext cx="80154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03160" y="606600"/>
          <a:ext cx="8053560" cy="508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06600"/>
                    <a:ext cx="8053560" cy="50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495360"/>
          <a:ext cx="81644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95360"/>
                    <a:ext cx="8164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06600"/>
          <a:ext cx="835056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06600"/>
                    <a:ext cx="835056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15840" y="655560"/>
          <a:ext cx="782964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82964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0720" y="608040"/>
          <a:ext cx="8501040" cy="62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608040"/>
                    <a:ext cx="8501040" cy="62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3640" y="630360"/>
          <a:ext cx="833760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30360"/>
                    <a:ext cx="833760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9200" y="581040"/>
          <a:ext cx="8237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237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433440"/>
          <a:ext cx="779292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433440"/>
                    <a:ext cx="779292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581040"/>
          <a:ext cx="8262720" cy="58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81040"/>
                    <a:ext cx="826272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5-06-01T12:47:04Z</cp:lastPrinted>
  <dcterms:modified xsi:type="dcterms:W3CDTF">2005-06-02T13:57:45Z</dcterms:modified>
  <cp:revision>3</cp:revision>
  <dc:subject/>
  <dc:title>Sin título de diapositiva</dc:title>
</cp:coreProperties>
</file>