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F6C1-583A-49F7-8CED-165CA1A9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A1F2-B89A-41A1-9C08-0410014F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F825-F04F-4030-86AF-CA561E4B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36BA-2D1E-4B2E-A8AC-8F15947D6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75BB-AB74-4809-BAA7-21560277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1EA6-1CBA-4A9B-9198-8F645F79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D1ED-EC0E-4868-9968-50C2B6FF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2580-4CDE-4D96-89A9-3C67AB9B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B32B-F286-465C-852E-610E4292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66B9-8762-400D-8522-1E51D5E4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BBD5-6000-4428-B04C-9F0EA77F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B6E9-92E2-492F-AB5C-71B7D5C0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E126-C94B-4E18-B01F-EE5A6F5ED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531720"/>
          <a:ext cx="8647200" cy="625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1720"/>
                    <a:ext cx="8647200" cy="62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81120" y="495360"/>
          <a:ext cx="8028000" cy="786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495360"/>
                    <a:ext cx="8028000" cy="78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828720" y="630360"/>
          <a:ext cx="8015400" cy="57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630360"/>
                    <a:ext cx="801540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03160" y="606600"/>
          <a:ext cx="8053560" cy="508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606600"/>
                    <a:ext cx="8053560" cy="50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495360"/>
          <a:ext cx="816444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495360"/>
                    <a:ext cx="81644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68160" y="606600"/>
          <a:ext cx="8350560" cy="58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606600"/>
                    <a:ext cx="8350560" cy="58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15840" y="655560"/>
          <a:ext cx="782964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55560"/>
                    <a:ext cx="782964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50720" y="608040"/>
          <a:ext cx="8501040" cy="620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720" y="608040"/>
                    <a:ext cx="8501040" cy="620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93640" y="630360"/>
          <a:ext cx="833760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630360"/>
                    <a:ext cx="833760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19200" y="581040"/>
          <a:ext cx="823752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581040"/>
                    <a:ext cx="823752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90640" y="433440"/>
          <a:ext cx="779292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433440"/>
                    <a:ext cx="779292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44680" y="581040"/>
          <a:ext cx="8262720" cy="588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81040"/>
                    <a:ext cx="8262720" cy="58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1:23:41Z</dcterms:created>
  <dc:creator>jalvarez</dc:creator>
  <dc:description/>
  <dc:language>en-US</dc:language>
  <cp:lastModifiedBy>jalvarez</cp:lastModifiedBy>
  <cp:lastPrinted>2005-06-01T12:47:04Z</cp:lastPrinted>
  <dcterms:modified xsi:type="dcterms:W3CDTF">2005-06-02T13:57:45Z</dcterms:modified>
  <cp:revision>3</cp:revision>
  <dc:subject/>
  <dc:title>Sin título de diapositiva</dc:title>
</cp:coreProperties>
</file>