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CA6-E50F-40F5-A1A3-30012FDC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3BB-530A-4824-B3D6-2AFE6201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B1D-EF75-4EEE-BA03-E1C44C33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4B9-F440-4BF4-A63C-FBD0140E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B64-D6A9-488B-9A4F-6FB6BFFB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D66-6947-4700-AD88-5BB2F119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17E-2BD6-4F7A-862F-64687092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013-6B77-492F-A2E2-3147679F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E2A-F73B-47E0-9EFA-E339D6E2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B99-E121-47A7-BF80-4BCF81E0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B07-8E29-44A4-9374-D3322C4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987-F896-4218-80ED-16BEFBAA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1D60-1A2A-488F-9E07-A491C3A04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16120" y="668160"/>
          <a:ext cx="80038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68160"/>
                    <a:ext cx="80038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446040"/>
          <a:ext cx="8175600" cy="759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46040"/>
                    <a:ext cx="8175600" cy="75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8440" y="446040"/>
          <a:ext cx="83376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46040"/>
                    <a:ext cx="83376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53172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6520" y="557280"/>
          <a:ext cx="847404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57280"/>
                    <a:ext cx="847404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433440"/>
          <a:ext cx="853596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3596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065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065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93640" y="446040"/>
          <a:ext cx="828828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28828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52560" y="630360"/>
          <a:ext cx="77436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30360"/>
                    <a:ext cx="77436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78040" y="544680"/>
          <a:ext cx="790416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90416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92280" y="568440"/>
          <a:ext cx="8078760" cy="591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68440"/>
                    <a:ext cx="80787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469800"/>
          <a:ext cx="838656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8656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6400" y="506520"/>
          <a:ext cx="847728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506520"/>
                    <a:ext cx="84772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35:53Z</dcterms:created>
  <dc:creator>jalvarez</dc:creator>
  <dc:description/>
  <dc:language>en-US</dc:language>
  <cp:lastModifiedBy>jalvarez</cp:lastModifiedBy>
  <cp:lastPrinted>2005-05-17T20:41:41Z</cp:lastPrinted>
  <dcterms:modified xsi:type="dcterms:W3CDTF">2005-05-17T20:46:17Z</dcterms:modified>
  <cp:revision>3</cp:revision>
  <dc:subject/>
  <dc:title>Sin título de diapositiva</dc:title>
</cp:coreProperties>
</file>