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12F-3A48-4F1E-925F-10EAE8EF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570-A606-4E2D-BD31-19FE6147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32E-71AB-428C-929F-EDAD6FDF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EFC-556E-476E-8BB7-6AEF41D8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3E1-E176-495B-9593-7221C33F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CBE-3982-4622-BC8A-B5075FC4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5E4-8345-456B-8E32-8F4FEB06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59F-534E-46AA-8ECA-2E0A0510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0E2-6DFD-4CF8-9C12-1ADC897F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7D8-C3BE-4CED-B7E6-4206C0CC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905-8F92-4BFC-BB77-94C45544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9BB-8F44-4636-A91E-4191C30A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674D-0B4C-4AB9-A6D5-1DFEAE7BC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16120" y="668160"/>
          <a:ext cx="80038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68160"/>
                    <a:ext cx="80038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446040"/>
          <a:ext cx="8175600" cy="759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75600" cy="75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8440" y="446040"/>
          <a:ext cx="83376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376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6520" y="557280"/>
          <a:ext cx="847404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57280"/>
                    <a:ext cx="847404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52560" y="630360"/>
          <a:ext cx="7743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30360"/>
                    <a:ext cx="7743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469800"/>
          <a:ext cx="838656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6400" y="506520"/>
          <a:ext cx="847728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506520"/>
                    <a:ext cx="84772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5-05-17T20:41:41Z</cp:lastPrinted>
  <dcterms:modified xsi:type="dcterms:W3CDTF">2005-05-17T20:46:17Z</dcterms:modified>
  <cp:revision>3</cp:revision>
  <dc:subject/>
  <dc:title>Sin título de diapositiva</dc:title>
</cp:coreProperties>
</file>