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7BF-B7A1-4414-85D4-EB60CBB1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66F-A99D-485B-83FF-ECCA1B32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EA8-E422-408E-AD57-E3D5BAA9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E53-2CE1-47C9-A1D9-48BA1973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998-16BE-4058-86AD-341571E4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196-1439-4767-9B47-E789B8DF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18A-C722-4A75-944B-A66DB505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45C-CEB1-4CD7-A893-091F800D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10B-5755-48D0-B72A-8F2FC1E4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4CC-79EC-481E-8B61-20939A6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D03-8448-4BFD-92AB-6335881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78E-5EF5-4D62-9E7A-3FF3155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BD0B-1FEF-4BB1-9970-A063040F8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681120"/>
          <a:ext cx="8512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81120"/>
                    <a:ext cx="8512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4848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4848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7280" y="557280"/>
          <a:ext cx="841068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1068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68440"/>
          <a:ext cx="828828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9120" y="619200"/>
          <a:ext cx="853596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19200"/>
                    <a:ext cx="853596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7880" y="668160"/>
          <a:ext cx="859788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9788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55560" y="568440"/>
          <a:ext cx="828828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544680"/>
          <a:ext cx="8721720" cy="65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4680"/>
                    <a:ext cx="8721720" cy="65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8720" y="630360"/>
          <a:ext cx="78930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78930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0360" y="606600"/>
          <a:ext cx="80168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06600"/>
                    <a:ext cx="80168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42960"/>
          <a:ext cx="832464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32464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81120"/>
          <a:ext cx="78548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78548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5-05-13T18:29:46Z</cp:lastPrinted>
  <dcterms:modified xsi:type="dcterms:W3CDTF">2005-05-16T17:13:05Z</dcterms:modified>
  <cp:revision>8</cp:revision>
  <dc:subject/>
  <dc:title>Sin título de diapositiva</dc:title>
</cp:coreProperties>
</file>