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885-C411-45E5-9B16-E68DE12C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EE1-C733-47C3-991C-ADD20BB1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4E5-C497-4FA1-8935-5B120242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73B-4642-404A-8B81-BF2DD76F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0DE-05E9-4D9D-8E77-01142F69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44E-7A3C-428A-B4A6-695A80F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871-0509-4430-99E8-BC18BD75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A20-EF2B-4CE7-80EA-00534F09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EDF-EC99-49F3-9360-A167C69D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D65-38D3-468C-AA43-11554D58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3CB-4CD9-4477-A6EA-64A84DAC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69C-8B7A-49C8-95B8-001526B1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90B3-4C3A-4B2B-A89A-B6B208F95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78040" y="642960"/>
          <a:ext cx="758340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42960"/>
                    <a:ext cx="758340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6520" y="681120"/>
          <a:ext cx="85122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81120"/>
                    <a:ext cx="85122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3440" y="519120"/>
          <a:ext cx="859644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19120"/>
                    <a:ext cx="859644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82760" y="619200"/>
          <a:ext cx="844848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19200"/>
                    <a:ext cx="844848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7280" y="557280"/>
          <a:ext cx="841068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1068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55560" y="568440"/>
          <a:ext cx="828828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68440"/>
                    <a:ext cx="828828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9120" y="619200"/>
          <a:ext cx="853596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19200"/>
                    <a:ext cx="853596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7880" y="668160"/>
          <a:ext cx="8597880" cy="57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68160"/>
                    <a:ext cx="859788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55560" y="568440"/>
          <a:ext cx="828828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68440"/>
                    <a:ext cx="828828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5280" y="544680"/>
          <a:ext cx="8721720" cy="65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4680"/>
                    <a:ext cx="8721720" cy="65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28720" y="630360"/>
          <a:ext cx="78930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30360"/>
                    <a:ext cx="78930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30360" y="606600"/>
          <a:ext cx="80168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06600"/>
                    <a:ext cx="80168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1120" y="655560"/>
          <a:ext cx="82249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55560"/>
                    <a:ext cx="82249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53920" y="482760"/>
          <a:ext cx="7805880" cy="62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82760"/>
                    <a:ext cx="7805880" cy="62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1720" y="482760"/>
          <a:ext cx="8474040" cy="65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82760"/>
                    <a:ext cx="8474040" cy="65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6600" y="642960"/>
          <a:ext cx="8324640" cy="57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32464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81120"/>
          <a:ext cx="8040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8040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4200" y="681120"/>
          <a:ext cx="785484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78548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5-05-13T18:29:46Z</cp:lastPrinted>
  <dcterms:modified xsi:type="dcterms:W3CDTF">2005-05-16T17:13:05Z</dcterms:modified>
  <cp:revision>8</cp:revision>
  <dc:subject/>
  <dc:title>Sin título de diapositiva</dc:title>
</cp:coreProperties>
</file>