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D87-8DDF-47E2-8AC1-C9BBB006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DD4-E028-4ACB-B43C-5EFCB237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D81-5B25-4755-B877-D11FA5BF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45A-036C-42EA-AE31-6961E822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09A-6052-40ED-BB4E-993427F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F72-E297-46A2-8E0D-FF39C55B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1B1-0B91-4C9E-AC88-DC9E235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576-4089-408D-B1F1-FC47ACC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077-121C-4651-A85B-BEDC398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00A-EDB2-4DF7-9778-78DE38F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253-EE5F-4077-B62A-F5CE2A2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8B8-0432-46EC-A26D-D7D7389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115B-A2AB-42F1-9FB0-EE5D5FC2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681120"/>
          <a:ext cx="8512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81120"/>
                    <a:ext cx="8512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4848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4848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7280" y="557280"/>
          <a:ext cx="8410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10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68440"/>
          <a:ext cx="828828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9120" y="619200"/>
          <a:ext cx="853596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19200"/>
                    <a:ext cx="853596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7880" y="668160"/>
          <a:ext cx="859788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978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55560" y="568440"/>
          <a:ext cx="828828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544680"/>
          <a:ext cx="8721720" cy="65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4680"/>
                    <a:ext cx="8721720" cy="65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8720" y="630360"/>
          <a:ext cx="78930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78930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0360" y="606600"/>
          <a:ext cx="80168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80168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42960"/>
          <a:ext cx="832464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32464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81120"/>
          <a:ext cx="78548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78548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5-05-13T18:29:46Z</cp:lastPrinted>
  <dcterms:modified xsi:type="dcterms:W3CDTF">2005-05-16T17:13:05Z</dcterms:modified>
  <cp:revision>8</cp:revision>
  <dc:subject/>
  <dc:title>Sin título de diapositiva</dc:title>
</cp:coreProperties>
</file>